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C054-6D54-4C38-A286-042C76D7D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2F14-8DEF-4B0E-87E3-63B723B1B2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569E-E64B-4327-8ECA-0B6D71A50D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126D17-A6FA-4136-A8F2-365E41D57F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ED5042-E8E8-4905-9557-5AFFF5D5C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A8A827-7285-48DF-AFFD-71D3117703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FE49B-875E-4C34-935E-CEC9D85E77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B0D89-6A91-4751-9A60-8444F45E00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0D7B5F-53CB-4B5C-ABDB-B28E75BB0A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85B092-089F-46FD-8173-A7025E0646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CF9484-94A1-4547-91BB-9B485ED051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E3BE87-DD58-458D-8C2B-125FCF046F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626E91-4CA1-4294-8EB5-05D2FCDEC8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43FFC4-63BA-4672-98EE-D608AFC107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4E7EEE-BCDB-4E15-83A3-4701D04573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B9ECE-51E1-4159-A49D-6C5080659D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4B75AB-4ED7-4827-A158-1BEC04944C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2A0B48-7F3D-4129-BA33-ACD8374A58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E675F-D372-41DD-BB61-53800816E3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B530F6-B27A-4B77-AEE9-BBCDB6685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772DF9-5EBB-4B1F-8E74-790754D938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B27EAE-596B-4DBB-803F-9F63C55DDE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FEDF55-E330-47F8-A928-0FC1099B2C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600B20-C267-406B-9897-3FCA2D9AA5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87CC39-1E81-41D1-B103-4670AA869A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B0E97E-624E-4E09-8697-06B89F3492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888F94-2239-41B1-B07C-F428B7BDDC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DE6991-6B66-4B3E-8B17-0FBD8E5746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B1B44C-A74A-49EF-A10A-6848441C30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D28FA8-3F8E-4087-8221-25342C09EB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4EA51-D86C-4E80-9BB7-C6958C4863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DEBA01-6A49-408D-8EA5-21FC1DC4A6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3F91BD-AD75-45E9-8CC4-9BCDF45FFA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DF8FC-3CEC-4BE1-8BCE-7DFA3BF1A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1F87B6-E0E5-47DA-9B18-DFB0BFCC16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A2826D-E666-48AC-A3E7-EBB8D65078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FFACE0-7FA9-492B-A9D7-23717913B9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F92181-8851-44F3-BBE9-6405325DFC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AE0B06-DDA6-45F5-BE0A-A4AAD618F3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A13A0A-5E94-4B1E-96E0-BF0ECAE611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36ECB9-62CF-4A05-A016-D1855FE354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DE9A58-F9A9-48D2-97F0-E956D42332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7D35FA-ADCC-4FF7-B2BB-1C41FE626C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9570A6-E374-4604-AD40-1AFECFEC50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DD953-AE4C-47C8-B634-05B01A5B0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DC309C-C3B0-4C6F-9C00-B95EFACF18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0687A4-57B9-4BA8-8E6C-20197A37AD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A51370B-33D9-456E-B3A2-C6784F70D1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F890B2-C6A2-467F-863F-46B7A2291C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61774A0-E4FC-4C3B-ACE3-01EA7673AA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68874-C867-46F3-BA02-1CB219EDA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E1950-45D3-4C16-8545-ABC5F1A36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D5A84-E9AE-4DB4-9AE5-8C4B216E7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4AFA0-30D9-4352-9A37-44A4FE300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7A24F-1A9D-4AF1-9CDF-0F9C2C1B4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1070E-5790-4DBD-89DB-10BB405F6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3F97E-8A04-4F05-9742-54F031A74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5C3E7-84DA-4BE5-80A8-7FE954E18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88F98-54E3-4D21-804C-CA48E6626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1570B-E6CD-4A24-825C-06170A1A5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19004-AFF3-4DC1-B62B-3708C991B6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6D354-6174-4737-809E-D51229268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F58A31-9ECD-4F7E-9879-D4E9AEDEE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6BD21-90A3-4401-8E34-77D7154DE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007B7-0A8F-49AF-80AE-33B0073790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4F837-D674-451B-983F-D69A22482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422EA-8D93-4515-BD0D-9F98DA9A8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A3B67-2E09-486D-B762-83CC73D68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929A3-7365-4893-9769-43360D83F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86FCA-9FBF-40CF-9DCA-71AB47EC77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C2871-4887-44CD-9CBA-3B6D7094C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C51A69-262C-4C3C-B6E2-FF9F0F1D41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8EC005-BF9D-45D5-9E2B-167E2E339C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FB31E2-867C-4635-9CE1-85250BC51B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77F8B3-CE60-4BDB-83D1-97C1FBE02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603EB-5FF6-4FEB-B1C3-575C66F277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6577CC-73B0-4317-9E9F-E398A9E1D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CBE09-9A48-4B6B-B3AF-FF2F67C469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2E050-B7FB-4A06-BD1E-5115E0D9E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E753F-D295-4BF7-948D-95984AFF0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F8C84-D779-497C-8BBD-1C8833875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FBE495-D308-48A5-88DA-E5C895B14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C50318-DBB4-4C16-BE52-7E431ADC22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BDC608-3E3F-472B-BCA0-BBEE92F3A5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48510E-F5B8-4011-AF97-FB66E25AA6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FD362-9DD5-425A-81ED-8C2533A48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D707B-9260-4D1A-A5D2-E1AAE4658D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270A16-86E3-48FB-B5B0-3CF0E033D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4BBE0-987F-48AF-B730-7363421812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B3312C-1F3F-40FF-955C-F67A398BFF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18A2B-BE01-47E3-8237-A0ED73385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D0647-0591-4A2D-A17E-51A7A474B3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0F572-EB18-447C-A41D-0EDCE926E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74ED4E-16D9-4354-8F64-F180C34981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5FD240-1215-456D-BDC0-B1E2BFCA9C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B08D6A-70ED-4A43-BEB5-A61F1A80DF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84B86A-C6DA-47EB-A0E6-62332D739C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5D261-B218-45B7-9046-DEDC03C8B5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74685C-BADF-4E36-BEBD-085E00A444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556D5-E969-416A-BBC5-5B3CC20EA2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E940D6-42AC-4FF0-BBB0-68DFABA68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AFC0B9-9414-43EB-8648-6B4DD440DE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8CCAFD-0CA8-449D-AAA6-7679B9A0F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2A2CAC-F81D-4B35-AF44-359682A7B6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38041-2EDB-43FE-8047-03DAA5ED8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356634-62E6-4700-B94B-F779127C5F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A819D0-5FBB-4B87-B179-CDE056E50A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7CBF0A-396B-49B8-BACC-92AC363DF8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473B95-686E-4073-A622-8DD832D118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75A176-75E8-4275-BC32-FBBBDA5FC4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EC46F5-9087-48B0-8775-E0058E1118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A94198-EFC3-49E1-BDC6-9BBE356753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643ECB-5BCA-4F67-A75F-64F2BD58DD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6222A-871F-48AC-8A6F-373E47F11C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8E50D-C4BA-412A-8F24-36E0F6C87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F8A87C-DC19-4A83-B70A-E587BE5B4D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A21617-BE53-45A8-AC4D-C560EDC87C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9B65C7-E004-4DC5-ACF1-61912E109D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65B2C1-35FA-4FD7-B209-5E463DD7E6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173941-CA52-426B-A295-A45471F1C3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4F6B80-666F-427C-AC2C-2132F23B4D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5B54A7-8A84-420F-8419-9D8B2E376F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75B311-9FC3-441B-89AF-C804BFA243EE}"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F4D1-0A3C-48EB-941C-43DD018C0C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D030-F991-44ED-9C0F-D090DC6191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3836F-5C7C-427B-A913-C6AE4DD352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38455-8D44-46A8-8397-378FBFA9BB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6"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FC19-9DD5-41DD-803C-BB7864D2E4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A318-BAE6-4DFA-A82D-EDE7CF1DDA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F4ED-622D-43A8-8537-4D025556064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27B7-74C3-4ACC-A65C-4CACB3C3BA7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0C200-36E1-413B-BE3C-D95EC3D49C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lusion Style-E</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64E9-AF99-4312-9AA0-507710DC224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230480"/>
            <a:ext cx="7619760" cy="417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n Inclusion Sty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Inclusion Style-E you would see learners with varying degrees of skill proficiency participate in the same task by selecting a level of difficulty that is appropriate to their performance. Each learner surveys the available levels in the task, selects an entry point, practices the task, if necessary makes an adjustment in the task level, and checks performance against the criteri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style the teacher selects the memory/reproduction task, including the possible levels in the tasks, the criteria sheets for each level, and the logistical decisions.</a:t>
            </a:r>
            <a:endParaRPr b="0" lang="en-US" sz="1600" spc="-1" strike="noStrike">
              <a:solidFill>
                <a:srgbClr val="000000"/>
              </a:solidFill>
              <a:latin typeface="Calibri"/>
            </a:endParaRPr>
          </a:p>
        </p:txBody>
      </p:sp>
      <p:pic>
        <p:nvPicPr>
          <p:cNvPr id="522" name="Picture 2" descr=""/>
          <p:cNvPicPr/>
          <p:nvPr/>
        </p:nvPicPr>
        <p:blipFill>
          <a:blip r:embed="rId1"/>
          <a:stretch/>
        </p:blipFill>
        <p:spPr>
          <a:xfrm>
            <a:off x="762120" y="1828800"/>
            <a:ext cx="7584840" cy="1066680"/>
          </a:xfrm>
          <a:prstGeom prst="rect">
            <a:avLst/>
          </a:prstGeom>
          <a:ln w="0">
            <a:noFill/>
          </a:ln>
        </p:spPr>
      </p:pic>
      <p:sp>
        <p:nvSpPr>
          <p:cNvPr id="523" name="TextBox 2"/>
          <p:cNvSpPr/>
          <p:nvPr/>
        </p:nvSpPr>
        <p:spPr>
          <a:xfrm>
            <a:off x="1981080" y="190008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Inclusion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5743440"/>
            <a:ext cx="237960" cy="228600"/>
          </a:xfrm>
          <a:prstGeom prst="rect">
            <a:avLst/>
          </a:prstGeom>
          <a:ln w="0">
            <a:noFill/>
          </a:ln>
        </p:spPr>
      </p:pic>
      <p:sp>
        <p:nvSpPr>
          <p:cNvPr id="525" name="TextBox 3"/>
          <p:cNvSpPr/>
          <p:nvPr/>
        </p:nvSpPr>
        <p:spPr>
          <a:xfrm>
            <a:off x="1219320" y="5662440"/>
            <a:ext cx="7010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eaching Styles A-E  engage the learners in practicing  tasks that rely on reproduction cognitive operations. The content in these styles may be new to the learner, a review, a practice or a test of previously experienced con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Box 1"/>
          <p:cNvSpPr/>
          <p:nvPr/>
        </p:nvSpPr>
        <p:spPr>
          <a:xfrm>
            <a:off x="762120" y="1230480"/>
            <a:ext cx="7619760" cy="320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n Inclusion Style (cont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the students are engaged in the task, the teacher circulates among the students to acknowledge the choices the students have made and to ask questions for clarification to affirm the accuracy of the students' assessment process and/or to redirects the learner's focus to specific performance details on the criteria The teacher does not suggest level changes.</a:t>
            </a:r>
            <a:endParaRPr b="0" lang="en-US" sz="1600" spc="-1" strike="noStrike">
              <a:solidFill>
                <a:srgbClr val="000000"/>
              </a:solidFill>
              <a:latin typeface="Calibri"/>
            </a:endParaRPr>
          </a:p>
        </p:txBody>
      </p:sp>
      <p:pic>
        <p:nvPicPr>
          <p:cNvPr id="527" name="Picture 2" descr=""/>
          <p:cNvPicPr/>
          <p:nvPr/>
        </p:nvPicPr>
        <p:blipFill>
          <a:blip r:embed="rId1"/>
          <a:stretch/>
        </p:blipFill>
        <p:spPr>
          <a:xfrm>
            <a:off x="762120" y="1828800"/>
            <a:ext cx="7584840" cy="1066680"/>
          </a:xfrm>
          <a:prstGeom prst="rect">
            <a:avLst/>
          </a:prstGeom>
          <a:ln w="0">
            <a:noFill/>
          </a:ln>
        </p:spPr>
      </p:pic>
      <p:sp>
        <p:nvSpPr>
          <p:cNvPr id="528" name="TextBox 2"/>
          <p:cNvSpPr/>
          <p:nvPr/>
        </p:nvSpPr>
        <p:spPr>
          <a:xfrm>
            <a:off x="1981080" y="190008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Inclusion Style?</a:t>
            </a:r>
            <a:endParaRPr b="0" lang="en-US" sz="1800" spc="-1" strike="noStrike">
              <a:solidFill>
                <a:srgbClr val="000000"/>
              </a:solidFill>
              <a:latin typeface="Calibri"/>
            </a:endParaRPr>
          </a:p>
        </p:txBody>
      </p:sp>
      <p:pic>
        <p:nvPicPr>
          <p:cNvPr id="529" name="Picture 3" descr=""/>
          <p:cNvPicPr/>
          <p:nvPr/>
        </p:nvPicPr>
        <p:blipFill>
          <a:blip r:embed="rId2"/>
          <a:stretch/>
        </p:blipFill>
        <p:spPr>
          <a:xfrm>
            <a:off x="914400" y="5743440"/>
            <a:ext cx="237960" cy="228600"/>
          </a:xfrm>
          <a:prstGeom prst="rect">
            <a:avLst/>
          </a:prstGeom>
          <a:ln w="0">
            <a:noFill/>
          </a:ln>
        </p:spPr>
      </p:pic>
      <p:sp>
        <p:nvSpPr>
          <p:cNvPr id="530" name="TextBox 3"/>
          <p:cNvSpPr/>
          <p:nvPr/>
        </p:nvSpPr>
        <p:spPr>
          <a:xfrm>
            <a:off x="1219320" y="5662440"/>
            <a:ext cx="701028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eaching Styles A-E  engage the learners in practicing  tasks that rely on reproduction cognitive operations. The content in these styles may be new to the learner, a review, a practice or a test of previously experienced con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
          <p:cNvPicPr/>
          <p:nvPr/>
        </p:nvPicPr>
        <p:blipFill>
          <a:blip r:embed="rId1"/>
          <a:stretch/>
        </p:blipFill>
        <p:spPr>
          <a:xfrm>
            <a:off x="0" y="990720"/>
            <a:ext cx="9144000" cy="60120"/>
          </a:xfrm>
          <a:prstGeom prst="rect">
            <a:avLst/>
          </a:prstGeom>
          <a:ln w="0">
            <a:noFill/>
          </a:ln>
        </p:spPr>
      </p:pic>
      <p:sp>
        <p:nvSpPr>
          <p:cNvPr id="532" name="TextBox 6"/>
          <p:cNvSpPr/>
          <p:nvPr/>
        </p:nvSpPr>
        <p:spPr>
          <a:xfrm>
            <a:off x="762120" y="1405080"/>
            <a:ext cx="7619760" cy="21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earning focus of the Inclusion Style is to provide opportunities for continued participation of all learners in the selected task, regardless of their varied skill levels. Tasks in Style E are designed with varying levels of skill difficulty so that learners can survey the options and select an entry level of difficulty.  Learners may make adjustment decisions in their task level. Additionally, learners check their performance against the prepared criteria. </a:t>
            </a:r>
            <a:endParaRPr b="0" lang="en-US" sz="1600" spc="-1" strike="noStrike">
              <a:solidFill>
                <a:srgbClr val="000000"/>
              </a:solidFill>
              <a:latin typeface="Calibri"/>
            </a:endParaRPr>
          </a:p>
        </p:txBody>
      </p:sp>
      <p:pic>
        <p:nvPicPr>
          <p:cNvPr id="533" name="Picture 3" descr=""/>
          <p:cNvPicPr/>
          <p:nvPr/>
        </p:nvPicPr>
        <p:blipFill>
          <a:blip r:embed="rId2"/>
          <a:stretch/>
        </p:blipFill>
        <p:spPr>
          <a:xfrm>
            <a:off x="776160" y="4133880"/>
            <a:ext cx="7591680" cy="1428840"/>
          </a:xfrm>
          <a:prstGeom prst="rect">
            <a:avLst/>
          </a:prstGeom>
          <a:ln w="0">
            <a:noFill/>
          </a:ln>
        </p:spPr>
      </p:pic>
      <p:pic>
        <p:nvPicPr>
          <p:cNvPr id="534" name="Picture 3" descr=""/>
          <p:cNvPicPr/>
          <p:nvPr/>
        </p:nvPicPr>
        <p:blipFill>
          <a:blip r:embed="rId3"/>
          <a:stretch/>
        </p:blipFill>
        <p:spPr>
          <a:xfrm>
            <a:off x="905040" y="5854680"/>
            <a:ext cx="237960" cy="228600"/>
          </a:xfrm>
          <a:prstGeom prst="rect">
            <a:avLst/>
          </a:prstGeom>
          <a:ln w="0">
            <a:noFill/>
          </a:ln>
        </p:spPr>
      </p:pic>
      <p:sp>
        <p:nvSpPr>
          <p:cNvPr id="535" name="TextBox 5"/>
          <p:cNvSpPr/>
          <p:nvPr/>
        </p:nvSpPr>
        <p:spPr>
          <a:xfrm>
            <a:off x="1219320" y="572436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ll subject matters are applicable to each and every T-L style. Physical examples are used to more clearly convey the concept of each sty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6" descr="C:\Users\Drew\Desktop\arrow.jpg"/>
          <p:cNvPicPr/>
          <p:nvPr/>
        </p:nvPicPr>
        <p:blipFill>
          <a:blip r:embed="rId1"/>
          <a:stretch/>
        </p:blipFill>
        <p:spPr>
          <a:xfrm>
            <a:off x="4152960" y="4610160"/>
            <a:ext cx="762120" cy="190440"/>
          </a:xfrm>
          <a:prstGeom prst="rect">
            <a:avLst/>
          </a:prstGeom>
          <a:ln w="0">
            <a:noFill/>
          </a:ln>
        </p:spPr>
      </p:pic>
      <p:pic>
        <p:nvPicPr>
          <p:cNvPr id="537" name="Picture 2" descr=""/>
          <p:cNvPicPr/>
          <p:nvPr/>
        </p:nvPicPr>
        <p:blipFill>
          <a:blip r:embed="rId2"/>
          <a:stretch/>
        </p:blipFill>
        <p:spPr>
          <a:xfrm>
            <a:off x="0" y="990720"/>
            <a:ext cx="9144000" cy="60120"/>
          </a:xfrm>
          <a:prstGeom prst="rect">
            <a:avLst/>
          </a:prstGeom>
          <a:ln w="0">
            <a:noFill/>
          </a:ln>
        </p:spPr>
      </p:pic>
      <p:sp>
        <p:nvSpPr>
          <p:cNvPr id="538" name="TextBox 6"/>
          <p:cNvSpPr/>
          <p:nvPr/>
        </p:nvSpPr>
        <p:spPr>
          <a:xfrm>
            <a:off x="762120" y="144792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tomy of the Inclusion style, the role of the teacher is to make all subject matter decisions, including the possible levels in the tasks, and the logistical decisions. The role of the learners is to survey the available levels in the task, select an entry point, practice the task, if necessary make an adjustment in the task level, and check performance against the criteria.</a:t>
            </a:r>
            <a:endParaRPr b="0" lang="en-US" sz="1800" spc="-1" strike="noStrike">
              <a:solidFill>
                <a:srgbClr val="000000"/>
              </a:solidFill>
              <a:latin typeface="Calibri"/>
            </a:endParaRPr>
          </a:p>
        </p:txBody>
      </p:sp>
      <p:pic>
        <p:nvPicPr>
          <p:cNvPr id="539" name="Picture 6" descr="C:\Users\Drew\Desktop\arrow.jpg"/>
          <p:cNvPicPr/>
          <p:nvPr/>
        </p:nvPicPr>
        <p:blipFill>
          <a:blip r:embed="rId3"/>
          <a:stretch/>
        </p:blipFill>
        <p:spPr>
          <a:xfrm>
            <a:off x="4160880" y="5143680"/>
            <a:ext cx="762120" cy="190440"/>
          </a:xfrm>
          <a:prstGeom prst="rect">
            <a:avLst/>
          </a:prstGeom>
          <a:ln w="0">
            <a:noFill/>
          </a:ln>
        </p:spPr>
      </p:pic>
      <p:sp>
        <p:nvSpPr>
          <p:cNvPr id="540" name="TextBox 1"/>
          <p:cNvSpPr/>
          <p:nvPr/>
        </p:nvSpPr>
        <p:spPr>
          <a:xfrm>
            <a:off x="2859120" y="396252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41" name="TextBox 2"/>
          <p:cNvSpPr/>
          <p:nvPr/>
        </p:nvSpPr>
        <p:spPr>
          <a:xfrm>
            <a:off x="3530520" y="422100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42" name="TextBox 8"/>
          <p:cNvSpPr/>
          <p:nvPr/>
        </p:nvSpPr>
        <p:spPr>
          <a:xfrm>
            <a:off x="3048120" y="4797360"/>
            <a:ext cx="1295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43" name="TextBox 9"/>
          <p:cNvSpPr/>
          <p:nvPr/>
        </p:nvSpPr>
        <p:spPr>
          <a:xfrm>
            <a:off x="2679840" y="5324400"/>
            <a:ext cx="16635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44" name="TextBox 1"/>
          <p:cNvSpPr/>
          <p:nvPr/>
        </p:nvSpPr>
        <p:spPr>
          <a:xfrm>
            <a:off x="4756320" y="3962520"/>
            <a:ext cx="10555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p:txBody>
      </p:sp>
      <p:pic>
        <p:nvPicPr>
          <p:cNvPr id="545" name="Picture 3" descr=""/>
          <p:cNvPicPr/>
          <p:nvPr/>
        </p:nvPicPr>
        <p:blipFill>
          <a:blip r:embed="rId4"/>
          <a:stretch/>
        </p:blipFill>
        <p:spPr>
          <a:xfrm>
            <a:off x="905040" y="6051600"/>
            <a:ext cx="237960" cy="228600"/>
          </a:xfrm>
          <a:prstGeom prst="rect">
            <a:avLst/>
          </a:prstGeom>
          <a:ln w="0">
            <a:noFill/>
          </a:ln>
        </p:spPr>
      </p:pic>
      <p:sp>
        <p:nvSpPr>
          <p:cNvPr id="546" name="TextBox 12"/>
          <p:cNvSpPr/>
          <p:nvPr/>
        </p:nvSpPr>
        <p:spPr>
          <a:xfrm>
            <a:off x="1143000" y="6019920"/>
            <a:ext cx="7162920" cy="29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757575"/>
                </a:solidFill>
                <a:latin typeface="Arial"/>
              </a:rPr>
              <a:t>*The arrows represent the decision shifts from the Self-Check Style-D to the Inclusion Style-E.</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2"/>
          <p:cNvSpPr/>
          <p:nvPr/>
        </p:nvSpPr>
        <p:spPr>
          <a:xfrm>
            <a:off x="762120" y="1495440"/>
            <a:ext cx="7543800" cy="429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Inclusion style, the role of the teacher is to make all subject matter decisions, including the various levels of difficulty in the task, the criteria sheets for each level, and the logistical decisions. The role of the learners is to survey the available levels of difficulty in the task, select an entry point, practice the task, if necessary make an adjustment in the difficulty of the task level, and check performance against the criteria.</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the students are engaged in the task, the teacher circulates among the students to acknowledge the choices the students have made and to ask questions for clarification to affirm the accuracy of the students' assessment process and/or to redirect the learner's focus to specific performance details on the criteria. The teacher does not suggest level changes.</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style no one is excluded and each learner is offered the opportunity for continued particip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Box 2"/>
          <p:cNvSpPr/>
          <p:nvPr/>
        </p:nvSpPr>
        <p:spPr>
          <a:xfrm>
            <a:off x="762120" y="1676520"/>
            <a:ext cx="75438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clusion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ign a range of options that provide varying content entry points for all learners in the same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commodate individual performance difference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crease content acquisition by providing opportunities for continued participatio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ffer opportunities for content adjustment decision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crease the quality of active time-on-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inforce the assessment sequence proces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Box 2"/>
          <p:cNvSpPr/>
          <p:nvPr/>
        </p:nvSpPr>
        <p:spPr>
          <a:xfrm>
            <a:off x="762120" y="1447920"/>
            <a:ext cx="7543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nclusion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erience making a decision about an entry point into a task by choosing an initial level of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actice self-evaluation skills using a performance criterio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erience making adjustment decisions that maintain continued content participatio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cept the reality of individual differences in performance abilitie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learn to deal with congruity or discrepancy between one's aspiration and the reality of one's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actice the skills intrinsic to self-reli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actice honesty in appropriate level selection and honesty in self-evaluatio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Institute for Teaching and Learning</dc:creator>
  <dc:description>©Spectrum Institute for Teaching and Learning</dc:description>
  <dc:language>en-US</dc:language>
  <cp:lastModifiedBy>Bernardo Gomez</cp:lastModifiedBy>
  <dcterms:modified xsi:type="dcterms:W3CDTF">2014-04-15T15:13:45Z</dcterms:modified>
  <cp:revision>15</cp:revision>
  <dc:subject>Spectrum of Teaching Styles</dc:subject>
  <dc:title>Inclusion Style-E</dc:title>
</cp:coreProperties>
</file>