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2D61-F9E5-411E-BEBE-4361337E8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B812-92CC-4B17-8127-7611C7B44B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0BF1-5246-4430-BE74-B7DA9F8EB8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969709-7468-4D98-BB73-360F61859E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05188-7145-45BF-B67C-1B01253B59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D54A52-40FE-463F-B163-F7743FDD7B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5A809C-FC33-46EE-B79F-D1A27AE9C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6A22D-5EDC-4B52-91E4-5E86CD90F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7B6E68-52BC-4131-A004-ED54C72A31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5BC702-C235-4CC5-917D-AE4E90E091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AB751A9-F7F6-40F6-9915-DBC3D698C00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CABFF3-C107-4C4C-A77F-FA656C791F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C705A2-CB75-43B7-8A32-6CC8FA0E14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90528F-62C6-4066-A849-926522D191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F6BCF7-F581-449E-9680-8E0AC98B31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9BC164-EE17-4DA8-9ADA-F782F1469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429EA-2190-47C5-A765-895318B709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21B5E0-A026-4666-8503-EEE539757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8AC59-B070-4E06-A57C-08F236074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38C135-EC7A-4CFE-8D4F-13494825EE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2B7F2-E9B1-406B-B51A-327CB3C4E0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977B7E-FF04-4589-BD58-BEAA5E7534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BD8944-185E-4A1F-85DC-ACACB42332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EA84EA-7AF8-4E99-BC98-743F142C54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55DD1E-DACE-4A9F-9B20-F878CBEB79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B637DC-070B-462B-821B-3D796F67A1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64F856-075C-4F3F-8016-C4508AE72D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F9E091-1443-4F10-A5B6-82D155C3F9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F21897-7CFB-49AB-94FF-FF23E1FA32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FCF756-4729-4635-8728-317B67710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364B98-168C-4D6E-8214-C96C4A5D71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611D2-E025-46E4-A54C-6A2D3260D5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AA429-168A-403F-8D3E-000D80AD08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1876E-9AF8-4850-8DC7-E02FCFF57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3723F8-84E3-416A-BCC9-5C2835E74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70D4F0-AA66-40E9-8B1E-3D0CAEB858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F2DF97-04CB-4720-A599-072489FF1B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26BBBD6-DA02-42DA-AABC-B4111B30BDB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9221FE6-9C69-4D09-8EFC-BA3DE7D318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ADFA55-89A6-4A66-8400-5204F391ABA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3660BA-B401-4D4C-9971-FA69A383C1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9E4D52-897A-4BCB-822F-C26E00C050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EA8CD9-5070-4E18-942C-D66CC182E5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8DB0B72-CC6B-451C-AF06-71757E77FC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2A8BC-6C25-46D5-A423-162268BB5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E374CE-C6A2-4B7C-BC1C-1A877F23F3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9C9725-798F-46A8-BE11-C2634DD480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1FDDB4-185F-4505-8E4B-AD63BBEF0B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A41F4F-E11F-4166-AA06-0EAF582ACD6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7C4640-19F5-4435-8DEF-D1C5AD0A43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2CF4E-5916-4150-B70D-212211D35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9F9DF-10CB-4CB8-8F72-709211B81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8A32D-E9C7-428E-BB7F-F75E59380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3A50F-93F0-44A2-B0CE-043EE882A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9BC79-029B-499F-8771-E4F2D0E1B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661AB-903F-4D63-A894-E1D8DAA60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B11E-606D-4510-BE6B-2C410E326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C9D65-5CD9-4209-BA5E-DD084798F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AC9BD-FBE2-4676-A22F-8F443D8E8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4F932-7533-4D41-98EE-17911FE60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E4D934-E37C-435D-BF65-94AFB2774D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7BC431-B0D6-4DFF-B203-E88B58B97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34539-4A69-42FB-8497-9990B629E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AAE14F-0795-4F39-81C9-56B334012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AAC06-8595-4501-ADD2-2B1408765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50021-7D0A-4862-89A6-D0E44F6FD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1CF02-5B94-4ECF-9779-39E9666BD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202BD-9815-41ED-B946-0544DF148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389C7-1A00-4E0C-829A-787B719A2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555E1-AB0F-49BE-84AE-97197A498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C90C7-9944-49A1-A981-58BE660B0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9F9A1-EA32-4BC0-A923-B20EE252B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78E39F-AE2B-4327-AA5C-5F72567DB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91A64-D508-45B0-8A78-7953DCC86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E1E45-585E-482B-9E56-FD60361A6F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727F6-44DF-4F62-A7C4-8651D1F29E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68E3FC-0071-4B2F-9F30-880C5D49A5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CD178B-28F1-48D7-95D8-A5885DDA87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C2576-8D73-4FC4-AFB3-902288AC4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92F12-55C5-42B0-96DA-EAFD516C23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02AC4-9962-4D37-B81D-ED8E3641EE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0CCEEB-A65F-4F2C-B5B4-64F5CC336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F8A3A3-E148-48BD-8D72-87BFADDE10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354F02-F5E1-4AFD-A342-34EAE13078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C6E63A-65E2-4794-B3D5-ACBA084DDC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A09E6-285A-4AD7-8CE1-87D805C409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8D9571-B177-4B4B-8C4D-956C26C41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62F604-0325-4003-A7EA-CC6A13B787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0B0A6C-FF9F-48AE-9405-B94E041429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594734-37C8-4A77-8154-B15CB44D49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2DC01-3695-48D0-95E5-84B94FE21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41F7BB-8185-46C4-A82A-6A495FF5F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CAE532-F2CB-4AA5-A78C-D44E1A91C1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B6048D-3CE8-4271-9B47-37EDC68A8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BE7ED4-2003-4933-99C7-E10C03609C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FED57A-4CC8-4694-8BDD-45461F6F6B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9B898-FE5F-4CA7-9DDC-B12A1FF6D7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DE438-9B81-4B08-93EB-A3B754FD8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2E264C-D008-4332-9115-A3A71BCC88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C0517C-477B-430E-85EE-3080A60621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EFAC6D-D80A-4572-814B-C30EE6E9F6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3FA50-AFB4-4F0A-93F8-4D9FDF763B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5A39BC-7E42-491E-A97F-53929F851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AA9E4-EA17-4590-B0A3-5543C2455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4A3DD-DD7B-41FA-B715-EC72DAF54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E9E59A-C974-441C-B6B7-250EF6E2B6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C81D69-0C54-4A1F-ABAC-5D628FD1AF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51A914-7A4D-479F-A342-AE5C96B6C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A431FC-AC59-4737-A0D0-99CDF52867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6BA397-727C-4CA9-AA8B-CF9D3AB17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24310-CA31-4F3D-BC0D-ACF3E77F44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0849E-4E27-486F-93E3-909474870A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744A82-86BC-4F2A-A9DB-D0AF7F58A3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BDD3A5-48A0-4DC3-B1DC-0E700FC4A2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DA282-C067-47A3-B38F-88522C10E1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227E9-8093-41CD-812D-0DD87D839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B44FB-7B3F-4A4A-AF8E-C5F7BDC92C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629789-1B7D-4012-996E-D299DADA8A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ACEB69-9D7A-412C-9FD3-D7CFB2DDA3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363469-A3A5-4258-841F-5162ABB975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8AA2F2-5713-4A94-B43E-1829194AAC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399CE-1868-4094-86D6-7199389FF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042D4-2BD0-49F9-824D-5129FE5AA8E8}"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0454-6CEA-4FF6-9D83-41A1F2C848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3643-DD5E-4460-84D2-1710853EBA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858D-72FF-4D58-AFEF-A14D592D3F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ABA89-B629-40F4-A77B-42927CEF05A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F7C6-F6AC-46A2-BEEE-E36E45E151E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60786-CA4A-42A7-A77E-C25D99A7AE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0D23-7FFE-4F74-A98A-6A2D744D26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54BB-F789-4895-A93D-886DEBF32CF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839BE-BD46-4CF6-A85F-B10953D937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iprocal Style-C</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5C4F-BA89-4F91-B084-965A6772AB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371600"/>
            <a:ext cx="7619760" cy="40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Reciprocal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 the Reciprocal Style you would see students working in a partner relationship with each partner engaged in different roles (different decisions and expectations). One partner (the doer) practices the task, while the other partner (the observer) uses a teacher-prepared criteria (checklist) to offer immediate and on-going feedback about the performance to the doer. When the first set of tasks is finished, the students switch roles and continue to the second set of tasks. The teacher interacts with the observer to affirm the use of the criteria and the accuracy of the feedback comments and/or to redirect the observer’s focus to specific performance details on the criteria.</a:t>
            </a:r>
            <a:endParaRPr b="0" lang="en-US" sz="17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Reciprocal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1"/>
          <p:cNvSpPr/>
          <p:nvPr/>
        </p:nvSpPr>
        <p:spPr>
          <a:xfrm>
            <a:off x="762120" y="1371600"/>
            <a:ext cx="76197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Reciprocal Style (cont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perience offers practice in giving and receiving immediate feedback about a task and practice in developing comparing, contrasting, communication, and social skills such as patience, tolerance, and accepting of individual differences.</a:t>
            </a:r>
            <a:endParaRPr b="0" lang="en-US" sz="1800" spc="-1" strike="noStrike">
              <a:solidFill>
                <a:srgbClr val="000000"/>
              </a:solidFill>
              <a:latin typeface="Calibri"/>
            </a:endParaRPr>
          </a:p>
        </p:txBody>
      </p:sp>
      <p:pic>
        <p:nvPicPr>
          <p:cNvPr id="527" name="Picture 2" descr=""/>
          <p:cNvPicPr/>
          <p:nvPr/>
        </p:nvPicPr>
        <p:blipFill>
          <a:blip r:embed="rId1"/>
          <a:stretch/>
        </p:blipFill>
        <p:spPr>
          <a:xfrm>
            <a:off x="762120" y="1828800"/>
            <a:ext cx="7584840" cy="1066680"/>
          </a:xfrm>
          <a:prstGeom prst="rect">
            <a:avLst/>
          </a:prstGeom>
          <a:ln w="0">
            <a:noFill/>
          </a:ln>
        </p:spPr>
      </p:pic>
      <p:sp>
        <p:nvSpPr>
          <p:cNvPr id="528"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Reciprocal Style?</a:t>
            </a:r>
            <a:endParaRPr b="0" lang="en-US" sz="1800" spc="-1" strike="noStrike">
              <a:solidFill>
                <a:srgbClr val="000000"/>
              </a:solidFill>
              <a:latin typeface="Calibri"/>
            </a:endParaRPr>
          </a:p>
        </p:txBody>
      </p:sp>
      <p:pic>
        <p:nvPicPr>
          <p:cNvPr id="529" name="Picture 3" descr=""/>
          <p:cNvPicPr/>
          <p:nvPr/>
        </p:nvPicPr>
        <p:blipFill>
          <a:blip r:embed="rId2"/>
          <a:stretch/>
        </p:blipFill>
        <p:spPr>
          <a:xfrm>
            <a:off x="914400" y="5743440"/>
            <a:ext cx="237960" cy="228600"/>
          </a:xfrm>
          <a:prstGeom prst="rect">
            <a:avLst/>
          </a:prstGeom>
          <a:ln w="0">
            <a:noFill/>
          </a:ln>
        </p:spPr>
      </p:pic>
      <p:sp>
        <p:nvSpPr>
          <p:cNvPr id="530" name="TextBox 3"/>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0" y="990720"/>
            <a:ext cx="9144000" cy="60120"/>
          </a:xfrm>
          <a:prstGeom prst="rect">
            <a:avLst/>
          </a:prstGeom>
          <a:ln w="0">
            <a:noFill/>
          </a:ln>
        </p:spPr>
      </p:pic>
      <p:sp>
        <p:nvSpPr>
          <p:cNvPr id="532"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Reciprocal Style is to develop a social interaction that reinforces the giving and receiving of immediate feedback that is guided by specific teacher prepared criteria.</a:t>
            </a:r>
            <a:endParaRPr b="0" lang="en-US" sz="1800" spc="-1" strike="noStrike">
              <a:solidFill>
                <a:srgbClr val="000000"/>
              </a:solidFill>
              <a:latin typeface="Calibri"/>
            </a:endParaRPr>
          </a:p>
        </p:txBody>
      </p:sp>
      <p:pic>
        <p:nvPicPr>
          <p:cNvPr id="533" name="Picture 3" descr=""/>
          <p:cNvPicPr/>
          <p:nvPr/>
        </p:nvPicPr>
        <p:blipFill>
          <a:blip r:embed="rId2"/>
          <a:stretch/>
        </p:blipFill>
        <p:spPr>
          <a:xfrm>
            <a:off x="776160" y="3886200"/>
            <a:ext cx="7591680" cy="1428840"/>
          </a:xfrm>
          <a:prstGeom prst="rect">
            <a:avLst/>
          </a:prstGeom>
          <a:ln w="0">
            <a:noFill/>
          </a:ln>
        </p:spPr>
      </p:pic>
      <p:pic>
        <p:nvPicPr>
          <p:cNvPr id="534" name="Picture 3" descr=""/>
          <p:cNvPicPr/>
          <p:nvPr/>
        </p:nvPicPr>
        <p:blipFill>
          <a:blip r:embed="rId3"/>
          <a:stretch/>
        </p:blipFill>
        <p:spPr>
          <a:xfrm>
            <a:off x="905040" y="5791320"/>
            <a:ext cx="237960" cy="228600"/>
          </a:xfrm>
          <a:prstGeom prst="rect">
            <a:avLst/>
          </a:prstGeom>
          <a:ln w="0">
            <a:noFill/>
          </a:ln>
        </p:spPr>
      </p:pic>
      <p:sp>
        <p:nvSpPr>
          <p:cNvPr id="535" name="TextBox 5"/>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Segments within all subject matters are appropriate for each and every T-L style. Physical examples have been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2" descr=""/>
          <p:cNvPicPr/>
          <p:nvPr/>
        </p:nvPicPr>
        <p:blipFill>
          <a:blip r:embed="rId1"/>
          <a:stretch/>
        </p:blipFill>
        <p:spPr>
          <a:xfrm>
            <a:off x="0" y="990720"/>
            <a:ext cx="9144000" cy="60120"/>
          </a:xfrm>
          <a:prstGeom prst="rect">
            <a:avLst/>
          </a:prstGeom>
          <a:ln w="0">
            <a:noFill/>
          </a:ln>
        </p:spPr>
      </p:pic>
      <p:sp>
        <p:nvSpPr>
          <p:cNvPr id="537" name="TextBox 6"/>
          <p:cNvSpPr/>
          <p:nvPr/>
        </p:nvSpPr>
        <p:spPr>
          <a:xfrm>
            <a:off x="762120" y="1295280"/>
            <a:ext cx="7543800" cy="25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anatomy of the Reciprocal Style, the role of the teacher is to make all subject matter, criteria, and logistical decisions and to provide feedback to the observer. The learners’ role is to work in partnership relationships. One learner is the doer who performs the task, making the nine decisions of the Practice style, while the other learner is the observer who offers immediate and on-going feedback to the doer, using a criteria sheet designed by the teacher. At the end of the first practice, the doer and the observer switch roles—hence the name for this landmark behavior—The Reciprocal Style.</a:t>
            </a:r>
            <a:endParaRPr b="0" lang="en-US" sz="1600" spc="-1" strike="noStrike">
              <a:solidFill>
                <a:srgbClr val="000000"/>
              </a:solidFill>
              <a:latin typeface="Calibri"/>
            </a:endParaRPr>
          </a:p>
        </p:txBody>
      </p:sp>
      <p:pic>
        <p:nvPicPr>
          <p:cNvPr id="538" name="Picture 6" descr="C:\Users\Drew\Desktop\arrow.jpg"/>
          <p:cNvPicPr/>
          <p:nvPr/>
        </p:nvPicPr>
        <p:blipFill>
          <a:blip r:embed="rId2"/>
          <a:stretch/>
        </p:blipFill>
        <p:spPr>
          <a:xfrm>
            <a:off x="4160880" y="5327640"/>
            <a:ext cx="762120" cy="190440"/>
          </a:xfrm>
          <a:prstGeom prst="rect">
            <a:avLst/>
          </a:prstGeom>
          <a:ln w="0">
            <a:noFill/>
          </a:ln>
        </p:spPr>
      </p:pic>
      <p:sp>
        <p:nvSpPr>
          <p:cNvPr id="539" name="TextBox 1"/>
          <p:cNvSpPr/>
          <p:nvPr/>
        </p:nvSpPr>
        <p:spPr>
          <a:xfrm>
            <a:off x="2859120" y="411480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40" name="TextBox 2"/>
          <p:cNvSpPr/>
          <p:nvPr/>
        </p:nvSpPr>
        <p:spPr>
          <a:xfrm>
            <a:off x="3530520" y="437364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41" name="TextBox 8"/>
          <p:cNvSpPr/>
          <p:nvPr/>
        </p:nvSpPr>
        <p:spPr>
          <a:xfrm>
            <a:off x="3048120" y="495000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42" name="TextBox 9"/>
          <p:cNvSpPr/>
          <p:nvPr/>
        </p:nvSpPr>
        <p:spPr>
          <a:xfrm>
            <a:off x="2679840" y="547704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43" name="TextBox 1"/>
          <p:cNvSpPr/>
          <p:nvPr/>
        </p:nvSpPr>
        <p:spPr>
          <a:xfrm>
            <a:off x="4791960" y="4114800"/>
            <a:ext cx="1598040" cy="154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r>
              <a:rPr b="1" lang="en-US" sz="1800" spc="-1" strike="noStrike" baseline="-25000">
                <a:solidFill>
                  <a:srgbClr val="6f4141"/>
                </a:solidFill>
                <a:latin typeface="Arial"/>
              </a:rPr>
              <a:t>Do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r>
              <a:rPr b="1" lang="en-US" sz="1800" spc="-1" strike="noStrike" baseline="-25000">
                <a:solidFill>
                  <a:srgbClr val="6f4141"/>
                </a:solidFill>
                <a:latin typeface="Arial"/>
              </a:rPr>
              <a:t>Observer</a:t>
            </a:r>
            <a:endParaRPr b="0" lang="en-US" sz="1800" spc="-1" strike="noStrike">
              <a:solidFill>
                <a:srgbClr val="000000"/>
              </a:solidFill>
              <a:latin typeface="Calibri"/>
            </a:endParaRPr>
          </a:p>
        </p:txBody>
      </p:sp>
      <p:pic>
        <p:nvPicPr>
          <p:cNvPr id="544" name="Picture 3" descr=""/>
          <p:cNvPicPr/>
          <p:nvPr/>
        </p:nvPicPr>
        <p:blipFill>
          <a:blip r:embed="rId3"/>
          <a:stretch/>
        </p:blipFill>
        <p:spPr>
          <a:xfrm>
            <a:off x="905040" y="6051600"/>
            <a:ext cx="237960" cy="228600"/>
          </a:xfrm>
          <a:prstGeom prst="rect">
            <a:avLst/>
          </a:prstGeom>
          <a:ln w="0">
            <a:noFill/>
          </a:ln>
        </p:spPr>
      </p:pic>
      <p:sp>
        <p:nvSpPr>
          <p:cNvPr id="545" name="TextBox 12"/>
          <p:cNvSpPr/>
          <p:nvPr/>
        </p:nvSpPr>
        <p:spPr>
          <a:xfrm>
            <a:off x="1143000" y="6019920"/>
            <a:ext cx="7010280" cy="29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57575"/>
                </a:solidFill>
                <a:latin typeface="Arial"/>
              </a:rPr>
              <a:t>The arrow represents the decision shift from the Practice Style-B to the Reciprocal Style-C.</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Reciprocal Style, the teacher’s role is to make all subject matter, criteria, and logistical decisions and to provide feedback to the observers. The learners’ role is to work in a partner relationship. One learner is the doer who performs the task, making the nine decisions of the Practice Style, while the other learner is the observer who offers immediate and on-going feedback to the doer, using a criteria sheet designed by the teacher. At the end of the first practice set, the doer and the observer switch roles, hence the name for this landmark style. Doer 1 becomes observer 2 and observer 1 becomes doer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2"/>
          <p:cNvSpPr/>
          <p:nvPr/>
        </p:nvSpPr>
        <p:spPr>
          <a:xfrm>
            <a:off x="762120" y="1676520"/>
            <a:ext cx="75438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Reciprocal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ternalize the specifics of the subject matter by having repeated chances to practice with a designated observer</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sualize the steps, sequence, or details involved in a given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earn to use subject matter criteria to compare, contrast, and assess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identifying and correcting errors immediatel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a task without the teacher</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Box 2"/>
          <p:cNvSpPr/>
          <p:nvPr/>
        </p:nvSpPr>
        <p:spPr>
          <a:xfrm>
            <a:off x="762120" y="1447920"/>
            <a:ext cx="7543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Practice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communication skills (verbal behavior) that enhance a reciprocal relationship</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and socialization and interaction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earn to give and receive feedback from pe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social bonds that go beyond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ust interacting/socializing with oth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erience the rewards (feelings) of seeing one's peer succe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patience, tolerance, and acceptance of others' differences in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empath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earn social mann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Institute for Teaching and Learning</dc:creator>
  <dc:description>©Spectrum Institute for Teaching and Learning</dc:description>
  <dc:language>en-US</dc:language>
  <cp:lastModifiedBy>Bernardo Gomez</cp:lastModifiedBy>
  <dcterms:modified xsi:type="dcterms:W3CDTF">2014-03-19T20:34:07Z</dcterms:modified>
  <cp:revision>23</cp:revision>
  <dc:subject>Spectrum of Teaching Styles</dc:subject>
  <dc:title>Reciprocal Style-C</dc:title>
</cp:coreProperties>
</file>