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B481-C2DD-400A-BE33-484479B347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499C-FAFA-4394-AD44-9C42EFBAA0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377D-6A44-43C1-B584-EB15ED49AD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490698-BED7-448A-9CA8-1FA0085FA5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1A4344-4865-4AF6-8B8E-F8A4C10422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8FD12D-7F04-4EDF-8B9B-A0FB096B79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2D6086-8B5F-499C-8E4C-AD63BF59CF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243B57-B2C2-402D-B56A-580547ACBF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ED69C9-6EEF-4A0F-A7A5-1BB8A0206D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722620-A59D-4E55-9C42-D365D2B80F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CA8822-BD5F-4650-B731-23A9F84540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6A8ACA-D277-47F3-A625-F7528D8F86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E13320-409B-4B84-88DB-F55614B509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9E9607-2B2A-4819-BA97-0D22EB7B24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D73AAD-C039-4324-8642-F193856DD0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DC371A-E064-44C2-B21E-E84C62E742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00971F-49DE-4F91-B53A-61632CDD72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F564E6-D4E4-480A-A352-55CD8A1207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11FA7F-C038-47A6-A8F1-1EB1EDFEE1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FC1894-BCF4-4ED9-A22B-2D72D36F75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4FC07C-8BE9-4FB7-8A18-EDF4FCF393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2D3545-4DC4-4FBE-8B5E-90D454F61E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97DA1C-9F61-414A-907E-EF5FBF9437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4D786D-77A0-4195-BC3E-56232A2CCC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8126B1-E3CB-49F6-A5BE-6D416C7ECD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ACBAEA-F8B1-4B0F-B762-C6DAD6F74BC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678ACD-0850-4325-AD28-DCE3C8C04A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8901BB-FB12-4FAC-82D2-AA80E59C12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737E38-C31E-4190-94DA-2521FF1B4D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E00D71-7BDD-4C0E-BCEF-297FB43DEE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47D7FA-8718-4DAF-95D3-81102CCC68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9E2546-692B-4F54-A2A1-8A85F64256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83E93E-F512-4014-8C65-B15838A8E7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74559-7BE8-4CEF-B7B0-42164AB80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649E7A-193D-4780-B246-EB1B68CB34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55C703-8795-4FA1-B322-7CAECA94B2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69A7CA-FB74-4808-BD4D-351D730461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699CC8-34E4-42DD-A345-8F774DC68F2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E86115-8D93-416A-ACE9-DADC9B46F5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CD8EFD-B72B-43D2-AA73-5A66CFA11AF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E3F60C-9E7F-4BDD-BED6-1DE34B5875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0DA513-0682-4E1A-A963-4B01527FF7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144608-7ABD-44A2-8AD3-27D95E3860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B344A7-731D-4D6C-AD79-13ADB6847A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35A84-CD59-44C7-9B06-834B3C5A8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732BBA-E97F-45CF-9B71-D7AAB1460F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A13767-3093-4FA7-8059-BF9DFBB413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5700B8-5BA6-42F4-A454-68F2B37633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EFCD291-FBE1-4B31-BF7E-F633060C30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3973CC-E753-42D6-9494-3196F45075F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975FD-6F7E-44B4-BACF-BCF2BF2B6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CB1C5-B183-4457-B4B6-8A12F6C3B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212CE-4699-468B-A421-09441E6C8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833E5-7CB0-45BC-9EE8-720065895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63B5E-3749-4996-90A6-9EC35B9F8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A5623-FF59-463C-9CBD-F4BE9F3E7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E7F4E-7909-4CB0-BF6A-3316416E2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4E63D-06C2-449E-90D3-9A441E3AA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9735B-4DD3-4BD5-AE1B-5229F144C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8E5B2-DA33-4B98-9A73-D1B39CCEF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693B43-D05D-4CBB-98F3-35E763A26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7EA43-FE3E-4166-80DA-BA7DC0755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9D661-59DF-4D8C-94E8-0FDE1D022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C23E23-7A96-42A0-A7CC-CAFFF063E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46D4F-AB7C-45C3-A649-36B1B9FBC8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7CDC29-13CA-4353-8309-D0BAA11CCA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E239A-1DD1-4C02-8A79-464239F05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63049-75DB-4F20-94FE-BFF5AE7AB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3D7F5-78C7-4520-8958-D2517A569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D78FE-7946-4975-A791-F121002B6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68D87-2BCE-4938-BB86-5ACF399D9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1634CB-8716-426D-924E-4588EFF400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2244BD-27C7-4B71-B6BE-7A2DEDA271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1B3553-6B4B-45EA-A82C-F5832B7963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658F2-8EE8-4BA4-9A42-E45904D824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32FB34-54A6-4216-91AC-C65775F5F8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42F51C-C892-45D3-A678-0F9952CD32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2CDC66-10B4-471C-8E08-9E8CAD421C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84D6B-2363-43E0-B0C2-6CBC816CD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5EC6B-679C-4B42-93A3-1D4B040C0B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D7265-4A5C-4DC7-8A32-BF7F8CAE9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6C98A-3343-4913-BD31-F955382BF9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60A4AF-AAFC-4FAC-A9A8-A528DF20AF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38B105-BEA6-4B6A-81EC-6F49602BD9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1C8D5F-84D5-407F-9E24-C92CE02591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FC98DF-9729-4489-AC6D-089AC56FE6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5C84FA-5CD3-4143-B602-27652A1CD1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4EA4DD-6E49-41DE-8653-A59B653AEE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9A0548-EDD3-42A8-92D5-29ABB8C01E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C67279-4210-48B6-AE4E-BE991548E9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74B675-ADD1-4F02-BFEE-1D5DDBF1E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DA9345-B47D-4474-9603-2C69863735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319977-A4C8-422C-BA88-93C8CC3B8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80CB32-CEA4-4E7F-89F4-409DA047EE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85D2EC-2AF5-4F5D-92C3-1855B3200A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DDD39D-ECE8-404E-923D-EE42E77B085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8FB1DE-4575-4CB2-84D8-807ED67A31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BC4171-412E-43E0-B1D8-A09CB8E789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B49CC0-9916-4E97-ACEB-BE1A9623FD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BD0158-B42C-4293-AD26-A126B54DA1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F79FF9-469F-4203-91C8-EB9C40501A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0FF3AF-F929-4ADC-B864-41237FBE52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847B7E-21AC-4912-AE06-06FA5C51E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AE4CE2-3A5B-48D0-8CFB-9C3529CCE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5AF678-0346-4CA5-8A1B-293C6D3757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B04A11-8F67-4445-ADC5-6365923CDB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948B51-D0B8-41B8-85C3-C3C34F4BAA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46A94C-22EE-4B8B-9BE7-B6ED65FEE7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1850DD-0405-4B86-9955-42A8D651AE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4178DA-156B-4D3B-8C41-A66F5086FB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9C5950-3537-452B-AE21-1C87388AC0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852419-7366-41D7-BA98-240DAE2068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59ED4C-05A8-44F3-8596-B8F34F03F9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A27476-D434-4550-8BBA-DC0A3E1635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FE602A-A95C-41C8-B1AD-484EACD43B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6F4400-0895-410D-9ED1-F2CEBC978A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CA3E92-1267-497E-A0FF-6F43C133B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8CE66A-60C8-4062-828B-8FC8359956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EAA422-B318-4118-A1D5-F640CBE468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543A42-D788-4A6B-995C-98AAFDE786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A55D56-BC07-45C3-8EAD-2CB969FB97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268B36-EF30-43BF-B8CD-E050C6448C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575EA9-77D1-460F-8F60-811BE8783ADC}"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heck Style-D</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heck Style-D</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AD48-1EFD-4553-984A-223A4FD154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heck Style-D</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64F6-9955-4675-B77B-F5BD4F47B1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heck Style-D</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2EAA-0776-423E-AF27-34F22E1939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heck Style-D</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7C7D-EF51-48CB-8BB8-6D2BF06E1DE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heck Style-D</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6"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heck Style-D</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CEEC-0022-4850-AB47-8C9AC3CE8D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heck Style-D</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136B-A38E-4B10-995C-C2683D75D7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heck Style-D</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EC57-6EAE-4B1C-BD72-0ED1FBBC1D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heck Style-D</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1036-DE93-42EB-8172-1947C866DD1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heck Style-D</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4007-9E71-40DD-BD66-604F63EC4A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Check Style-D</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644B-118F-4DC4-91C6-33CB6F01E5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Box 1"/>
          <p:cNvSpPr/>
          <p:nvPr/>
        </p:nvSpPr>
        <p:spPr>
          <a:xfrm>
            <a:off x="762120" y="1295280"/>
            <a:ext cx="76197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 Self-Check Sty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elf-Check Style you would see the teacher selecting the memory/reproduction subject matter tasks and designing the criteria (performance checklist) for the students. The students individually practice the tasks and check their own performance using the checklist. The teacher privately communicates with students to listen to their self-assessment comments and either reinforces the learner’s use of the criteria or redirects the learner’s focus to specific performance details on the criteria.</a:t>
            </a:r>
            <a:endParaRPr b="0" lang="en-US" sz="1800" spc="-1" strike="noStrike">
              <a:solidFill>
                <a:srgbClr val="000000"/>
              </a:solidFill>
              <a:latin typeface="Calibri"/>
            </a:endParaRPr>
          </a:p>
        </p:txBody>
      </p:sp>
      <p:pic>
        <p:nvPicPr>
          <p:cNvPr id="522" name="Picture 2" descr=""/>
          <p:cNvPicPr/>
          <p:nvPr/>
        </p:nvPicPr>
        <p:blipFill>
          <a:blip r:embed="rId1"/>
          <a:stretch/>
        </p:blipFill>
        <p:spPr>
          <a:xfrm>
            <a:off x="762120" y="1981080"/>
            <a:ext cx="7584840" cy="1067040"/>
          </a:xfrm>
          <a:prstGeom prst="rect">
            <a:avLst/>
          </a:prstGeom>
          <a:ln w="0">
            <a:noFill/>
          </a:ln>
        </p:spPr>
      </p:pic>
      <p:sp>
        <p:nvSpPr>
          <p:cNvPr id="523" name="TextBox 2"/>
          <p:cNvSpPr/>
          <p:nvPr/>
        </p:nvSpPr>
        <p:spPr>
          <a:xfrm>
            <a:off x="1981080" y="205272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Self-Check Style?</a:t>
            </a:r>
            <a:endParaRPr b="0" lang="en-US" sz="1800" spc="-1" strike="noStrike">
              <a:solidFill>
                <a:srgbClr val="000000"/>
              </a:solidFill>
              <a:latin typeface="Calibri"/>
            </a:endParaRPr>
          </a:p>
        </p:txBody>
      </p:sp>
      <p:pic>
        <p:nvPicPr>
          <p:cNvPr id="524" name="Picture 3" descr=""/>
          <p:cNvPicPr/>
          <p:nvPr/>
        </p:nvPicPr>
        <p:blipFill>
          <a:blip r:embed="rId2"/>
          <a:stretch/>
        </p:blipFill>
        <p:spPr>
          <a:xfrm>
            <a:off x="914400" y="5743440"/>
            <a:ext cx="237960" cy="228600"/>
          </a:xfrm>
          <a:prstGeom prst="rect">
            <a:avLst/>
          </a:prstGeom>
          <a:ln w="0">
            <a:noFill/>
          </a:ln>
        </p:spPr>
      </p:pic>
      <p:sp>
        <p:nvSpPr>
          <p:cNvPr id="525" name="TextBox 3"/>
          <p:cNvSpPr/>
          <p:nvPr/>
        </p:nvSpPr>
        <p:spPr>
          <a:xfrm>
            <a:off x="1219320" y="5662440"/>
            <a:ext cx="70102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eaching Styles A-E  engage the learners in practicing  tasks that rely on reproduction cognitive operations. The content in these styles may be new to the learner, a review, a practice or a test of previously experienced conte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0" y="990720"/>
            <a:ext cx="9144000" cy="60120"/>
          </a:xfrm>
          <a:prstGeom prst="rect">
            <a:avLst/>
          </a:prstGeom>
          <a:ln w="0">
            <a:noFill/>
          </a:ln>
        </p:spPr>
      </p:pic>
      <p:sp>
        <p:nvSpPr>
          <p:cNvPr id="527" name="TextBox 6"/>
          <p:cNvSpPr/>
          <p:nvPr/>
        </p:nvSpPr>
        <p:spPr>
          <a:xfrm>
            <a:off x="762120" y="1676520"/>
            <a:ext cx="7619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rning focus of the Self-Check Style is to develop independent practice of a memory/reproduction task and engage in self-assessment that is guided by established criteria.</a:t>
            </a:r>
            <a:endParaRPr b="0" lang="en-US" sz="1800" spc="-1" strike="noStrike">
              <a:solidFill>
                <a:srgbClr val="000000"/>
              </a:solidFill>
              <a:latin typeface="Calibri"/>
            </a:endParaRPr>
          </a:p>
        </p:txBody>
      </p:sp>
      <p:pic>
        <p:nvPicPr>
          <p:cNvPr id="528" name="Picture 3" descr=""/>
          <p:cNvPicPr/>
          <p:nvPr/>
        </p:nvPicPr>
        <p:blipFill>
          <a:blip r:embed="rId2"/>
          <a:stretch/>
        </p:blipFill>
        <p:spPr>
          <a:xfrm>
            <a:off x="776160" y="3657600"/>
            <a:ext cx="7591680" cy="1428840"/>
          </a:xfrm>
          <a:prstGeom prst="rect">
            <a:avLst/>
          </a:prstGeom>
          <a:ln w="0">
            <a:noFill/>
          </a:ln>
        </p:spPr>
      </p:pic>
      <p:pic>
        <p:nvPicPr>
          <p:cNvPr id="529" name="Picture 3" descr=""/>
          <p:cNvPicPr/>
          <p:nvPr/>
        </p:nvPicPr>
        <p:blipFill>
          <a:blip r:embed="rId3"/>
          <a:stretch/>
        </p:blipFill>
        <p:spPr>
          <a:xfrm>
            <a:off x="905040" y="5791320"/>
            <a:ext cx="237960" cy="228600"/>
          </a:xfrm>
          <a:prstGeom prst="rect">
            <a:avLst/>
          </a:prstGeom>
          <a:ln w="0">
            <a:noFill/>
          </a:ln>
        </p:spPr>
      </p:pic>
      <p:sp>
        <p:nvSpPr>
          <p:cNvPr id="530" name="TextBox 5"/>
          <p:cNvSpPr/>
          <p:nvPr/>
        </p:nvSpPr>
        <p:spPr>
          <a:xfrm>
            <a:off x="1219320" y="566244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ll subject matters are applicable to each and every T-L style. Physical examples are used to more clearly convey the concept of each sty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2" descr=""/>
          <p:cNvPicPr/>
          <p:nvPr/>
        </p:nvPicPr>
        <p:blipFill>
          <a:blip r:embed="rId1"/>
          <a:stretch/>
        </p:blipFill>
        <p:spPr>
          <a:xfrm>
            <a:off x="0" y="990720"/>
            <a:ext cx="9144000" cy="60120"/>
          </a:xfrm>
          <a:prstGeom prst="rect">
            <a:avLst/>
          </a:prstGeom>
          <a:ln w="0">
            <a:noFill/>
          </a:ln>
        </p:spPr>
      </p:pic>
      <p:sp>
        <p:nvSpPr>
          <p:cNvPr id="532" name="TextBox 6"/>
          <p:cNvSpPr/>
          <p:nvPr/>
        </p:nvSpPr>
        <p:spPr>
          <a:xfrm>
            <a:off x="762120" y="167652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natomy of the Self-Check Style, the role of the teacher is to make all subject matter, criteria, and logistical decisions. The role of the learners is to work independently and to check their own performances against the criteria prepared by the teacher.</a:t>
            </a:r>
            <a:endParaRPr b="0" lang="en-US" sz="1800" spc="-1" strike="noStrike">
              <a:solidFill>
                <a:srgbClr val="000000"/>
              </a:solidFill>
              <a:latin typeface="Calibri"/>
            </a:endParaRPr>
          </a:p>
        </p:txBody>
      </p:sp>
      <p:pic>
        <p:nvPicPr>
          <p:cNvPr id="533" name="Picture 6" descr="C:\Users\Drew\Desktop\arrow.jpg"/>
          <p:cNvPicPr/>
          <p:nvPr/>
        </p:nvPicPr>
        <p:blipFill>
          <a:blip r:embed="rId2"/>
          <a:stretch/>
        </p:blipFill>
        <p:spPr>
          <a:xfrm>
            <a:off x="4160880" y="5143680"/>
            <a:ext cx="762120" cy="190440"/>
          </a:xfrm>
          <a:prstGeom prst="rect">
            <a:avLst/>
          </a:prstGeom>
          <a:ln w="0">
            <a:noFill/>
          </a:ln>
        </p:spPr>
      </p:pic>
      <p:sp>
        <p:nvSpPr>
          <p:cNvPr id="534" name="TextBox 1"/>
          <p:cNvSpPr/>
          <p:nvPr/>
        </p:nvSpPr>
        <p:spPr>
          <a:xfrm>
            <a:off x="2859120" y="3962520"/>
            <a:ext cx="14760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re-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ost Impact</a:t>
            </a:r>
            <a:endParaRPr b="0" lang="en-US" sz="1800" spc="-1" strike="noStrike">
              <a:solidFill>
                <a:srgbClr val="000000"/>
              </a:solidFill>
              <a:latin typeface="Calibri"/>
            </a:endParaRPr>
          </a:p>
        </p:txBody>
      </p:sp>
      <p:sp>
        <p:nvSpPr>
          <p:cNvPr id="535" name="TextBox 2"/>
          <p:cNvSpPr/>
          <p:nvPr/>
        </p:nvSpPr>
        <p:spPr>
          <a:xfrm>
            <a:off x="3530520" y="4221000"/>
            <a:ext cx="812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ning)</a:t>
            </a:r>
            <a:endParaRPr b="0" lang="en-US" sz="900" spc="-1" strike="noStrike">
              <a:solidFill>
                <a:srgbClr val="000000"/>
              </a:solidFill>
              <a:latin typeface="Calibri"/>
            </a:endParaRPr>
          </a:p>
        </p:txBody>
      </p:sp>
      <p:sp>
        <p:nvSpPr>
          <p:cNvPr id="536" name="TextBox 8"/>
          <p:cNvSpPr/>
          <p:nvPr/>
        </p:nvSpPr>
        <p:spPr>
          <a:xfrm>
            <a:off x="3048120" y="4797360"/>
            <a:ext cx="12952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Calibri"/>
            </a:endParaRPr>
          </a:p>
        </p:txBody>
      </p:sp>
      <p:sp>
        <p:nvSpPr>
          <p:cNvPr id="537" name="TextBox 9"/>
          <p:cNvSpPr/>
          <p:nvPr/>
        </p:nvSpPr>
        <p:spPr>
          <a:xfrm>
            <a:off x="2679840" y="5324400"/>
            <a:ext cx="16635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edback and assessment)</a:t>
            </a:r>
            <a:endParaRPr b="0" lang="en-US" sz="900" spc="-1" strike="noStrike">
              <a:solidFill>
                <a:srgbClr val="000000"/>
              </a:solidFill>
              <a:latin typeface="Calibri"/>
            </a:endParaRPr>
          </a:p>
        </p:txBody>
      </p:sp>
      <p:sp>
        <p:nvSpPr>
          <p:cNvPr id="538" name="TextBox 1"/>
          <p:cNvSpPr/>
          <p:nvPr/>
        </p:nvSpPr>
        <p:spPr>
          <a:xfrm>
            <a:off x="4756320" y="3962520"/>
            <a:ext cx="10555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endParaRPr b="0" lang="en-US" sz="1800" spc="-1" strike="noStrike">
              <a:solidFill>
                <a:srgbClr val="000000"/>
              </a:solidFill>
              <a:latin typeface="Calibri"/>
            </a:endParaRPr>
          </a:p>
        </p:txBody>
      </p:sp>
      <p:pic>
        <p:nvPicPr>
          <p:cNvPr id="539" name="Picture 3" descr=""/>
          <p:cNvPicPr/>
          <p:nvPr/>
        </p:nvPicPr>
        <p:blipFill>
          <a:blip r:embed="rId3"/>
          <a:stretch/>
        </p:blipFill>
        <p:spPr>
          <a:xfrm>
            <a:off x="905040" y="6051600"/>
            <a:ext cx="237960" cy="228600"/>
          </a:xfrm>
          <a:prstGeom prst="rect">
            <a:avLst/>
          </a:prstGeom>
          <a:ln w="0">
            <a:noFill/>
          </a:ln>
        </p:spPr>
      </p:pic>
      <p:sp>
        <p:nvSpPr>
          <p:cNvPr id="540" name="TextBox 12"/>
          <p:cNvSpPr/>
          <p:nvPr/>
        </p:nvSpPr>
        <p:spPr>
          <a:xfrm>
            <a:off x="1143000" y="6019920"/>
            <a:ext cx="7162920" cy="29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757575"/>
                </a:solidFill>
                <a:latin typeface="Arial"/>
              </a:rPr>
              <a:t>The arrow represents the decision shift from the Reciprocal Style-C to the Self-Check Style-D.</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2"/>
          <p:cNvSpPr/>
          <p:nvPr/>
        </p:nvSpPr>
        <p:spPr>
          <a:xfrm>
            <a:off x="762120" y="1676520"/>
            <a:ext cx="75438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tyle Summary</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elf-Check Style the teacher’s role is to make all subject matter, criteria, and logistical decisions. The learners’ role is to work independently and to check their own performance against the criteria provided by the teacher.</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yle is not initially appropriate for the novice who is unfamiliar with and inexperienced in the cont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2"/>
          <p:cNvSpPr/>
          <p:nvPr/>
        </p:nvSpPr>
        <p:spPr>
          <a:xfrm>
            <a:off x="762120" y="1676520"/>
            <a:ext cx="754380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elf-Check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kinesthetic awareness in physical performance by individually practicing and assessing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ain independence in performing the 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actice the sequence intrinsic to assessment and feedback skil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able to correct errors in one's task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crease active time-on-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ster the content leading to automatic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2"/>
          <p:cNvSpPr/>
          <p:nvPr/>
        </p:nvSpPr>
        <p:spPr>
          <a:xfrm>
            <a:off x="762120" y="1447920"/>
            <a:ext cx="77724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elf-Check Style is achieved, the following behavioral objectives are reached:</a:t>
            </a:r>
            <a:br>
              <a:rPr sz="1800"/>
            </a:br>
            <a:endParaRPr b="0" lang="en-US" sz="1800" spc="-1" strike="noStrike">
              <a:solidFill>
                <a:srgbClr val="000000"/>
              </a:solidFill>
              <a:latin typeface="Calibri"/>
            </a:endParaRPr>
          </a:p>
          <a:p>
            <a:pPr>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come less dependent on the teacher or a partner and to begin relying on oneself for feedback and acquisition of content</a:t>
            </a:r>
            <a:endParaRPr b="0" lang="en-US" sz="1800" spc="-1" strike="noStrike">
              <a:solidFill>
                <a:srgbClr val="000000"/>
              </a:solidFill>
              <a:latin typeface="Calibri"/>
            </a:endParaRPr>
          </a:p>
          <a:p>
            <a:pPr>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criteria to verify one's performance</a:t>
            </a:r>
            <a:endParaRPr b="0" lang="en-US" sz="1800" spc="-1" strike="noStrike">
              <a:solidFill>
                <a:srgbClr val="000000"/>
              </a:solidFill>
              <a:latin typeface="Calibri"/>
            </a:endParaRPr>
          </a:p>
          <a:p>
            <a:pPr>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intain honesty about one's performance</a:t>
            </a:r>
            <a:endParaRPr b="0" lang="en-US" sz="1800" spc="-1" strike="noStrike">
              <a:solidFill>
                <a:srgbClr val="000000"/>
              </a:solidFill>
              <a:latin typeface="Calibri"/>
            </a:endParaRPr>
          </a:p>
          <a:p>
            <a:pPr>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pe with one's own limitations</a:t>
            </a:r>
            <a:endParaRPr b="0" lang="en-US" sz="1800" spc="-1" strike="noStrike">
              <a:solidFill>
                <a:srgbClr val="000000"/>
              </a:solidFill>
              <a:latin typeface="Calibri"/>
            </a:endParaRPr>
          </a:p>
          <a:p>
            <a:pPr>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gain self-awareness about one's proficiency in performance</a:t>
            </a:r>
            <a:endParaRPr b="0" lang="en-US" sz="1800" spc="-1" strike="noStrike">
              <a:solidFill>
                <a:srgbClr val="000000"/>
              </a:solidFill>
              <a:latin typeface="Calibri"/>
            </a:endParaRPr>
          </a:p>
          <a:p>
            <a:pPr>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independence and personal motivation</a:t>
            </a:r>
            <a:endParaRPr b="0" lang="en-US" sz="1800" spc="-1" strike="noStrike">
              <a:solidFill>
                <a:srgbClr val="000000"/>
              </a:solidFill>
              <a:latin typeface="Calibri"/>
            </a:endParaRPr>
          </a:p>
          <a:p>
            <a:pPr>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feedback skills to adopt an intrinsic motivation capacity</a:t>
            </a:r>
            <a:endParaRPr b="0" lang="en-US" sz="1800" spc="-1" strike="noStrike">
              <a:solidFill>
                <a:srgbClr val="000000"/>
              </a:solidFill>
              <a:latin typeface="Calibri"/>
            </a:endParaRPr>
          </a:p>
          <a:p>
            <a:pPr>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ntinue the individualizing process by making the decisions shifted to the learner in the impact and post-impact sets </a:t>
            </a:r>
            <a:endParaRPr b="0" lang="en-US" sz="1800" spc="-1" strike="noStrike">
              <a:solidFill>
                <a:srgbClr val="000000"/>
              </a:solidFill>
              <a:latin typeface="Calibri"/>
            </a:endParaRPr>
          </a:p>
          <a:p>
            <a:pPr>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earn social manners</a:t>
            </a:r>
            <a:endParaRPr b="0" lang="en-US" sz="1800" spc="-1" strike="noStrike">
              <a:solidFill>
                <a:srgbClr val="000000"/>
              </a:solidFill>
              <a:latin typeface="Calibri"/>
            </a:endParaRPr>
          </a:p>
          <a:p>
            <a:pPr>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Institute for Teaching and Learning</dc:creator>
  <dc:description>©Spectrum Institute for Teaching and Learning</dc:description>
  <dc:language>en-US</dc:language>
  <cp:lastModifiedBy>Bernardo Gomez</cp:lastModifiedBy>
  <dcterms:modified xsi:type="dcterms:W3CDTF">2014-03-19T21:00:08Z</dcterms:modified>
  <cp:revision>19</cp:revision>
  <dc:subject>Spectrum of Teaching Styles</dc:subject>
  <dc:title>Self-Check Style-D</dc:title>
</cp:coreProperties>
</file>