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5886-9F16-4227-B189-4AEBF2EF01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F223-5051-4E5B-8BA7-0555F762B0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873A-94B4-4CED-9823-A209F6972B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14573F-0BE0-4091-9583-FDD9D948C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F61D4C-293E-426B-99C2-055AD01DB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BB582-4A43-426C-BA00-6CCC262D95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CF63D-EA42-4008-BA89-8AE10E330C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BAE1CA-A295-4E69-9611-F753A9A21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A7E39-EFD7-4405-9BF9-7A7352C1BF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7BE1C4-7C02-4A89-AFC4-D73E749B7C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5202DB-EA2B-495B-9897-D368DD2622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82828E-9379-4CC4-89AE-B340D070E9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3E4645-1C79-4688-A078-01D842ACC6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285836-CBF1-4E93-B7B9-58ED42EB5D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F19583-2135-4399-86B0-F638CFB111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504B6A-4DAD-4895-B001-E81E858DE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73A399-5D60-4D4C-954B-8A8A5822E3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644574-120C-41E8-91A9-83CD641C6A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5BFDDB-25E6-4813-BE4A-979F48B7AB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2D933B-6B37-4C82-9F92-302F1E53C9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9681D9-356C-471F-84DE-351C57CA0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29F88E-1612-4426-B6E9-DE009F80AC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061397-721D-41FE-BF3B-3CE0284A6C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278962-93CE-4C97-97A3-4357CC2771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C60982-0285-4405-99B9-F5656F97E9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46155A-EE30-43F1-B700-D0A4C12454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CF6F77-8C5D-46B1-856C-F212CD4D5E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D602DF-7640-4596-B2B6-A24231C41C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914C7-D3F2-4536-820B-C6318BD10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7FBDB2-B94E-4AB6-9E1E-B63BC8C501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325FEF-80C1-4F8E-A7C1-882A8E8B93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4068F-4778-451B-BB60-21C83631F2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6B7D8A-8D2F-4378-B08C-BA90ACE8AC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0FA86-F17B-417D-9D90-C73457281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C0D84C-6B19-4008-9F48-871ECA50AC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9705C0-D5C9-4EED-9517-795570B3F6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A64CB8-9A53-4F76-A16B-32948B79D7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317A52-2D6A-4B2F-8185-7C03F14B03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2288BC-914E-4446-8925-9513253AB47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E40B450-FB29-44B2-BD3E-516CF8F9DF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113DB8-E1DA-4B2F-B937-0F46776E4B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3F89BE8-9EE2-4DD9-B703-CDD4D7D002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E75F67-C8FF-4C1B-AF53-3EE82F3387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262008-F646-4EAF-9590-068BD3559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F907-8CBF-4C08-9BC9-82022EBC6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447A91-2866-4D2E-9C6C-2281B10BA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36B43FD-5D72-4113-88A9-DCF6F55D8D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3EE25B-BD9F-4B91-B4E3-2D80EBB302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E65B34-E6D9-4F08-95CC-13E56E331D6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BA8FAE-DFC8-4DB5-B760-0D94E7216A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E8946-1252-479C-943F-D90FC41A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EFBB-1406-4708-80BA-8B81D39E4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AE7ED-4AAB-4F50-9F91-617BE6D06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D5F7D-61AB-45F2-97DC-29E9318A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DC6A7-F917-4886-B43E-6182AFA62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FE94F-0CCC-42FC-861C-8029F6AC3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CC24-5269-4FAA-850F-92E44F63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21762-13B2-4E9E-8900-E56A3175C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F73AA-0286-48FF-A54B-3C9DE8D1F3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9BDA0-9F30-4E8B-B0EC-19A960710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9A5CB-84AA-46A6-8BEF-3D36BCDC05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22DE6-94D4-4A14-845B-D2A88F046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DA81A-D1F3-4491-893E-0F2F43806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779D6C-E724-4308-BBA6-90839F34F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CF8B5-5B53-40C7-B00C-42BD62221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80C70-1555-46DA-9C72-2BBB77E96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FECDE-5727-4394-89A6-24C9BD4E9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C2F249-1815-46E8-991D-CDC9AA95D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BE0A8-80E9-4FD3-A674-E8000FA2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56A65-29D3-4193-B5C6-70BFAB669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EBB4D-6F5D-4FC6-B897-ED1112852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D0D8B6-12F9-4DB8-A0D4-A062709859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F59572-65C8-42CB-A611-622FFF8C9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25C95-E68E-4CBF-9962-E0A2C7BE2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35DF49-5F46-4FC1-B93A-694C86035F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C7816-7E6E-48FE-9DF0-793F2129E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A50AB5-D1D5-4F1F-AC1F-23C935A44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88E36-C2A2-4569-AF7D-173601AA24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F941D-4EB7-4806-A215-992657172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4328A-D0B0-40A1-9DF2-55AA82F60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F4DD1-9580-407A-BC02-A0705E96F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FA398-8E32-409A-A419-31EB93920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10731F-AED9-47F8-A0F2-57AFFE6C5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88DC7-57D9-44E8-97EF-4FD46257D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ED6751-9CEA-4A12-92A1-F6B9AC0F57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751302-DCA6-4440-9EE6-146851AB0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11B1D-9820-4D3D-8B17-6EEF97361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0A9EC5-B756-484A-BF01-31A27C7BF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47C083-7A95-46B4-BFD9-135E547D6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3877FA-7B5A-42B4-9F25-2A6FA1ADA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36AB6-164C-48B9-A99B-5F737CF09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548EF-57DC-4E55-AA8C-7671BA46C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F54FC-D830-467C-8BA1-90FAA93F13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BD8331-02E3-407A-861B-185870DA68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D0DECF-7D43-410E-9807-1264BA9DD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76C558-725B-48C5-96C8-27BE1B8AE8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AD46E2-8111-4BDC-AB21-653F3B7B5A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06D10-4A86-4235-BEB9-3BDAAEFD5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40A354-96DF-42C7-8473-20B5FD167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4CD1C-8084-40F0-979C-9C738018D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1A218-5F7A-472E-9878-D3A0B436E5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855FF-1454-43A4-9468-6ADDD9DC8E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4F416-D07C-43B6-806A-37667744D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6C64AF-B73C-4452-A14C-761E2AD532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382F5-2CE4-4175-A1ED-B21E1D50DF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1FEFA-D7D6-4F36-AB1B-A387FB2B0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A7CE76-BC70-476E-A8CB-871242242F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C76C1D-2678-47F9-AF56-028100ADE9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DF69EB-7CEC-4DF2-9D92-4C57647E5A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350D9A-8C4C-4C49-9CF5-0ED553BA7F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B9F584-2D39-4EF8-8420-301D30B727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36B8F7-2292-403F-896C-06900696D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383395-5B8E-4D98-A2C5-9DD01B71DE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6C6C6-6227-4AE6-BB36-E04C5DCBFB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9D56A-6744-41E9-BFC3-9546F366D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3D5DC7-EAF9-4C07-9814-D2E583E17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77066-1AD6-4885-9A30-5343B3506B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8F69B7-B5D8-46D4-91CC-7FDD1B4861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6B145F-731D-41DE-8C25-7714125E64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79AA1-FBBC-4BBF-BB8C-16D4E76146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3D77EA-15D5-44B7-85C7-88E646FEEF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219EDA-DD36-404A-A57A-A4C274540E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97CB4E-486E-4219-9F02-D49F03177D5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8CEC-F5C7-44CC-95A1-8CF5FC591E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C8100-B2C1-4605-B878-01DEA7A6222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45C48-4DFD-438F-87F4-7BA0C1BB46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0BE7-9E50-4ABC-81CC-1D5A07932A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4A157-2672-4070-926B-CFCD0F221F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6906-2AD4-4B6D-AFA6-09C02CA6DD0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42DC-F1C8-4202-923A-16FD3FF8691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FF9E1-616F-484A-AF40-8931182CBCD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42A9A-765D-46AC-9479-4144090B78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Practice</a:t>
            </a:r>
            <a:r>
              <a:rPr b="0" lang="en-US" sz="3200" spc="-1" strike="noStrike">
                <a:solidFill>
                  <a:srgbClr val="000000"/>
                </a:solidFill>
                <a:latin typeface="Arial"/>
                <a:ea typeface="Arial"/>
              </a:rPr>
              <a:t>-Style B</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8AD6D-01BD-40C1-9D4D-6C6B247F7C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learning focus of the Practice style are individual and private practice of a memory/reproduction task with private feedback from the teacher.</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365760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52388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Practice style the role of the teacher is to make all subject matter and logistical decisions and to provide private feedback to the learners. The role of the learner is to individually and privately practice a memory/reproduction task while making nine specific decisions.</a:t>
            </a:r>
            <a:endParaRPr b="0" lang="en-US" sz="1800" spc="-1" strike="noStrike">
              <a:solidFill>
                <a:srgbClr val="000000"/>
              </a:solidFill>
              <a:latin typeface="Calibri"/>
            </a:endParaRPr>
          </a:p>
        </p:txBody>
      </p:sp>
      <p:sp>
        <p:nvSpPr>
          <p:cNvPr id="526" name="TextBox 2"/>
          <p:cNvSpPr/>
          <p:nvPr/>
        </p:nvSpPr>
        <p:spPr>
          <a:xfrm>
            <a:off x="2514600" y="371016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Practice style, the role of the teacher is to make all subject matter and logistical decisions and to provide private feedback to the learners. The role of the learner is to individually and privately practice a task while deliberately making nine specific decisions. These decisions include location, order of tasks, starting time, pace and rhythm, stopping time, interval, initiating questions for clarification, attire and appearance, and posture. The developmental process of independence begins with the shifting of the nine decisions in Practice Sty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Practice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by oneself reproducing the mode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tivate memory cognitive operations necessary for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quire and internalize content from private practi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realize that proficient performance is related to task repetitio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realize that proficient performance is related to knowledge of results-feedbac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426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Practice style is achieved, the following behavioral objectives are reached:</a:t>
            </a:r>
            <a:br>
              <a:rPr sz="1800"/>
            </a:br>
            <a:endParaRPr b="0" lang="en-US" sz="18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experience the beginning of independence by making the nine decision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develop initiating skills in the nine decision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realize that decision making accommodates learning the task</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learn to be accountable for the consequence of each decision, for example:</a:t>
            </a:r>
            <a:endParaRPr b="0" lang="en-US" sz="1600" spc="-1" strike="noStrike">
              <a:solidFill>
                <a:srgbClr val="000000"/>
              </a:solidFill>
              <a:latin typeface="Calibri"/>
            </a:endParaRPr>
          </a:p>
          <a:p>
            <a:pPr lvl="1" marL="919080" indent="-291960" algn="just">
              <a:lnSpc>
                <a:spcPct val="100000"/>
              </a:lnSpc>
              <a:spcAft>
                <a:spcPts val="99"/>
              </a:spcAft>
              <a:buClr>
                <a:srgbClr val="7f7f7f"/>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lationship between time and tasks</a:t>
            </a:r>
            <a:endParaRPr b="0" lang="en-US" sz="1600" spc="-1" strike="noStrike">
              <a:solidFill>
                <a:srgbClr val="000000"/>
              </a:solidFill>
              <a:latin typeface="Calibri"/>
            </a:endParaRPr>
          </a:p>
          <a:p>
            <a:pPr lvl="1" marL="919080" indent="-291960" algn="just">
              <a:lnSpc>
                <a:spcPct val="100000"/>
              </a:lnSpc>
              <a:spcAft>
                <a:spcPts val="99"/>
              </a:spcAft>
              <a:buClr>
                <a:srgbClr val="7f7f7f"/>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gulation of one's pace and rhythm</a:t>
            </a:r>
            <a:endParaRPr b="0" lang="en-US" sz="1600" spc="-1" strike="noStrike">
              <a:solidFill>
                <a:srgbClr val="000000"/>
              </a:solidFill>
              <a:latin typeface="Calibri"/>
            </a:endParaRPr>
          </a:p>
          <a:p>
            <a:pPr lvl="1" marL="919080" indent="-291960" algn="just">
              <a:lnSpc>
                <a:spcPct val="100000"/>
              </a:lnSpc>
              <a:spcAft>
                <a:spcPts val="99"/>
              </a:spcAft>
              <a:buClr>
                <a:srgbClr val="7f7f7f"/>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sequences of use of time</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learn to respect others' rights to make decisions in the nine categorie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initiate an individual and private relationship between the teacher and learner</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o develop trust in shifting and making the nine decisions</a:t>
            </a:r>
            <a:endParaRPr b="0" lang="en-US" sz="1600" spc="-1" strike="noStrike">
              <a:solidFill>
                <a:srgbClr val="000000"/>
              </a:solidFill>
              <a:latin typeface="Calibri"/>
            </a:endParaRPr>
          </a:p>
          <a:p>
            <a:pPr algn="just">
              <a:lnSpc>
                <a:spcPct val="100000"/>
              </a:lnSpc>
              <a:spcAft>
                <a:spcPts val="99"/>
              </a:spcAft>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ther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7:21Z</dcterms:modified>
  <cp:revision>8</cp:revision>
  <dc:subject/>
  <dc:title>Command-Style A</dc:title>
</cp:coreProperties>
</file>