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3F16-8B67-4356-933E-CF1BD4CC5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B9849-4327-4F62-BACA-5DEB8E419C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0E85-B250-4AE6-9E45-BF8519D99D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5ABF3A-5B8A-406C-9750-7E2A814B8C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34865-2F59-45D6-9185-4637C9774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CBD25B-977C-43B2-A6C4-0A6AA49874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2D455-4AE8-497A-8DF8-31441E6427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6B845-FB55-416B-B920-3B0A18FCB4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FFB97-25C9-4E0D-88DB-C3166BC52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E7411D-D2EC-4B95-AAA9-ECFC39CE36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B940F8-37E6-422F-8AB8-128FA3359E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1EDAE6-420E-41C0-80B2-0A0A7646F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E7B791-782B-4EC6-9C6F-39D857CA5D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D3B024-657E-48E5-A857-5568B7E504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D6F5B6-8370-4A04-82AA-D2FEA8AB54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2EEFD1-A46F-4F5F-8134-E468256B82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326006-99EA-425A-9115-A11EDAC44D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CF0EE5-E408-46EB-8660-9742ADBAFE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432E56-C3FC-4BB6-BFBC-1D54B21CE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F144ED-DB6E-442C-8BAE-A0321A2BEE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429F1-489C-4D4C-9A3D-C80232480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ADBED-4171-414C-A897-C90312733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7BFC46-91B1-49EC-8E8F-0339EF6F92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859B8D-35A6-420C-A041-2614B13BC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667A20-ADA5-4AA8-8B0C-37EFF6926F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FE492-88FE-49CD-8393-079D637716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96F888-D777-456F-9AE9-B4832ADCDC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241C03-6694-4248-BF5D-C8E3289FF0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B2CC8-0CED-4F51-8362-9ECBC8811E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CC94EC-4B48-456D-AADD-C7535DDB91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4FE20-9191-4A4E-A7FC-84E2B39887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C4A105-BEC5-423E-875A-1FF4B7F704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46C14A-4F03-41EE-A90C-32BDB09BD7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24CD8-4935-4FFB-8D3F-8CD812CAE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11C929-116B-433A-919F-AA6028CA6C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2A83C5-4151-43EB-8B36-08CBA1B485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664EA4-03FD-40D3-9B77-79ABC1F33F3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9B08E6-732D-43E2-ADBB-9ED5A831B9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18B804F-708C-40F7-9501-E1A263C5D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6FBC7C-563B-4519-AA27-1379E48CB2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E42063-ED1E-47A4-860A-D02B08B232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36C8AB-96CF-4F19-9663-493BD914A2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A5E736-37D4-4BAB-99DA-8F8DFE67BA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F1CC8F-D21B-4E9F-B62A-A8F4716DF0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18916-946F-4FB2-9FFD-030CF432D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721B782-025D-413F-A350-802ABD0D1E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27E1AF-90A8-4516-A8A6-6862D3948A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BFA468-908F-400F-89E6-C4EB8DBD7C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5FE562-9E79-4DB4-BB7F-4F65F7657B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56A8E67-B35F-435C-80BD-EA701D1DB6B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ED59F-87C1-48AA-920A-113D1E274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8F925-3A1C-4D58-A92B-150D17EEE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C0877-2E94-434D-8B85-719FE7781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106E5-E618-460F-8666-A27504573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431A1-7E69-47CE-9B7C-73334AB0B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BCC82-16D6-4D54-AD5B-B1FC834C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E798C-A914-4BEA-BE2E-9106989D9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A7FFA-E2E1-420F-8D2E-ECD1E9C58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8CFF0-6733-40B9-966C-7FFCBEBDB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179A4-AB71-4BF1-93D9-A4CADC6A7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2F7D3-F88C-44BA-B4F4-A7987D8A73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CD844-76DE-4E2B-8CC8-50080C303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9FE43B-D86D-4EC3-BD31-8B8A0D492B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204CD-CB89-46B8-9A03-0B2687B12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A896E7-000B-4282-93F1-6234A525E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386352-B9A2-437F-A82F-B2E6FA731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5E9BE-64E6-4E18-8483-C241B1935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B40D1-86B1-46F0-8E8D-A48C4CA1D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0A22B-9418-4D85-A865-12A383AE6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BBB0B-5694-44D3-83F1-3412306FF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B8B6F-1E2A-4037-88AF-7C81B31E4C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DED5E3-292C-4E71-B842-BDEB74563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D0DDF0-4405-49F1-96BB-FAB4AEE55E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5EBC1-B645-4C04-8BD0-C6A63072A2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DACB18-E418-42A5-AA00-AF30FA555F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CC1BA-A1B1-4FE2-821A-AB43194E21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42ACE-A680-4793-B7DE-97F879599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C2888-70E3-4306-BCDE-5354450B22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88137-218C-4236-8F8F-2AE843F16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60C07-3B35-4231-A532-854C0312C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8A559-1314-4626-B2B7-F736D0F7C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98513-6112-4C8D-95AB-119A29027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F8D24A-120C-415A-89E2-D7B4F794B8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AE0959-C480-43D1-A8D3-1CF219084F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D68D27-37A8-4BC9-B6DE-CDE9C2370D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1C1130-149D-4ADD-803C-94D816D8ED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D09163-7A72-48DF-BF00-CF2F41E7E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249CE6-09DE-4498-8774-F73B38535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D0674-791C-431D-B6BB-5223A4923D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C90FEF-FD8B-4ED4-AB12-BBF178E5D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3481E-D1AD-46B8-8C82-7363BAC40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0561DF-CFE1-4BE9-BCC3-7FAF6AC7B6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C448B-7663-45D9-A052-A5E46EFA8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64745-880A-4E44-801B-A79D476423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30F26-1E9F-4171-9C85-AED3CA466F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DC0E59-ADAE-4D52-9210-9123C4F314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6AA36E-D9B7-4BF0-874B-6295E05DE1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58E0AD-B0F9-4DA6-AA1A-D84AB50848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A85B8F-6A67-4C22-A9E5-EC616459C2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1A61DD-3587-444E-864A-CD6B21382B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22D875-F698-408E-9A54-43F87220E5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AEB528-2B92-4D8F-85E4-3D46045229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C8AEF-525E-4470-8028-047B466EC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2707E-70C1-4504-9CF5-F8E00FF48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3D2D54-0D2D-41AF-BE5C-A90C02023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574D5F-AEB4-4CD8-B5DD-BBEACC97B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ACE39-FA62-4B6B-9560-25A828D41A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45C0F1-DAEE-49F6-883B-D33D435D99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09A9BD-B50F-4B5D-A9C4-9C4FF1EDA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EE5E8F-02B4-4AE1-8218-8ECE61C19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FE9A3E-32FA-4B00-8BF0-DE763CD1E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41880-C6D7-42EE-B05D-81E52B323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886D3A-85B8-49D1-9083-C1A5012AB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06A1D2-4172-4EDD-AA68-CBC3CBC9C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2A3F4-A1CD-4E98-8617-8C7E2FEBBC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496A0-F324-4C9F-B6D7-59440CB7D2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5BF00-1F19-40C1-AE67-F066320D1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C6990C-B3C9-4A8D-9AE1-455DDAA04A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26969-188D-4B3D-8306-C21293786E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72F444-1C19-4659-99A1-6B9FC553BB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26303C-3B3D-4959-8D9A-556C9BA306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40374-57A6-4AD4-B2D9-AA993987F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1659EC-FD43-4F16-A1EA-D9EB3713816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19A9-59D1-4A75-9DA5-A25228DB37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8861C-D9DC-4113-ABC3-F69C3A59F41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BF6F9-E18B-48C7-A7CB-F09DFFBEB9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D782-909F-4001-AC5D-62E0BAADE1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5E40-5519-4606-8BD1-111A65B482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C03D-0BA2-4DF0-8457-2928424FA6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43B86-872B-41FF-A7EF-0071192CD1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18F5D-3340-485C-AA67-C12A523EF90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CA08-7EE8-42EA-81E1-4E5031C55A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uided Discovery</a:t>
            </a:r>
            <a:r>
              <a:rPr b="0" lang="en-US" sz="3200" spc="-1" strike="noStrike">
                <a:solidFill>
                  <a:srgbClr val="000000"/>
                </a:solidFill>
                <a:latin typeface="Arial"/>
                <a:ea typeface="Arial"/>
              </a:rPr>
              <a:t>-Style F</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7371-F526-4F11-8571-1177BD890B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Guided Discovery style is the logical and sequential design of a series of questions that lead a person to discover a predetermined concept, principle, relationship or rule that was not previously known.</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60320" y="3657600"/>
            <a:ext cx="762480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Guided Discovery Style, the role of the teacher is to make all subject matter decisions, including the target concept to be discovered and the sequential design of the questions for the learner. The role of the learner is to discover the answers. This implies that the learner makes decisions about segments of the subject matter within the topic selected by the teacher.</a:t>
            </a:r>
            <a:endParaRPr b="0" lang="en-US" sz="1800" spc="-1" strike="noStrike">
              <a:solidFill>
                <a:srgbClr val="000000"/>
              </a:solidFill>
              <a:latin typeface="Calibri"/>
            </a:endParaRPr>
          </a:p>
        </p:txBody>
      </p:sp>
      <p:sp>
        <p:nvSpPr>
          <p:cNvPr id="526" name="TextBox 2"/>
          <p:cNvSpPr/>
          <p:nvPr/>
        </p:nvSpPr>
        <p:spPr>
          <a:xfrm>
            <a:off x="2514600" y="403848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Teacher/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Teacher/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Guided Discovery style, the role of the teacher is to make all subject matter decisions, including the target concept to be discovered and the sequential design of the questions that lead to the target answer. The role of the learner is to discover the answers. This process implies that the learner makes decisions about segments of the subject matter within the topic. This sequential process invites the learner to make meaningful cognitive connections that lead to the discovery of new content—a concept, principle, relationship or ru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Guided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the interconnection of steps within a given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the "target" - the concept, principle, rul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a step-by-step discovery process - develop sequential discovery skills that logically lead to broader concept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Guided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ross the discovery threshol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ngage the learner in the discovery of concepts and principles representing convergent thinking</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ngage the learner in a precise cognitive relationship between the stimulus (given by the teacher or surrogate) and discovered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teach both teacher and learner about cognitive economy - i.e., using minimal, accurate, and logical steps to get to a targe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an effective and affective climate conducive to engagement in the act of discover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ovide the learner with the moment of "Eureka"</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8:07Z</dcterms:modified>
  <cp:revision>6</cp:revision>
  <dc:subject/>
  <dc:title>Command-Style A</dc:title>
</cp:coreProperties>
</file>