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3697-321F-472F-AB11-3FDEE98A7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D834-A3CC-4242-A292-7ECAE94852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2D30-BAE4-4F87-8083-A5E469FFD2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317355-4C45-4D10-975D-E7C3D78B4FF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1CD53F-66E5-4BCB-872F-F1BDB99CB8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0B940D-7A5B-4C04-A6FD-C6D34D0864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4851FE-C675-4FB4-AC67-2184074654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BC1713-3179-4744-B322-464CAD9F68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0DD32A-C41D-4BEE-9233-C5B9752A57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DED671-8BC9-499B-B8B6-0D4673DB2E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468559-47E4-43CA-B83B-7D8383DDE2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71CBDF-EA88-4229-B10B-A03E086FE4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1429EC-48E9-42C5-9247-AD7B5C7263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C14132-20FA-4B2C-9F8A-86554EA2C8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193AB4-8B5B-40B8-80B1-BC8FC39580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A13442-A00B-4B40-8BFB-72F11C2CFB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2C11DE-2A75-4F58-94A9-23BE9640E1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AFDF7E-B180-49F8-BAEE-B5075E50C8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EACCCB-A867-4DF2-A928-F7CD9AE3A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FBFC09-328F-4D03-87A0-BB5C986C41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03B8B1-C013-45B1-ACE2-B08F2B96D1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CC9845-F48D-4A45-B931-23EC92487B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5689A3-59E5-4349-A8C5-31AC66E96D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6FE150-E640-41B4-ACD5-7C25683E58E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F1C468-D810-4428-8D82-39F779A42E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7E6573-AB72-4E1A-9C04-211ACFB582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255C2D-73DB-44A1-9F7A-08474E5ECE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022AF8-D41B-45A5-A0A6-3BBD15549F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B91D2A-2C72-423B-A5F1-E79FFCA523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DADBFC-E003-462C-822E-104CB4D77E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89187B-8319-430B-8924-8AE09F037B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D54DC2-280A-489D-AE13-C68E7CCA34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98CB61-F7FD-4446-9F1A-F1895882ED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620350-5EA9-4525-9895-5BB6D9DE1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E29C30-354B-4C26-9544-FAFDDE6E8A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F4697F-AA26-45EF-8375-B477104A33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F0B5DD7-F45D-4EB0-8EF9-6AC6046F23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247C90C-8BED-4032-9856-81E1B5DF85B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FC6B0D-96F6-44D4-90F0-7CEF71470B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89D522-E574-4392-B76C-90A2280F95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9672CA-9D86-4AFE-A3C2-272E395E01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957A33-0257-4F30-B53D-72EBF6C6BF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8530895-6741-464D-AF6E-537C791715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24C8A7-AED1-4DF3-B28F-2130C7D4D2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AFB88-1C3F-4882-8554-6F30CA48F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97494D-654A-4F31-9BC2-9D6D5EE8E5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085CED-5104-418D-8FA6-2593F33145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4634C1-A088-4111-8EEE-725972A6FA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D59BC0F-7440-46C9-A4B7-86D44B45B35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817E35-3EA8-4C31-9FD3-6BC3428747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2AFD7-D0B0-4268-8BAF-4D995D8DF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547CF-C3D4-460D-B648-DF155D358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612E0-0A20-405D-A2DB-6B8A2F7F0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FE61B-DB6A-4BDE-BE06-2542D785B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36E70-E05C-4CB4-BE01-70AE176AB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676AC-BFFE-4D5C-89B4-1AE3AA08B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81045-2F01-4B29-B573-001CCBC1D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EFD16-642C-4A51-A9E5-395E6500E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D18F9-4450-404D-B5FA-EDEF5A2CC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93712-691F-44F0-847D-85B9CBD46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F17BF-5D66-41DE-9D19-E0D6FC953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3979B-1256-41AB-99CB-ACF08FCED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33E6E-38DF-4EF0-A1B3-341FE97EB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5EA97-F64F-444A-B7FB-AFFA258E1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AAE90-99C5-4574-9215-3CD72B4AF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CDBC4C-260B-4E25-85F9-439CE272E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AFBB2-CCFB-4F88-8A3B-A42AC5BF5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5AF93-337A-469C-ACBE-330513E33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2CADD-BB39-407D-A645-F0CD36A3C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D31FE-BF4F-45EE-A7B3-FEAC20D6A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D75E8-4131-4D3F-B839-BBC6C1EE81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84B97-759E-4140-BAB3-8223B6F2A6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1E65F5-4A9F-4733-BADA-EFEE758A9C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606185-7F1C-4C42-BCA3-6E2BB5B10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C8E70E-447B-49CA-B989-BD5F16FEE4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F62ADA-8851-4B91-8377-A1DEDD1A07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E723F7-13F7-4FB0-A9CA-472FB1A35C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F41993-0703-4E49-BB16-83D0CEC603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4776D-F850-4F2C-9CA8-C60C01F24A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5DF78-404F-4295-A5F2-E7303C2F7B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DB2BE-DDFC-4DC6-AF43-1489E106D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EE102A-B49C-4149-8DC5-6B6386063E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1FA894-003A-40D5-B8E9-D30E205CF4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1C1EF4-A5E0-40D7-A614-5D6B18E1EA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39D278-C135-40C1-B9E3-0B427E3565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4AD60C-A3E8-44A7-B988-BA889166B0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5BF3A7-3E2D-4878-B708-803D89DB55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7ADAB6-7C05-4398-8C35-F8A7D9126F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78B42A-DE88-40DA-B4FC-AD9F9DD46A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817133-2DCC-4E11-AE98-5F81FDC2C6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B143CE-EA23-4464-8968-440F283B0B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BCF05-2928-4EEC-830F-15B6891ED0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114F6E-9C15-46F0-B12D-015BBA2988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A503E9-4501-4794-B5A1-63FF60DD02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C7AD90-E564-44F9-A365-01B8C63843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F9A0BD-198C-4121-884F-CD114AF1B2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6C15DB-974B-4141-B2C7-B49746CA90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D12315-8178-4AC5-A079-F5EEEA9EFD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CEE13B-D76F-4ADE-9EF7-0A7CE32EBE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9C79CB-84E7-48D5-B9BE-B29DFE119A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50DA62-3253-457B-8564-9834A94C60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F84983-4B9D-4AEB-ACF5-5DDCCC3E30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1DE288-B5E3-4105-BD90-BA1A3F35DE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5CC0F5-1F9E-4D88-93A3-78D7260799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B96C0A-9756-437E-AAB3-D949EBF65A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E9E7E1-63DC-48D9-9DBF-5C7593B946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7ACF49-DF77-44BD-8A91-BA00555522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F7C9E8-4FD7-4128-A97A-4E8EB6088B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C66DCC-A900-4A9B-9420-BB4AAD3D21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B26D75-DFD0-4EAD-814C-7BD53A6E12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4541DF-5838-4EBE-A1CF-E455197386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6F7085-FE4E-47C1-A535-43AF8081AE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11B888-B2D5-46FD-B13F-3C239B2962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DA87B7-7F1A-4FC6-AFD8-FE7F12F39E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7F689-2E47-45DF-B256-A28FFA79E2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19E688-EF12-4C61-8AD8-4CFB50D2C8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DBA5DB-7497-4D8E-85F5-F08E28F159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E9946F-0846-4B50-B21B-E89FD10329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1CF72C-94C1-45C2-9301-5A90F7A002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CE8917-4447-408C-8178-5373C8F266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760B5F-33CD-49F6-A457-A80D003A84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28ABDA-0AF7-4D5D-8FF6-7E2F1713E3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4E5002-BB28-4638-AD7D-37DFBA865E5E}"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d Discovery Style-F</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d Discovery Style-F</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81D1-3D28-49C0-8E2F-1339D712DB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d Discovery Style-F</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8882-ADD7-4689-839B-917B52FF7C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d Discovery Style-F</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3E85-8A79-479E-B333-6060AD30260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d Discovery Style-F</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1EA8-29E9-40E3-91D5-45C741DE21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d Discovery Style-F</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6"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d Discovery Style-F</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63AC-B1AD-40D3-8312-CA8184EA1D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d Discovery Style-F</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5B4A-4F0B-4466-A398-66591A3D16F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d Discovery Style-F</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D8FA-7245-406D-A906-C03513FC91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d Discovery Style-F</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6C4B-D9A9-45AB-BC37-FB5FD33149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d Discovery Style-F</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4CBB6-1A1F-422D-B6A5-4B26E1710F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uided Discovery Style-F</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209C-B702-45A2-8BD8-7BD9684790D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7.jpeg"/><Relationship Id="rId4" Type="http://schemas.openxmlformats.org/officeDocument/2006/relationships/image" Target="../media/image5.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Box 1"/>
          <p:cNvSpPr/>
          <p:nvPr/>
        </p:nvSpPr>
        <p:spPr>
          <a:xfrm>
            <a:off x="762120" y="1230480"/>
            <a:ext cx="7619760" cy="408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escription of a Guided Discovery Sty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Style F you would see the teacher asking one student a series of specifically sequenced questions**; each question has only one correct answer. The questions are sequenced in a logical pattern so that each answer leads the student step by step to discover the anticipated concept, principle, relationship or solutio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cognitive liabilities when this style is used in a large group. The discovery process is interrupted per student in a group setting; therefore, the content acquisition cannot be guaranteed for each student.</a:t>
            </a:r>
            <a:endParaRPr b="0" lang="en-US" sz="1400" spc="-1" strike="noStrike">
              <a:solidFill>
                <a:srgbClr val="000000"/>
              </a:solidFill>
              <a:latin typeface="Calibri"/>
            </a:endParaRPr>
          </a:p>
        </p:txBody>
      </p:sp>
      <p:pic>
        <p:nvPicPr>
          <p:cNvPr id="522" name="Picture 2" descr=""/>
          <p:cNvPicPr/>
          <p:nvPr/>
        </p:nvPicPr>
        <p:blipFill>
          <a:blip r:embed="rId1"/>
          <a:stretch/>
        </p:blipFill>
        <p:spPr>
          <a:xfrm>
            <a:off x="762120" y="1828800"/>
            <a:ext cx="7584840" cy="1066680"/>
          </a:xfrm>
          <a:prstGeom prst="rect">
            <a:avLst/>
          </a:prstGeom>
          <a:ln w="0">
            <a:noFill/>
          </a:ln>
        </p:spPr>
      </p:pic>
      <p:sp>
        <p:nvSpPr>
          <p:cNvPr id="523" name="TextBox 2"/>
          <p:cNvSpPr/>
          <p:nvPr/>
        </p:nvSpPr>
        <p:spPr>
          <a:xfrm>
            <a:off x="1981080" y="1900080"/>
            <a:ext cx="5943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lassroom image would you see between the teacher and learners that would indicate the structure of the Guided Discovery Style?</a:t>
            </a:r>
            <a:endParaRPr b="0" lang="en-US" sz="1800" spc="-1" strike="noStrike">
              <a:solidFill>
                <a:srgbClr val="000000"/>
              </a:solidFill>
              <a:latin typeface="Calibri"/>
            </a:endParaRPr>
          </a:p>
        </p:txBody>
      </p:sp>
      <p:pic>
        <p:nvPicPr>
          <p:cNvPr id="524" name="Picture 3" descr=""/>
          <p:cNvPicPr/>
          <p:nvPr/>
        </p:nvPicPr>
        <p:blipFill>
          <a:blip r:embed="rId2"/>
          <a:stretch/>
        </p:blipFill>
        <p:spPr>
          <a:xfrm>
            <a:off x="914400" y="5743440"/>
            <a:ext cx="237960" cy="228600"/>
          </a:xfrm>
          <a:prstGeom prst="rect">
            <a:avLst/>
          </a:prstGeom>
          <a:ln w="0">
            <a:noFill/>
          </a:ln>
        </p:spPr>
      </p:pic>
      <p:sp>
        <p:nvSpPr>
          <p:cNvPr id="525" name="TextBox 3"/>
          <p:cNvSpPr/>
          <p:nvPr/>
        </p:nvSpPr>
        <p:spPr>
          <a:xfrm>
            <a:off x="1219320" y="566244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he content in this style is new and not known in advance to the learner. Styles F-K promote different structures for discovery learning and different cognitive operation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Box 1"/>
          <p:cNvSpPr/>
          <p:nvPr/>
        </p:nvSpPr>
        <p:spPr>
          <a:xfrm>
            <a:off x="762120" y="1230480"/>
            <a:ext cx="7619760" cy="34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escription of a Guided Discovery Style (contd.)*</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appropriate for Guided Discovery includes principles, rules, concepts, and relationships. Non-examples of discovery content include isolated facts, skills, dates, names—these content examples cannot be discovered. Guided Discovery episodes are relatively short--5-10 minutes. Style F does not provide practice skill development. Style F focus on clarifying principles, concepts, rules, relationships, which can improve skill performance when practicing in Styles A-E.</a:t>
            </a:r>
            <a:endParaRPr b="0" lang="en-US" sz="1600" spc="-1" strike="noStrike">
              <a:solidFill>
                <a:srgbClr val="000000"/>
              </a:solidFill>
              <a:latin typeface="Calibri"/>
            </a:endParaRPr>
          </a:p>
        </p:txBody>
      </p:sp>
      <p:pic>
        <p:nvPicPr>
          <p:cNvPr id="527" name="Picture 2" descr=""/>
          <p:cNvPicPr/>
          <p:nvPr/>
        </p:nvPicPr>
        <p:blipFill>
          <a:blip r:embed="rId1"/>
          <a:stretch/>
        </p:blipFill>
        <p:spPr>
          <a:xfrm>
            <a:off x="762120" y="1828800"/>
            <a:ext cx="7584840" cy="1066680"/>
          </a:xfrm>
          <a:prstGeom prst="rect">
            <a:avLst/>
          </a:prstGeom>
          <a:ln w="0">
            <a:noFill/>
          </a:ln>
        </p:spPr>
      </p:pic>
      <p:sp>
        <p:nvSpPr>
          <p:cNvPr id="528" name="TextBox 2"/>
          <p:cNvSpPr/>
          <p:nvPr/>
        </p:nvSpPr>
        <p:spPr>
          <a:xfrm>
            <a:off x="1981080" y="1900080"/>
            <a:ext cx="5943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lassroom image would you see between the teacher and learners that would indicate the structure of the Guided Discovery Style?</a:t>
            </a:r>
            <a:endParaRPr b="0" lang="en-US" sz="1800" spc="-1" strike="noStrike">
              <a:solidFill>
                <a:srgbClr val="000000"/>
              </a:solidFill>
              <a:latin typeface="Calibri"/>
            </a:endParaRPr>
          </a:p>
        </p:txBody>
      </p:sp>
      <p:pic>
        <p:nvPicPr>
          <p:cNvPr id="529" name="Picture 3" descr=""/>
          <p:cNvPicPr/>
          <p:nvPr/>
        </p:nvPicPr>
        <p:blipFill>
          <a:blip r:embed="rId2"/>
          <a:stretch/>
        </p:blipFill>
        <p:spPr>
          <a:xfrm>
            <a:off x="914400" y="5743440"/>
            <a:ext cx="237960" cy="228600"/>
          </a:xfrm>
          <a:prstGeom prst="rect">
            <a:avLst/>
          </a:prstGeom>
          <a:ln w="0">
            <a:noFill/>
          </a:ln>
        </p:spPr>
      </p:pic>
      <p:sp>
        <p:nvSpPr>
          <p:cNvPr id="530" name="TextBox 3"/>
          <p:cNvSpPr/>
          <p:nvPr/>
        </p:nvSpPr>
        <p:spPr>
          <a:xfrm>
            <a:off x="1219320" y="566244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he content in this style is new and not known in advance to the learner. Styles F-K promote different structures for discovery learning and different cognitive operation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2" descr=""/>
          <p:cNvPicPr/>
          <p:nvPr/>
        </p:nvPicPr>
        <p:blipFill>
          <a:blip r:embed="rId1"/>
          <a:stretch/>
        </p:blipFill>
        <p:spPr>
          <a:xfrm>
            <a:off x="0" y="990720"/>
            <a:ext cx="9144000" cy="60120"/>
          </a:xfrm>
          <a:prstGeom prst="rect">
            <a:avLst/>
          </a:prstGeom>
          <a:ln w="0">
            <a:noFill/>
          </a:ln>
        </p:spPr>
      </p:pic>
      <p:sp>
        <p:nvSpPr>
          <p:cNvPr id="532" name="TextBox 6"/>
          <p:cNvSpPr/>
          <p:nvPr/>
        </p:nvSpPr>
        <p:spPr>
          <a:xfrm>
            <a:off x="762120" y="1405080"/>
            <a:ext cx="7619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rning focus of the Guided Discovery Style is to develop logical and sequential thinking. In this style questions are designed in a logical and sequential series that leads a learner to discover a predetermined concept, principle, relationship or rule that was not previously known.</a:t>
            </a:r>
            <a:endParaRPr b="0" lang="en-US" sz="1800" spc="-1" strike="noStrike">
              <a:solidFill>
                <a:srgbClr val="000000"/>
              </a:solidFill>
              <a:latin typeface="Calibri"/>
            </a:endParaRPr>
          </a:p>
        </p:txBody>
      </p:sp>
      <p:pic>
        <p:nvPicPr>
          <p:cNvPr id="533" name="Picture 3" descr=""/>
          <p:cNvPicPr/>
          <p:nvPr/>
        </p:nvPicPr>
        <p:blipFill>
          <a:blip r:embed="rId2"/>
          <a:stretch/>
        </p:blipFill>
        <p:spPr>
          <a:xfrm>
            <a:off x="905040" y="5854680"/>
            <a:ext cx="237960" cy="228600"/>
          </a:xfrm>
          <a:prstGeom prst="rect">
            <a:avLst/>
          </a:prstGeom>
          <a:ln w="0">
            <a:noFill/>
          </a:ln>
        </p:spPr>
      </p:pic>
      <p:sp>
        <p:nvSpPr>
          <p:cNvPr id="534" name="TextBox 5"/>
          <p:cNvSpPr/>
          <p:nvPr/>
        </p:nvSpPr>
        <p:spPr>
          <a:xfrm>
            <a:off x="1219320" y="572436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ll subject matters are applicable to each and every T-L style. Physical examples are used to more clearly convey the concept of each style.</a:t>
            </a:r>
            <a:endParaRPr b="0" lang="en-US" sz="1400" spc="-1" strike="noStrike">
              <a:solidFill>
                <a:srgbClr val="000000"/>
              </a:solidFill>
              <a:latin typeface="Calibri"/>
            </a:endParaRPr>
          </a:p>
        </p:txBody>
      </p:sp>
      <p:pic>
        <p:nvPicPr>
          <p:cNvPr id="535" name="Picture 3" descr=""/>
          <p:cNvPicPr/>
          <p:nvPr/>
        </p:nvPicPr>
        <p:blipFill>
          <a:blip r:embed="rId3"/>
          <a:stretch/>
        </p:blipFill>
        <p:spPr>
          <a:xfrm>
            <a:off x="760320" y="3809880"/>
            <a:ext cx="7624800" cy="142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6" descr="C:\Users\Drew\Desktop\arrow.jpg"/>
          <p:cNvPicPr/>
          <p:nvPr/>
        </p:nvPicPr>
        <p:blipFill>
          <a:blip r:embed="rId1"/>
          <a:stretch/>
        </p:blipFill>
        <p:spPr>
          <a:xfrm>
            <a:off x="4152960" y="4610160"/>
            <a:ext cx="762120" cy="190440"/>
          </a:xfrm>
          <a:prstGeom prst="rect">
            <a:avLst/>
          </a:prstGeom>
          <a:ln w="0">
            <a:noFill/>
          </a:ln>
        </p:spPr>
      </p:pic>
      <p:pic>
        <p:nvPicPr>
          <p:cNvPr id="537" name="Picture 2" descr=""/>
          <p:cNvPicPr/>
          <p:nvPr/>
        </p:nvPicPr>
        <p:blipFill>
          <a:blip r:embed="rId2"/>
          <a:stretch/>
        </p:blipFill>
        <p:spPr>
          <a:xfrm>
            <a:off x="0" y="990720"/>
            <a:ext cx="9144000" cy="60120"/>
          </a:xfrm>
          <a:prstGeom prst="rect">
            <a:avLst/>
          </a:prstGeom>
          <a:ln w="0">
            <a:noFill/>
          </a:ln>
        </p:spPr>
      </p:pic>
      <p:sp>
        <p:nvSpPr>
          <p:cNvPr id="538" name="TextBox 6"/>
          <p:cNvSpPr/>
          <p:nvPr/>
        </p:nvSpPr>
        <p:spPr>
          <a:xfrm>
            <a:off x="762120" y="1447920"/>
            <a:ext cx="7543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natomy of the Guided Discovery Style, the role of the teacher is to make all subject matter decisions, including the target concept to be discovered and the sequential design of the questions for the learner. The role of the learner is to discover the answers. This implies that the learner makes decisions about segments of the subject matter within the topic selected by the teacher.</a:t>
            </a:r>
            <a:endParaRPr b="0" lang="en-US" sz="1800" spc="-1" strike="noStrike">
              <a:solidFill>
                <a:srgbClr val="000000"/>
              </a:solidFill>
              <a:latin typeface="Calibri"/>
            </a:endParaRPr>
          </a:p>
        </p:txBody>
      </p:sp>
      <p:pic>
        <p:nvPicPr>
          <p:cNvPr id="539" name="Picture 6" descr="C:\Users\Drew\Desktop\arrow.jpg"/>
          <p:cNvPicPr/>
          <p:nvPr/>
        </p:nvPicPr>
        <p:blipFill>
          <a:blip r:embed="rId3"/>
          <a:stretch/>
        </p:blipFill>
        <p:spPr>
          <a:xfrm>
            <a:off x="4160880" y="5143680"/>
            <a:ext cx="762120" cy="190440"/>
          </a:xfrm>
          <a:prstGeom prst="rect">
            <a:avLst/>
          </a:prstGeom>
          <a:ln w="0">
            <a:noFill/>
          </a:ln>
        </p:spPr>
      </p:pic>
      <p:sp>
        <p:nvSpPr>
          <p:cNvPr id="540" name="TextBox 1"/>
          <p:cNvSpPr/>
          <p:nvPr/>
        </p:nvSpPr>
        <p:spPr>
          <a:xfrm>
            <a:off x="2859120" y="3962520"/>
            <a:ext cx="14760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re-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ost Impact</a:t>
            </a:r>
            <a:endParaRPr b="0" lang="en-US" sz="1800" spc="-1" strike="noStrike">
              <a:solidFill>
                <a:srgbClr val="000000"/>
              </a:solidFill>
              <a:latin typeface="Calibri"/>
            </a:endParaRPr>
          </a:p>
        </p:txBody>
      </p:sp>
      <p:sp>
        <p:nvSpPr>
          <p:cNvPr id="541" name="TextBox 2"/>
          <p:cNvSpPr/>
          <p:nvPr/>
        </p:nvSpPr>
        <p:spPr>
          <a:xfrm>
            <a:off x="3530520" y="4221000"/>
            <a:ext cx="812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ning)</a:t>
            </a:r>
            <a:endParaRPr b="0" lang="en-US" sz="900" spc="-1" strike="noStrike">
              <a:solidFill>
                <a:srgbClr val="000000"/>
              </a:solidFill>
              <a:latin typeface="Calibri"/>
            </a:endParaRPr>
          </a:p>
        </p:txBody>
      </p:sp>
      <p:sp>
        <p:nvSpPr>
          <p:cNvPr id="542" name="TextBox 8"/>
          <p:cNvSpPr/>
          <p:nvPr/>
        </p:nvSpPr>
        <p:spPr>
          <a:xfrm>
            <a:off x="3048120" y="4797360"/>
            <a:ext cx="12952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Calibri"/>
            </a:endParaRPr>
          </a:p>
        </p:txBody>
      </p:sp>
      <p:sp>
        <p:nvSpPr>
          <p:cNvPr id="543" name="TextBox 9"/>
          <p:cNvSpPr/>
          <p:nvPr/>
        </p:nvSpPr>
        <p:spPr>
          <a:xfrm>
            <a:off x="2679840" y="5324400"/>
            <a:ext cx="16635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edback and assessment)</a:t>
            </a:r>
            <a:endParaRPr b="0" lang="en-US" sz="900" spc="-1" strike="noStrike">
              <a:solidFill>
                <a:srgbClr val="000000"/>
              </a:solidFill>
              <a:latin typeface="Calibri"/>
            </a:endParaRPr>
          </a:p>
        </p:txBody>
      </p:sp>
      <p:sp>
        <p:nvSpPr>
          <p:cNvPr id="544" name="TextBox 1"/>
          <p:cNvSpPr/>
          <p:nvPr/>
        </p:nvSpPr>
        <p:spPr>
          <a:xfrm>
            <a:off x="4741560" y="3962520"/>
            <a:ext cx="19562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Teach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Teacher/Learn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Teacher/Learner</a:t>
            </a:r>
            <a:endParaRPr b="0" lang="en-US" sz="1800" spc="-1" strike="noStrike">
              <a:solidFill>
                <a:srgbClr val="000000"/>
              </a:solidFill>
              <a:latin typeface="Calibri"/>
            </a:endParaRPr>
          </a:p>
        </p:txBody>
      </p:sp>
      <p:pic>
        <p:nvPicPr>
          <p:cNvPr id="545" name="Picture 3" descr=""/>
          <p:cNvPicPr/>
          <p:nvPr/>
        </p:nvPicPr>
        <p:blipFill>
          <a:blip r:embed="rId4"/>
          <a:stretch/>
        </p:blipFill>
        <p:spPr>
          <a:xfrm>
            <a:off x="905040" y="6051600"/>
            <a:ext cx="237960" cy="228600"/>
          </a:xfrm>
          <a:prstGeom prst="rect">
            <a:avLst/>
          </a:prstGeom>
          <a:ln w="0">
            <a:noFill/>
          </a:ln>
        </p:spPr>
      </p:pic>
      <p:sp>
        <p:nvSpPr>
          <p:cNvPr id="546" name="TextBox 12"/>
          <p:cNvSpPr/>
          <p:nvPr/>
        </p:nvSpPr>
        <p:spPr>
          <a:xfrm>
            <a:off x="1143000" y="6040440"/>
            <a:ext cx="72388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57575"/>
                </a:solidFill>
                <a:latin typeface="Arial"/>
              </a:rPr>
              <a:t>The arrows represent the decision shifts from the Inclusion Style-E to the Guided Discovery Style-F.</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TextBox 2"/>
          <p:cNvSpPr/>
          <p:nvPr/>
        </p:nvSpPr>
        <p:spPr>
          <a:xfrm>
            <a:off x="762120" y="1676520"/>
            <a:ext cx="75438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tyle Summary</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Guided Discovery style, the role of the teacher is to make all subject matter decisions, including the target concept to be discovered and the sequential questions that lead to the target answer. The role of the learner is to be guided to discover the answer. This process implies that the learner makes decisions about segments of the subject matter within the topic. This sequential process invites the learner to make meaningful cognitive connections that lead to the discovery of new content—a concept, principle, relationship or ru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Box 2"/>
          <p:cNvSpPr/>
          <p:nvPr/>
        </p:nvSpPr>
        <p:spPr>
          <a:xfrm>
            <a:off x="762120" y="1676520"/>
            <a:ext cx="75438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Guided Discovery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over the interconnection of steps within a given 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over the "target" - the concept, principle, rul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erience a step-by-step discovery process - develop sequential discovery skills that logically lead to broader concept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Box 2"/>
          <p:cNvSpPr/>
          <p:nvPr/>
        </p:nvSpPr>
        <p:spPr>
          <a:xfrm>
            <a:off x="762120" y="1447920"/>
            <a:ext cx="75438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Guided Discovery style is achieved, the following behavioral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ross the discovery threshold</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gage the learner in the discovery of concepts and principles representing convergent thinking</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gage the learner in a precise cognitive relationship between the stimulus (given by the teacher or surrogate) and discovered respons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each both teacher and learner about cognitive economy - i.e., using minimal, accurate, and logical steps to get to a target</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an effective and affective climate conducive to engagement in the act of discovery</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the learner with the moment of "Eureka"</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Spectrum Institute for Teaching and Learning</dc:description>
  <dc:language>en-US</dc:language>
  <cp:lastModifiedBy>Drew</cp:lastModifiedBy>
  <dcterms:modified xsi:type="dcterms:W3CDTF">2013-11-22T21:31:03Z</dcterms:modified>
  <cp:revision>9</cp:revision>
  <dc:subject>Spectrum of Teaching Styles</dc:subject>
  <dc:title>Guided Discovery Style-F</dc:title>
</cp:coreProperties>
</file>