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B37B-C1EC-4C6E-956C-E3186DC53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2CDB-528D-4146-ACA5-8EDC31C66D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D18D-5C86-41D0-A845-DCD75C4E67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A5D8BB-C17B-4E01-A3CA-36636DC33B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1CB934-419F-4702-A825-AE45587830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5A5014-0D7C-48D1-ABC4-3519591572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043441-E6D2-421E-9FD6-08A72660A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795980-C803-42DC-BE5E-9C978F243D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DF32A-69EF-4398-866B-28CE8303F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40946E-770A-4FC6-8E1D-5B1ACADB5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23708D-1E4A-4ACD-8D09-37186879AF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70B993-5B13-4301-AD8B-CE74397187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B243F6-511E-414D-A280-666E1DE256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FA3AC6-E6A9-44CB-9033-CC89EB2216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9A1BE-CA98-478D-944E-38523A9D43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74BE9-4F8A-4581-B4C4-9D26C85D4D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51515-31AF-4580-9526-32D59F2BE5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38E635-9B1D-49E4-9B2E-062C4A23E5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AC2EB6-4A85-489B-B312-AECAD03BC0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AF9756-B7FF-4FA7-9CFB-3D1AB0B91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B12D6E-9126-48E6-9140-1DD938EAF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B6260D-6002-4C30-A6EB-2A95FB718B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1B309A-1486-4506-B888-00F2EBB293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77C442-8B97-4843-9283-37B6F9B17B7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9BA74E-FED6-49FF-8A14-3CB1F05FB5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3D739-8A49-4055-A673-E58A5F627E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5BD7DC-8FC1-435A-95EF-235CF41F1A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91E75D-9447-4B82-B0A8-0376F2977E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14E83F-6964-4FA7-8D9C-77D6696065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A8F56C-CF6A-4A58-8087-B55E5F6C6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2B6012-DB76-460C-9880-E43970FBC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A59210-0C2A-4697-B5D7-ECF9B30E6C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09265-64CD-47B5-9CCE-9D0726BDC2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EC0DA5-44C6-4F19-BC54-C8CCB2EA4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59F9C5-9117-4B8C-86AF-F11021AEC6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D1BE22-9CA2-4FB9-91BF-8B2F97CA03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C808F7-44CA-4DCC-8583-3F79A63C94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7B225CB-7480-40DA-8983-A8A898F54C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E9956F-A41A-43B9-BFA1-D87D3DC7A8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930BBB-A044-457E-96E5-14E41FAF66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BB09EB-AFD4-42EC-A933-F4E014F452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398F0B-04E1-4705-8CCC-E790EDAB84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47C9AB-9F0D-4A50-BCFB-9390146B12A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045D44E-97F7-456F-AB6A-8D5A59C28B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BF348-2CE0-4A53-9A83-61D27E0A8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FF0A44-8C3B-452E-BDF5-C939250AA6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4AB57E-9761-40B3-83F7-38A1D086D6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A702B2-B015-44BA-9D38-2F434A8655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8CFDFD-A8E4-4504-968A-DE1AB8E95E2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D8A443-B1E0-4978-AFAB-A1D03E6D9D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ECDA-A7C6-476E-8307-1FA5CF0C8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51032-38A9-4B50-9FE7-B853BD1F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E1361-403F-4F15-8B7E-3C836D617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100C2-24D7-44A3-9294-1A853DF65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1415C-C9BB-4270-AC18-5249BA4F3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45B16-2084-425F-A2AE-D411A4B6A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6C307-E9AB-4029-9A4F-0026433C3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677F2-C1DD-4049-8C6E-72DE16C9D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BDF8E-6455-4625-93D6-CFC2CD124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EE5AB-40A3-426E-AEA1-CF89D6128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D8342-BB44-4D21-B2C0-C1B97BBED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F3158-1717-487C-98F4-88D1BEC57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F1DCAD-6170-4554-A860-BDE676755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5E0D2-3D06-408C-84FE-1EE4E98F0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C61627-41BD-4D5A-BBBF-9EDEFCB5D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05119-733B-4EAF-989D-515D61CC8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DD7AB-9F46-4F5B-BF5E-3E77DB46A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3DC97-4E9F-4117-B28D-671D18337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54887-84FB-415A-9ED7-6E607E222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8A573-610D-4DC7-B77A-DF01C2DC1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9235C-7DC2-4778-AB19-C7BB79F20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B6FAF-B44A-4B7C-BDA1-5A677FA73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C98CB6-DCBD-4C42-9614-325BB68D0A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0CBF9-D383-4381-A321-BA35B974A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4AF5C-C734-44C3-9990-A360D36BD2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34826-18BF-4D35-A1C6-67AB55264E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FC8A5-9B7F-4A8D-834A-3C2E50A53A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B6FA92-3464-4C19-B596-EF5CF0115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FDE0DF-AB41-4644-9613-AC2CA58FFF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C50D2-0C29-473D-91C1-2A39700F7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7EDE40-BA1F-46BF-BF13-CE0A54022D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A80C4E-3B92-4736-B305-361D22228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532C70-3802-43EE-95A6-BDFB22FF20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A97218-59D1-4A0F-B5BB-A4E64B1F25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CF85C8-69FE-4A88-8EF4-F411671C70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F29B2-CF76-4AAE-A993-EF86FEBF76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0C264-07AF-4CFA-9A94-441E0A9161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ED63F0-EF3D-4AD0-A635-CEFCBF0E3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D21D9-C4EB-49DE-B2C8-196D144E34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BC40BB-38B6-48A8-8C5E-294F201AF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609D6-125E-4A05-B394-8B1851CC49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BE521-5423-4F4E-ADDE-5582783C5B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3F7FA2-FC1F-4581-8998-B1CE3E313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84AA64-3022-4DE6-AD26-1CC94D60FC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D78483-96E5-4BF5-A79F-A6368E07B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1BFDDE-4181-4EC5-B953-3110BA8AFC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D010F5-872A-48E0-9234-E0BB77349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A8EBB9-ABDC-4C11-AC01-99748F113D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FA7CA-B439-4184-B36C-9B802C6C9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6C3FA3-FF5B-417D-A7E6-AE27BCE54B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E617F-B40F-4552-BB58-4647C43747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378B56-F228-48F6-B07F-16F94C2CE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8D6DFA-F22C-4615-BC63-7D56E5D34E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C4D19-B02A-4E65-9BC3-B2E59DFD1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8D9BC4-1EF3-4468-8249-444C9E36C5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DCF5A-D429-471E-9F9A-66C5DFD90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7365B7-C69B-444C-9D38-437C2F1ED1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3C1EE5-6BA5-4E1B-99E2-18B7FE485F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146307-E06F-4FE1-95BC-547581EDB2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B63D37-F991-4DA0-B657-6EC0AF97F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89C4F3-E9B8-401C-A20D-8949F2DFB2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4664E-8590-4AF5-A50A-5A4D92DE93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589CA-6D9E-4551-B353-D49FAC1B54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E348F0-1B9C-40C4-A65F-F234E1ED04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B7036D-C76C-435E-A6D9-71BAA8B411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EE0CE2-97BD-47BC-8D6A-62D6C6A902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B682B-913E-4B78-BE11-46828D7F0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EE310-3960-4F34-84A2-85457D777E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A1F714-D1A8-449D-9EC2-5F6BB0A99F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D879D5-A066-48CE-809B-FDEBB187F7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585024-F1FC-431E-BE95-EF9097BAE26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AF6AE5-4116-415D-B5D1-ACC8019F1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0E64E2-36DB-4419-8460-4FDFF2B932B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B594-4DC7-4E9E-89F1-E683B754A2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903F-6737-41AF-ADD7-57226003FD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FA7C-A70A-4811-808D-7E71C51F8B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799F-0538-4C6D-BDD9-091A9E39A1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C376-17BC-4E22-AEC5-27B6E28B1E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1296-A367-4BEC-90B4-CC722ACC856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40CE-6034-413C-8B2E-A4A1A89D78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5809-9CE4-495A-A845-6F518BA226B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2C73-5C14-40C4-8617-CCD3B53AD1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Teaching Style-K</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ED2D-52E0-469B-8605-D6AE853F8F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7.jpeg"/><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30480"/>
            <a:ext cx="761976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Self-Teaching Style*</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yle is independent of and not initiated by the teacher. The learner takes the role of both student &amp; teacher setting all learning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er self-initiates and is independently motivated to engage in the self-determinedlearning experience. The learner makes decisions about subject matter intent, design, execution, and assessment of the learning experiences. Feedback from others is ought only IF the learner seeks i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tyle is outside the realm of the classroom environment.)</a:t>
            </a:r>
            <a:endParaRPr b="0" lang="en-US" sz="1800" spc="-1" strike="noStrike">
              <a:solidFill>
                <a:srgbClr val="000000"/>
              </a:solidFill>
              <a:latin typeface="Calibri"/>
            </a:endParaRPr>
          </a:p>
        </p:txBody>
      </p:sp>
      <p:pic>
        <p:nvPicPr>
          <p:cNvPr id="522" name="Picture 2" descr=""/>
          <p:cNvPicPr/>
          <p:nvPr/>
        </p:nvPicPr>
        <p:blipFill>
          <a:blip r:embed="rId1"/>
          <a:stretch/>
        </p:blipFill>
        <p:spPr>
          <a:xfrm>
            <a:off x="762120" y="1676520"/>
            <a:ext cx="7584840" cy="1066680"/>
          </a:xfrm>
          <a:prstGeom prst="rect">
            <a:avLst/>
          </a:prstGeom>
          <a:ln w="0">
            <a:noFill/>
          </a:ln>
        </p:spPr>
      </p:pic>
      <p:sp>
        <p:nvSpPr>
          <p:cNvPr id="523" name="TextBox 2"/>
          <p:cNvSpPr/>
          <p:nvPr/>
        </p:nvSpPr>
        <p:spPr>
          <a:xfrm>
            <a:off x="1981080" y="174780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Self-Teaching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6033960"/>
            <a:ext cx="237960" cy="228600"/>
          </a:xfrm>
          <a:prstGeom prst="rect">
            <a:avLst/>
          </a:prstGeom>
          <a:ln w="0">
            <a:noFill/>
          </a:ln>
        </p:spPr>
      </p:pic>
      <p:sp>
        <p:nvSpPr>
          <p:cNvPr id="525" name="TextBox 3"/>
          <p:cNvSpPr/>
          <p:nvPr/>
        </p:nvSpPr>
        <p:spPr>
          <a:xfrm>
            <a:off x="1219320" y="595296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he content in this style is new and not known in advance to the learner. Styles F-K promote different structures for discovery learning and different cognitive oper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523880"/>
            <a:ext cx="761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Self-Teaching style are individual tenacity and the desire to construct one's own learning experiences. This teaching-learning style does not exist in the school or classrooms. This style is governed by the individual's decision making expectations and desires.</a:t>
            </a:r>
            <a:endParaRPr b="0" lang="en-US" sz="1800" spc="-1" strike="noStrike">
              <a:solidFill>
                <a:srgbClr val="000000"/>
              </a:solidFill>
              <a:latin typeface="Calibri"/>
            </a:endParaRPr>
          </a:p>
        </p:txBody>
      </p:sp>
      <p:pic>
        <p:nvPicPr>
          <p:cNvPr id="528" name="Picture 3" descr=""/>
          <p:cNvPicPr/>
          <p:nvPr/>
        </p:nvPicPr>
        <p:blipFill>
          <a:blip r:embed="rId2"/>
          <a:stretch/>
        </p:blipFill>
        <p:spPr>
          <a:xfrm>
            <a:off x="776160" y="3981600"/>
            <a:ext cx="7591680" cy="1428480"/>
          </a:xfrm>
          <a:prstGeom prst="rect">
            <a:avLst/>
          </a:prstGeom>
          <a:ln w="0">
            <a:noFill/>
          </a:ln>
        </p:spPr>
      </p:pic>
      <p:pic>
        <p:nvPicPr>
          <p:cNvPr id="529" name="Picture 3" descr=""/>
          <p:cNvPicPr/>
          <p:nvPr/>
        </p:nvPicPr>
        <p:blipFill>
          <a:blip r:embed="rId3"/>
          <a:stretch/>
        </p:blipFill>
        <p:spPr>
          <a:xfrm>
            <a:off x="905040" y="6006960"/>
            <a:ext cx="237960" cy="228600"/>
          </a:xfrm>
          <a:prstGeom prst="rect">
            <a:avLst/>
          </a:prstGeom>
          <a:ln w="0">
            <a:noFill/>
          </a:ln>
        </p:spPr>
      </p:pic>
      <p:sp>
        <p:nvSpPr>
          <p:cNvPr id="530" name="TextBox 5"/>
          <p:cNvSpPr/>
          <p:nvPr/>
        </p:nvSpPr>
        <p:spPr>
          <a:xfrm>
            <a:off x="1219320" y="587700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6" descr="C:\Users\Drew\Desktop\arrow.jpg"/>
          <p:cNvPicPr/>
          <p:nvPr/>
        </p:nvPicPr>
        <p:blipFill>
          <a:blip r:embed="rId1"/>
          <a:stretch/>
        </p:blipFill>
        <p:spPr>
          <a:xfrm>
            <a:off x="4160880" y="4692600"/>
            <a:ext cx="762120" cy="190440"/>
          </a:xfrm>
          <a:prstGeom prst="rect">
            <a:avLst/>
          </a:prstGeom>
          <a:ln w="0">
            <a:noFill/>
          </a:ln>
        </p:spPr>
      </p:pic>
      <p:pic>
        <p:nvPicPr>
          <p:cNvPr id="532" name="Picture 6" descr="C:\Users\Drew\Desktop\arrow.jpg"/>
          <p:cNvPicPr/>
          <p:nvPr/>
        </p:nvPicPr>
        <p:blipFill>
          <a:blip r:embed="rId2"/>
          <a:stretch/>
        </p:blipFill>
        <p:spPr>
          <a:xfrm>
            <a:off x="4152960" y="3625920"/>
            <a:ext cx="762120" cy="190440"/>
          </a:xfrm>
          <a:prstGeom prst="rect">
            <a:avLst/>
          </a:prstGeom>
          <a:ln w="0">
            <a:noFill/>
          </a:ln>
        </p:spPr>
      </p:pic>
      <p:pic>
        <p:nvPicPr>
          <p:cNvPr id="533" name="Picture 2" descr=""/>
          <p:cNvPicPr/>
          <p:nvPr/>
        </p:nvPicPr>
        <p:blipFill>
          <a:blip r:embed="rId3"/>
          <a:stretch/>
        </p:blipFill>
        <p:spPr>
          <a:xfrm>
            <a:off x="0" y="990720"/>
            <a:ext cx="9144000" cy="60120"/>
          </a:xfrm>
          <a:prstGeom prst="rect">
            <a:avLst/>
          </a:prstGeom>
          <a:ln w="0">
            <a:noFill/>
          </a:ln>
        </p:spPr>
      </p:pic>
      <p:sp>
        <p:nvSpPr>
          <p:cNvPr id="534" name="TextBox 6"/>
          <p:cNvSpPr/>
          <p:nvPr/>
        </p:nvSpPr>
        <p:spPr>
          <a:xfrm>
            <a:off x="762120" y="132876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Self-Teaching style, the individual participates in the roles of both teacher and learner and makes all the decisions—in the pre-impact, impact, and post-impact sets.</a:t>
            </a:r>
            <a:endParaRPr b="0" lang="en-US" sz="1800" spc="-1" strike="noStrike">
              <a:solidFill>
                <a:srgbClr val="000000"/>
              </a:solidFill>
              <a:latin typeface="Calibri"/>
            </a:endParaRPr>
          </a:p>
        </p:txBody>
      </p:sp>
      <p:pic>
        <p:nvPicPr>
          <p:cNvPr id="535" name="Picture 6" descr="C:\Users\Drew\Desktop\arrow.jpg"/>
          <p:cNvPicPr/>
          <p:nvPr/>
        </p:nvPicPr>
        <p:blipFill>
          <a:blip r:embed="rId4"/>
          <a:stretch/>
        </p:blipFill>
        <p:spPr>
          <a:xfrm>
            <a:off x="4160880" y="4159080"/>
            <a:ext cx="762120" cy="190800"/>
          </a:xfrm>
          <a:prstGeom prst="rect">
            <a:avLst/>
          </a:prstGeom>
          <a:ln w="0">
            <a:noFill/>
          </a:ln>
        </p:spPr>
      </p:pic>
      <p:sp>
        <p:nvSpPr>
          <p:cNvPr id="536" name="TextBox 1"/>
          <p:cNvSpPr/>
          <p:nvPr/>
        </p:nvSpPr>
        <p:spPr>
          <a:xfrm>
            <a:off x="2859120" y="351144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7" name="TextBox 2"/>
          <p:cNvSpPr/>
          <p:nvPr/>
        </p:nvSpPr>
        <p:spPr>
          <a:xfrm>
            <a:off x="3530520" y="377028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8" name="TextBox 8"/>
          <p:cNvSpPr/>
          <p:nvPr/>
        </p:nvSpPr>
        <p:spPr>
          <a:xfrm>
            <a:off x="3048120" y="434664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9" name="TextBox 9"/>
          <p:cNvSpPr/>
          <p:nvPr/>
        </p:nvSpPr>
        <p:spPr>
          <a:xfrm>
            <a:off x="2679840" y="487368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40" name="TextBox 1"/>
          <p:cNvSpPr/>
          <p:nvPr/>
        </p:nvSpPr>
        <p:spPr>
          <a:xfrm>
            <a:off x="4745160" y="3511440"/>
            <a:ext cx="10173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p:txBody>
      </p:sp>
      <p:pic>
        <p:nvPicPr>
          <p:cNvPr id="541" name="Picture 3" descr=""/>
          <p:cNvPicPr/>
          <p:nvPr/>
        </p:nvPicPr>
        <p:blipFill>
          <a:blip r:embed="rId5"/>
          <a:stretch/>
        </p:blipFill>
        <p:spPr>
          <a:xfrm>
            <a:off x="828720" y="5726160"/>
            <a:ext cx="237960" cy="228600"/>
          </a:xfrm>
          <a:prstGeom prst="rect">
            <a:avLst/>
          </a:prstGeom>
          <a:ln w="0">
            <a:noFill/>
          </a:ln>
        </p:spPr>
      </p:pic>
      <p:sp>
        <p:nvSpPr>
          <p:cNvPr id="542" name="TextBox 12"/>
          <p:cNvSpPr/>
          <p:nvPr/>
        </p:nvSpPr>
        <p:spPr>
          <a:xfrm>
            <a:off x="1066680" y="5715000"/>
            <a:ext cx="74678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57575"/>
                </a:solidFill>
                <a:latin typeface="Arial"/>
              </a:rPr>
              <a:t>The arrows represent the decision shifts from the Learner Initiated Style-J to the Self-Teaching Style-K.</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
          <p:cNvSpPr/>
          <p:nvPr/>
        </p:nvSpPr>
        <p:spPr>
          <a:xfrm>
            <a:off x="762120" y="1676520"/>
            <a:ext cx="754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elf-Teaching style, the individual participates in the roles of both teacher and learner and makes all decisions - in the pre-impact, impact, and post-impact se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Box 2"/>
          <p:cNvSpPr/>
          <p:nvPr/>
        </p:nvSpPr>
        <p:spPr>
          <a:xfrm>
            <a:off x="762120" y="1676520"/>
            <a:ext cx="754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Teaching style does not have a specific designated set of objectives. The individual’s cognitive, emotional, ethical, social needs and desires determine the specific object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Box 2"/>
          <p:cNvSpPr/>
          <p:nvPr/>
        </p:nvSpPr>
        <p:spPr>
          <a:xfrm>
            <a:off x="762120" y="1322280"/>
            <a:ext cx="7619760" cy="45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lf-Teaching style is motivated by the objectives that the individual has established to be achieved.</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internal logic of the Spectrum leads to the realization that it is, indeed, possible for a person to make all decisions for him/herself. This behavior cannot be initiated or assigned by a teacher; however it does exist in situations when an individual is engaged in teaching, producing, discovering, expressing him/herself.</a:t>
            </a: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s style is NOT reserved for only the Leonardo da Vinci or Edisons. It could be for any person who fathoms the intricacies of a complex hobby, an individual who is fascinated by and driven to know something, or a scientist who is propelled to understand the unknown. It could be for any person who is bold enough to push back boundaries, tenacious enough to endure obstacles, and mantic enough to march to a different drummer.</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Spectrum Institute for Teaching and Learning</dc:description>
  <dc:language>en-US</dc:language>
  <cp:lastModifiedBy>Drew</cp:lastModifiedBy>
  <dcterms:modified xsi:type="dcterms:W3CDTF">2013-11-22T21:38:52Z</dcterms:modified>
  <cp:revision>9</cp:revision>
  <dc:subject>Spectrum of Teaching Styles</dc:subject>
  <dc:title>Self-Teaching Style-K</dc:title>
</cp:coreProperties>
</file>