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6924-6E44-40AA-891F-99B7AE2C3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3A87-7B4A-4245-AC1D-8D6E6184DD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BF47-89DE-4705-B2C7-2D1AEE0CC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7E4E31-AC9D-45C3-B4EA-D7DA7B165C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7D972B-5EF4-4C3F-8B91-A45CAE08CE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0121D7-6431-4B68-B822-2F1DBAC84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29D48-C606-4E65-8FA0-CB25EA7B28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1841D-04CD-43C8-BFB5-553CBF64D1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42FF8-E41B-4698-A576-8053E7C64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E5CDED-DAE9-4F09-8B6F-FE1C33F9A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BD9AD8-A3D9-4EDD-873A-1867A895C2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DC0D3D-8E47-4626-AE27-CE27CDA5C0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564696-9099-49ED-A27E-E5367D2E38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D53A45-EDB6-443D-8FA9-FB4023FA14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5C9960-4157-4F81-9182-2713557977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A84FA2-0014-4288-8C25-09853BAA87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93FADD-EBB5-481B-8A4E-80C4C690E2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B1469-CA58-4D1C-96C7-E5449AF519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26244B-6CDD-41E0-9ED8-F237E7950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144C0A-F653-40CD-A364-5281E5F91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BEF345-63DC-4894-B46C-27FDE3A5A8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BD0BE7-8567-4C10-AE64-69BC7E880A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A8140B-9FB6-44E4-92A5-4248D5226A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FD057A9-6B7C-4BDF-AE5D-D7A05DF39B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31E6A9-AB91-4E08-BA3D-69E5614C21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705A71-9978-4068-A214-267A9E4371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B3F859-C570-4069-9607-D2F71F57FD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B657A2-EF9C-4E97-A980-B4485C141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0AFEA9-D761-480D-97A1-8C4E6E9CA9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E676A3-CEC5-4BC4-A2DF-BDDC3A471E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BAE5A5-A0F1-4944-96C6-22A634124C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1D2CBF-101F-4E94-9C55-CA16A55D9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CDB1B9-0048-4C9D-BE4E-70A56D6E1E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171D47-10C8-43D6-BD5B-EC8D19141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B1F22E-747C-406B-B98D-A9F082F08F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A26795-4E50-4140-BF8B-4FF5B40E23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9A0D2E-8472-4780-A3AA-C95B2563E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DB17945-7B32-4867-BFB5-BDAACCD6B7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B93644-FAE8-49CB-9717-1A65E0BA04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0D78A-687C-4754-AA01-4B8F6B95CD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DD12968-C846-4763-A9B2-104CB9F573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3C873E-8174-44C2-887F-4E43A98725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F2951D-2F66-48B4-87F0-57305349AE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61D822-6579-431C-B0C6-2411F1A792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D2565-BDA7-4DF9-B9C3-79CC29061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EE3AA9-23B9-4EFF-9D5C-7F50734D64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15186B-705D-4209-81CE-BAC83362CC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31EA4A-4951-4E6A-97D2-8CD13FADA5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DCE1513-8004-4F64-B7D1-FAA1D965A2F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ABF2EB8-3208-4BE7-A369-41738F8A10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EC0D4-A3D8-4783-A080-8623B6286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5A185-AAF1-4827-9C20-CAF4A31766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39239-8EF2-4A85-BE17-5FA373CE4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645E8-7392-41B4-ACEB-580C76812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99FBD-68F0-44DB-8709-53482EFD1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4125-648C-4C32-8C0C-C9041A32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38CC-1EA3-41C0-98E0-D83503E2A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FA408-AC3E-41DF-AFAA-6D8F11329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5AF16-2E59-4A52-BBEC-790CBE9B16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7B872-686A-44A0-AEFA-12E818D75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33718-AEFB-4DDD-952C-63094E944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DDB2-8EB5-4617-831D-1E83BEF24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C8CB7-671C-4D0F-BFA8-DDF1F6D4A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6DA01-1E71-43E3-9AA9-4BA104379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E6858-3600-47F9-86EE-574B3278F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E00C7-46D8-4513-8623-D63A24019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E6222-A29B-4298-B257-141BF068B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34539-D641-4936-B13B-75A653C17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B3F63-31C5-4C0E-BB63-27F51208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0B738-7ECD-46DA-A13F-529051AD7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C9DD9-5D08-49EB-8833-63D1C4D4E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1CD0F6-E586-404E-B0F4-27CB8964C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E1DE18-0C47-4CBE-9E56-3F51ADAD1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F34C1-A087-4D82-920F-B4EA53C8A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4A89DE-5216-44CE-8349-4C710B0DFF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1F333-7643-4AC7-971F-358C03255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19034E-00F8-47FC-A6E1-C2D6F4B410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2F79F-DB45-418B-9358-D6556CC2AE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A1164D-F474-45F5-9BF8-61CF94426C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8F224-6484-4A9D-81E5-A0EC8F7C10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1C496E-04D7-49FB-96AC-55317797AD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8E789C-7150-465A-B7CE-13F1D216DB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78904A-6AE0-4A27-94B4-9297355A3B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2AE804-56A1-41FF-AC48-D64824ED1D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C8FBC3-9443-40B6-9673-3F77E0408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4B4CF-B431-48A8-9DC9-37CB055984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2F7642-BDE3-4F18-BDDE-EE568D5C8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F0DAE4-22CD-428B-86F4-E02908326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9DE5E-727B-4CF7-B073-95EAA2B656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D5680-B3C6-4BE2-977D-65A5DB5E56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4AF75F-7E4F-4C00-8C58-C0A61EFD9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91D70-5D9F-4039-8545-A429BD18E6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8F2DA6-5C05-4F32-9720-1E4D0CF6FE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E40493-ED28-435F-8C9D-84F77F55A2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75CBCD-70BD-4EB1-8FA8-3CF1D1A8AA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B36E87-1025-46A5-A07E-C3EC9574CE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AF07ED-0BA9-4121-810C-703B0CDF7F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7C7037-D062-4771-B212-B742836580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53EF8B-41F8-47AB-BA1B-BB7DD7B934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705504-4C4A-4F17-ACF8-18B8E5699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C83AE9-BF30-4F94-AED2-D0A168CEE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E90B3-CB3B-4804-9CA0-BA4087684C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54C1C-DC44-4DBA-8A93-31ABF79AB5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A8E8B-18A7-4F0B-A61C-98676EA8E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E863B-9329-4C4F-8567-38BFF101D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1757F3-5885-4F3B-BB3F-D889B7685B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ABC678-D252-4167-9BD5-9A79B23CC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EE34D2-1633-4F63-BD40-0C483B5630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082CB4-3543-475E-BF33-01C213FEF2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A268E-5AF5-4BA8-981A-8F7D2A931E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0C8C31-0FD5-4C6A-85AC-63A733591F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4A2D13-FFD1-4829-8C1A-7AC4BD0BDE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927818-2D8D-43F3-B01B-80DB77FA19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538B7E-BE17-4086-AC70-A8310BBFB5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F6481-33E7-4F89-8B9C-E71014E957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B77D1-F797-4775-9181-394D791D88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F5F9F-3B87-43F7-A5D3-8CC4B5993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C80DA-1F87-4F06-8BCB-59BCAA953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221DD9-C342-4572-AFCE-4FE3F6CF29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BB26CD-82DF-4CCF-813C-8456DEB466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6B1A8-EE8C-4FBF-9BDB-ED90C9CA22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69DC3D-D8F3-44C3-BC4D-CC0ECDA234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A2C2C9-5D36-465E-A77F-C77B1D8F7AC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A71F-F9E8-4875-AA31-5F609C22FC8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E4A3-A6A8-4C1D-83FD-37D72FC7F6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A4DB-1179-4C93-95C8-5852C7D247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E3DF-8D41-4EAF-BC33-76ACD1801D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4D540-8E33-4578-A8B9-AB3ADD2612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4942-63CC-4887-8100-6B648E5C9C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5B5F7-804F-49E9-B10F-4BF442B6EC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CE2B-8073-46BA-88F7-F5D883E7DE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F3D07-3D4E-4396-B620-3329A7E397B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earner-Designed Individual Program</a:t>
            </a:r>
            <a:r>
              <a:rPr b="0" lang="en-US" sz="2200" spc="-1" strike="noStrike">
                <a:solidFill>
                  <a:srgbClr val="000000"/>
                </a:solidFill>
                <a:latin typeface="Arial"/>
                <a:ea typeface="Arial"/>
              </a:rPr>
              <a:t>-Style I</a:t>
            </a:r>
            <a:endParaRPr b="0" lang="en-US" sz="2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51E1-4331-4BE9-AD24-147BBC9F25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Learner-Designed I.P. Style is the independence of each learner to investigate a broad problem, situation or issue and produce a workable, detailed plan/program that resolves the specific content focus that each learner identified.</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65760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371600"/>
            <a:ext cx="75438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Learner- Designed I. P. style, the role of the teacher is to make general subject matter logistical decisions for the learners. The role of the learner is to make decisions about how to investigate the general subject matter topic: to produce questions that lead to a specific focus within the general topic, to produce the questions that result in identifying the process and procedures, to discover the solutions/movements, and to designate the performance criteria.</a:t>
            </a:r>
            <a:endParaRPr b="0" lang="en-US" sz="1800" spc="-1" strike="noStrike">
              <a:solidFill>
                <a:srgbClr val="000000"/>
              </a:solidFill>
              <a:latin typeface="Calibri"/>
            </a:endParaRPr>
          </a:p>
        </p:txBody>
      </p:sp>
      <p:sp>
        <p:nvSpPr>
          <p:cNvPr id="526" name="TextBox 2"/>
          <p:cNvSpPr/>
          <p:nvPr/>
        </p:nvSpPr>
        <p:spPr>
          <a:xfrm>
            <a:off x="2514600" y="401472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Learner-Designed Individual Program style, the role of the teacher is to make general subject matter logistical decisions for the learners. The role of the learner is to make decisions about how to investigate the general subject matter topic: to produce questions that lead to a specific focus within the general topic, to produce questions that result in identifying the process and procedures, to discover the solutions/movements, and to designate the performance criter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Learner-Designed Individual Program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create, and organize ideas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subject matter that deals with a complex issue over an extended period of tim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ngage in a systematic process to explore and examine an issu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set standards of performance and evaluation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Learner-Designed Individual Program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commodate individual differences in thinking and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ovide an opportunity for the learner to experience increased independence over a relatively long period of tim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ercise perseverance and tenacit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ovide opportunities for individuals to be self-direct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8:43Z</dcterms:modified>
  <cp:revision>6</cp:revision>
  <dc:subject/>
  <dc:title>Command-Style A</dc:title>
</cp:coreProperties>
</file>