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2E4D-F5A0-4DB8-9556-01B0241268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subject matter objectives apply to each and every Command Style episode.  All episodes must answer the ques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 doing what you are doing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y are your reasons for doing what (the subject matter) in the Command Sty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 subject matter objectives listed above apply to this content.  Adhering to a predetermined model and reproducing a specific model by immediate performance enhances the behavior objective of safety.  each of the other objectives complement  content achiev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y of each episode.  The content and the behavior expectations (why) of each episode determines the ranking of the subject matter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 matter selection is a factor of curriculum decisions.  The order, sequence of presentation, appropriateness and many other factors must be assessed to determine the worthwhileness of each individual episode.</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A7AD-A074-4508-A158-FED4139BA1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of the above list of behavior objectives apply to each and every Command Style episode.  All episodes must answer the question:  Why are you doing what you are doing in the Command Style?  Why always influences the order of importance of the above behavior objectives and subject matter objec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precision parachuting episo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eason (why) the Command Style is selected is safety and the importance of following directions on cue. Then, to achieve a synchronized aesthetic routine, conformity and uniformity are needed; and that enhances the espirit de corps and the socialization of the individuals into the norms of the group...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 and the behavior expectations (why) of each episode determines the ranking of the behavior objectives.</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99DC-C905-4EE1-BE3A-B3161DAB0E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937CB7-C7AA-437F-B0B2-8A4B53A75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15E48D-4F59-4524-A0E3-A0FFE4FB32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EFD134-4A24-4468-A136-F0EC4565E3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BA946-B4F0-48B3-B0AB-541940FCB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CB449B-305E-43DF-8FDA-5CCBD0BCE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8CFAB0-E10F-420A-BBA7-4D9CE5AB4C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52ABDF-BA0C-4516-9068-8B5B8A96C4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46C19C-ABA0-4979-BF7E-7A61872D5B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700846-2F6F-4982-B4E2-B5F105D109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8A41D7-A41A-427F-A4A1-D2BDB66A89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B567E4-4909-4232-9725-2739FE2790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38D67A-E5EE-42AB-AEA3-4107278C07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E506E5-ED44-488E-89AD-A2908F0CC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E7D107-9344-4546-ABB9-F20D8929FE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BCBE61-9E25-459C-A79A-0BB60E850A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F8D5E6-0197-4E28-9DCA-3ED3D392C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179E74-9C6F-4DD3-A8DE-10B43F5BB1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2C333D-3D9E-4FE5-BD9E-21B5D50C1F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A4051-8C3E-428E-A5F0-5B154739EA0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38526C-43D0-453D-855D-DAB64D1B80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89630F-C0B2-4BF8-9F49-BF388EE51B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94937E-6FC4-4B62-A5FE-DB49FA1A1E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B2482-CDC9-4B26-9048-AED2648D3E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946F32-CE6F-4EEE-966B-78BA5AB2D3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6DA1ED-A23E-4859-9E96-6B7949E7C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7DD33C-95B1-4F98-9473-5613BCCA3F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61300B-4810-471A-9BD0-335C61291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7E0932-7798-4093-A335-FDEBC41FB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F7DF37-E796-4E20-8D86-6E715FF6C8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522D33-43A8-43BA-A5F4-A153A60C30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17EF6C-7094-44C8-B039-323D7CCEE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C2AAB-AF21-4C5B-A80F-0BA7395F7F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009B6F-AA0C-4DF3-A934-28BEC8B107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F86D6A-C587-4C73-BDC6-E64AFC3C85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007CD73-2398-485F-B594-24719ACF27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A73450-DC3B-4D58-9895-139A07461B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9F76AA-9856-4C36-9DB0-251BF64A98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CD49686-772F-4FAD-AA56-48B6870EF4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3C4C86-4501-464F-9F2C-2716312239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7F8273-5F44-4932-8713-B55FD9EE4E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E0231E-BCF9-4CE8-B82A-285CD674D8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78D3A-29D8-4B29-A3F9-5AEE5BD4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744FED-3010-4FF6-AED9-337E88AC47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72FBBF-1723-4FD3-AD94-80670198A7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837088C-5E1B-4A0C-96E0-6472DAB2EA2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C9BE7C5-22D5-4B7C-BD46-B072333AD9D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EA4205-888D-4AA5-95AE-B3C1B7001D1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F187B-A79D-45DC-9585-DFF00DCC2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5914-0958-4227-ADB0-756DA2A3C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C897B-C11F-4067-A6BD-1B61E95F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FDE4E-F081-4A8F-8A5E-94CA0142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AA701-E350-40CC-BD15-8D1B3D49D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6B02-6063-4666-95AA-61D7CDE83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3509-C454-4760-8824-9B0EA4EF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6EA4C-C7A7-4BA1-9620-18225803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B01EA-D62C-4239-8694-18C9CEB52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4A5C9-9AD3-4213-8847-236A8A3BE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B9CEAB-DC47-43E0-983C-DB1975B31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E5880-0BC1-41F1-8A1F-1A399E8588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98DF9-62D6-48BA-BEAA-9D967C896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0995B1-85FC-435C-B83E-F3D16E446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AB46C-ED3C-4B8C-BB35-0EED4A635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4C83F-2A8B-478A-9DFB-07D8647F3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781DB-3719-4B0E-80B8-19BD5EC81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370C0-C574-4848-9A39-A158DEC118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20D12-EC0D-4B11-93AF-2FFF756EF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FAF82-5F92-4798-A96E-2FB5888E7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7CA361-1491-4304-9B3B-B9EBF7EBA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B12A1-E5FD-46DD-817E-4C7377F65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FB9D36-F580-4F24-BDEE-872724A630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477C2D-D78F-481B-A82F-B26654F9A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308D7-A009-4FD1-9772-2E05C2F949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831FB-9BE2-4334-B973-C3DE310592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5D2AA-1DC0-49EF-81C6-224E2255D6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4EF19-8162-4530-8E7E-74B36D82B9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A28079-4AB1-4050-9E91-1FE5B6D85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A5745-E23E-4AD6-9663-E5D2DD0B3D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5C22E-3B2F-462B-BD2A-681B78393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3C8477-6FB9-4B91-9617-F6F933A184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5603B-E081-4384-8153-49ACA3EADA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803348-65ED-4F15-953B-BD9A30DD6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24F91F-9F60-45FB-82D0-0A8834F533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07CD7-5CE5-4AE4-9F69-B55B75135C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86D2B2-9449-4512-B0DE-555F393B3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FA895-D45C-48F3-A452-36E5D6C2A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07A48-2347-4300-BBEE-260B3BBC2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DD64B-3D24-4F46-A96E-3D1C277A12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A0329-BA2E-4B8D-8E7F-542082E29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037D6-1EA6-47E5-A150-94ED3CF26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E92184-C916-42B4-8382-D4414FE120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B8931D-EF77-46F6-8866-FA239A1650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1ACCC1-94F5-4AD6-BEC8-62D68B07D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C7A48-6914-4AA4-A96C-B9772DB0BF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68F3B8-3771-4ADC-82C4-92B5048466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707A70-C01A-478E-81FC-D8558CEC05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066847-BB6B-4E8C-98C5-5DA47706CA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9E60B3-0B47-4547-8F5C-A31D391C13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A184A-4BDC-475E-9B1E-556467B18D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31CEA4-11C4-40FC-BA9A-F2CED08DA9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30B38E-3608-4F3F-B7C6-B0853EA33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1A839C-94DF-4972-99B8-B72599E867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D507E-2648-48DC-A6F5-0C2909241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461333-93D2-426E-B8BE-B13AA305B9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3C3F3D-F30C-4BE7-8165-3BBF306694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73668A-E17A-46AC-9EFB-D5072A0074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8F8960-0FF3-4A1F-91F6-9E1CCDCE61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6D942-6003-471E-AC7B-4A65EB1B6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53817F-9B58-4225-A5DA-716659420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A2298E-40C6-432E-9E01-7D815DEAC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243655-C79C-41B1-8BC7-AD1E9DCCA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3D2DE-9DD6-48D7-B301-8C5992BED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D2172-EAD7-476D-9379-879414A5EF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059278-7C54-4988-BE50-482D2C785B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ACE955-35F5-4E6F-933F-920B507343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725183-D5A8-455C-AADF-D723D7356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F81B3B-038A-4BB1-A773-18752757AA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458A02-7899-458D-AAAE-F6FB5F1A15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ACEF84-1854-4AC6-915B-10D3932AF9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FFC30-4678-4437-B54F-296A5297B7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546125-6DBF-4179-A57F-E43E004BA902}"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1" name="Picture 2" descr=""/>
          <p:cNvPicPr/>
          <p:nvPr/>
        </p:nvPicPr>
        <p:blipFill>
          <a:blip r:embed="rId2"/>
          <a:stretch/>
        </p:blipFill>
        <p:spPr>
          <a:xfrm>
            <a:off x="8001000" y="152280"/>
            <a:ext cx="895320" cy="685800"/>
          </a:xfrm>
          <a:prstGeom prst="rect">
            <a:avLst/>
          </a:prstGeom>
          <a:ln w="0">
            <a:noFill/>
          </a:ln>
        </p:spPr>
      </p:pic>
      <p:pic>
        <p:nvPicPr>
          <p:cNvPr id="2" name="Picture 2" descr=""/>
          <p:cNvPicPr/>
          <p:nvPr/>
        </p:nvPicPr>
        <p:blipFill>
          <a:blip r:embed="rId3"/>
          <a:stretch/>
        </p:blipFill>
        <p:spPr>
          <a:xfrm>
            <a:off x="0" y="990720"/>
            <a:ext cx="9144000" cy="60120"/>
          </a:xfrm>
          <a:prstGeom prst="rect">
            <a:avLst/>
          </a:prstGeom>
          <a:ln w="0">
            <a:noFill/>
          </a:ln>
        </p:spPr>
      </p:pic>
      <p:sp>
        <p:nvSpPr>
          <p:cNvPr id="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386" name="Picture 2" descr=""/>
          <p:cNvPicPr/>
          <p:nvPr/>
        </p:nvPicPr>
        <p:blipFill>
          <a:blip r:embed="rId2"/>
          <a:stretch/>
        </p:blipFill>
        <p:spPr>
          <a:xfrm>
            <a:off x="8001000" y="152280"/>
            <a:ext cx="895320" cy="685800"/>
          </a:xfrm>
          <a:prstGeom prst="rect">
            <a:avLst/>
          </a:prstGeom>
          <a:ln w="0">
            <a:noFill/>
          </a:ln>
        </p:spPr>
      </p:pic>
      <p:pic>
        <p:nvPicPr>
          <p:cNvPr id="387" name="Picture 2" descr=""/>
          <p:cNvPicPr/>
          <p:nvPr/>
        </p:nvPicPr>
        <p:blipFill>
          <a:blip r:embed="rId3"/>
          <a:stretch/>
        </p:blipFill>
        <p:spPr>
          <a:xfrm>
            <a:off x="0" y="990720"/>
            <a:ext cx="9144000" cy="60120"/>
          </a:xfrm>
          <a:prstGeom prst="rect">
            <a:avLst/>
          </a:prstGeom>
          <a:ln w="0">
            <a:noFill/>
          </a:ln>
        </p:spPr>
      </p:pic>
      <p:sp>
        <p:nvSpPr>
          <p:cNvPr id="388"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89"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90"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4072E-DD2F-4756-A572-7EDA2CD76C3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429" name="Picture 2" descr=""/>
          <p:cNvPicPr/>
          <p:nvPr/>
        </p:nvPicPr>
        <p:blipFill>
          <a:blip r:embed="rId2"/>
          <a:stretch/>
        </p:blipFill>
        <p:spPr>
          <a:xfrm>
            <a:off x="8001000" y="152280"/>
            <a:ext cx="895320" cy="685800"/>
          </a:xfrm>
          <a:prstGeom prst="rect">
            <a:avLst/>
          </a:prstGeom>
          <a:ln w="0">
            <a:noFill/>
          </a:ln>
        </p:spPr>
      </p:pic>
      <p:pic>
        <p:nvPicPr>
          <p:cNvPr id="430" name="Picture 2" descr=""/>
          <p:cNvPicPr/>
          <p:nvPr/>
        </p:nvPicPr>
        <p:blipFill>
          <a:blip r:embed="rId3"/>
          <a:stretch/>
        </p:blipFill>
        <p:spPr>
          <a:xfrm>
            <a:off x="0" y="990720"/>
            <a:ext cx="9144000" cy="60120"/>
          </a:xfrm>
          <a:prstGeom prst="rect">
            <a:avLst/>
          </a:prstGeom>
          <a:ln w="0">
            <a:noFill/>
          </a:ln>
        </p:spPr>
      </p:pic>
      <p:sp>
        <p:nvSpPr>
          <p:cNvPr id="431"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32"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3"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3A08-B47D-4A12-8383-F84D5A017C8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472" name="Picture 2" descr=""/>
          <p:cNvPicPr/>
          <p:nvPr/>
        </p:nvPicPr>
        <p:blipFill>
          <a:blip r:embed="rId2"/>
          <a:stretch/>
        </p:blipFill>
        <p:spPr>
          <a:xfrm>
            <a:off x="8001000" y="152280"/>
            <a:ext cx="895320" cy="685800"/>
          </a:xfrm>
          <a:prstGeom prst="rect">
            <a:avLst/>
          </a:prstGeom>
          <a:ln w="0">
            <a:noFill/>
          </a:ln>
        </p:spPr>
      </p:pic>
      <p:pic>
        <p:nvPicPr>
          <p:cNvPr id="473" name="Picture 2" descr=""/>
          <p:cNvPicPr/>
          <p:nvPr/>
        </p:nvPicPr>
        <p:blipFill>
          <a:blip r:embed="rId3"/>
          <a:stretch/>
        </p:blipFill>
        <p:spPr>
          <a:xfrm>
            <a:off x="0" y="990720"/>
            <a:ext cx="9144000" cy="60120"/>
          </a:xfrm>
          <a:prstGeom prst="rect">
            <a:avLst/>
          </a:prstGeom>
          <a:ln w="0">
            <a:noFill/>
          </a:ln>
        </p:spPr>
      </p:pic>
      <p:sp>
        <p:nvSpPr>
          <p:cNvPr id="474"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75"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6"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E099-425F-4288-BEC5-AE41F2ED01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41" name="Picture 2" descr=""/>
          <p:cNvPicPr/>
          <p:nvPr/>
        </p:nvPicPr>
        <p:blipFill>
          <a:blip r:embed="rId2"/>
          <a:stretch/>
        </p:blipFill>
        <p:spPr>
          <a:xfrm>
            <a:off x="8001000" y="152280"/>
            <a:ext cx="895320" cy="685800"/>
          </a:xfrm>
          <a:prstGeom prst="rect">
            <a:avLst/>
          </a:prstGeom>
          <a:ln w="0">
            <a:noFill/>
          </a:ln>
        </p:spPr>
      </p:pic>
      <p:pic>
        <p:nvPicPr>
          <p:cNvPr id="42" name="Picture 2" descr=""/>
          <p:cNvPicPr/>
          <p:nvPr/>
        </p:nvPicPr>
        <p:blipFill>
          <a:blip r:embed="rId3"/>
          <a:stretch/>
        </p:blipFill>
        <p:spPr>
          <a:xfrm>
            <a:off x="0" y="990720"/>
            <a:ext cx="9144000" cy="60120"/>
          </a:xfrm>
          <a:prstGeom prst="rect">
            <a:avLst/>
          </a:prstGeom>
          <a:ln w="0">
            <a:noFill/>
          </a:ln>
        </p:spPr>
      </p:pic>
      <p:sp>
        <p:nvSpPr>
          <p:cNvPr id="4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44"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5"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3473-E468-491D-85C0-1E94D490E9B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84" name="Picture 2" descr=""/>
          <p:cNvPicPr/>
          <p:nvPr/>
        </p:nvPicPr>
        <p:blipFill>
          <a:blip r:embed="rId2"/>
          <a:stretch/>
        </p:blipFill>
        <p:spPr>
          <a:xfrm>
            <a:off x="8001000" y="152280"/>
            <a:ext cx="895320" cy="685800"/>
          </a:xfrm>
          <a:prstGeom prst="rect">
            <a:avLst/>
          </a:prstGeom>
          <a:ln w="0">
            <a:noFill/>
          </a:ln>
        </p:spPr>
      </p:pic>
      <p:pic>
        <p:nvPicPr>
          <p:cNvPr id="85" name="Picture 2" descr=""/>
          <p:cNvPicPr/>
          <p:nvPr/>
        </p:nvPicPr>
        <p:blipFill>
          <a:blip r:embed="rId3"/>
          <a:stretch/>
        </p:blipFill>
        <p:spPr>
          <a:xfrm>
            <a:off x="0" y="990720"/>
            <a:ext cx="9144000" cy="60120"/>
          </a:xfrm>
          <a:prstGeom prst="rect">
            <a:avLst/>
          </a:prstGeom>
          <a:ln w="0">
            <a:noFill/>
          </a:ln>
        </p:spPr>
      </p:pic>
      <p:sp>
        <p:nvSpPr>
          <p:cNvPr id="8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pic>
        <p:nvPicPr>
          <p:cNvPr id="87" name="Picture 2" descr="C:\Users\Drew\Desktop\style-ppts\spectrum-logo.png"/>
          <p:cNvPicPr/>
          <p:nvPr/>
        </p:nvPicPr>
        <p:blipFill>
          <a:blip r:embed="rId4"/>
          <a:srcRect l="0" t="11395" r="0" b="11453"/>
          <a:stretch/>
        </p:blipFill>
        <p:spPr>
          <a:xfrm>
            <a:off x="7805880" y="17640"/>
            <a:ext cx="1239840" cy="955440"/>
          </a:xfrm>
          <a:prstGeom prst="rect">
            <a:avLst/>
          </a:prstGeom>
          <a:ln w="0">
            <a:noFill/>
          </a:ln>
        </p:spPr>
      </p:pic>
      <p:pic>
        <p:nvPicPr>
          <p:cNvPr id="88" name="Picture 2" descr=""/>
          <p:cNvPicPr/>
          <p:nvPr/>
        </p:nvPicPr>
        <p:blipFill>
          <a:blip r:embed="rId5"/>
          <a:stretch/>
        </p:blipFill>
        <p:spPr>
          <a:xfrm>
            <a:off x="0" y="990720"/>
            <a:ext cx="9144000" cy="60120"/>
          </a:xfrm>
          <a:prstGeom prst="rect">
            <a:avLst/>
          </a:prstGeom>
          <a:ln w="0">
            <a:noFill/>
          </a:ln>
        </p:spPr>
      </p:pic>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128" name="Picture 2" descr=""/>
          <p:cNvPicPr/>
          <p:nvPr/>
        </p:nvPicPr>
        <p:blipFill>
          <a:blip r:embed="rId2"/>
          <a:stretch/>
        </p:blipFill>
        <p:spPr>
          <a:xfrm>
            <a:off x="8001000" y="152280"/>
            <a:ext cx="895320" cy="685800"/>
          </a:xfrm>
          <a:prstGeom prst="rect">
            <a:avLst/>
          </a:prstGeom>
          <a:ln w="0">
            <a:noFill/>
          </a:ln>
        </p:spPr>
      </p:pic>
      <p:pic>
        <p:nvPicPr>
          <p:cNvPr id="129" name="Picture 2" descr=""/>
          <p:cNvPicPr/>
          <p:nvPr/>
        </p:nvPicPr>
        <p:blipFill>
          <a:blip r:embed="rId3"/>
          <a:stretch/>
        </p:blipFill>
        <p:spPr>
          <a:xfrm>
            <a:off x="0" y="990720"/>
            <a:ext cx="9144000" cy="60120"/>
          </a:xfrm>
          <a:prstGeom prst="rect">
            <a:avLst/>
          </a:prstGeom>
          <a:ln w="0">
            <a:noFill/>
          </a:ln>
        </p:spPr>
      </p:pic>
      <p:sp>
        <p:nvSpPr>
          <p:cNvPr id="130"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31"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2"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5A162-44CA-48DB-9EC3-B8BFCA90B9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171" name="Picture 2" descr=""/>
          <p:cNvPicPr/>
          <p:nvPr/>
        </p:nvPicPr>
        <p:blipFill>
          <a:blip r:embed="rId2"/>
          <a:stretch/>
        </p:blipFill>
        <p:spPr>
          <a:xfrm>
            <a:off x="8001000" y="152280"/>
            <a:ext cx="895320" cy="685800"/>
          </a:xfrm>
          <a:prstGeom prst="rect">
            <a:avLst/>
          </a:prstGeom>
          <a:ln w="0">
            <a:noFill/>
          </a:ln>
        </p:spPr>
      </p:pic>
      <p:pic>
        <p:nvPicPr>
          <p:cNvPr id="172" name="Picture 2" descr=""/>
          <p:cNvPicPr/>
          <p:nvPr/>
        </p:nvPicPr>
        <p:blipFill>
          <a:blip r:embed="rId3"/>
          <a:stretch/>
        </p:blipFill>
        <p:spPr>
          <a:xfrm>
            <a:off x="0" y="990720"/>
            <a:ext cx="9144000" cy="60120"/>
          </a:xfrm>
          <a:prstGeom prst="rect">
            <a:avLst/>
          </a:prstGeom>
          <a:ln w="0">
            <a:noFill/>
          </a:ln>
        </p:spPr>
      </p:pic>
      <p:sp>
        <p:nvSpPr>
          <p:cNvPr id="173"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174"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75"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43A1-503F-4B27-BE8C-753B9EC874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214" name="Picture 2" descr=""/>
          <p:cNvPicPr/>
          <p:nvPr/>
        </p:nvPicPr>
        <p:blipFill>
          <a:blip r:embed="rId2"/>
          <a:stretch/>
        </p:blipFill>
        <p:spPr>
          <a:xfrm>
            <a:off x="8001000" y="152280"/>
            <a:ext cx="895320" cy="685800"/>
          </a:xfrm>
          <a:prstGeom prst="rect">
            <a:avLst/>
          </a:prstGeom>
          <a:ln w="0">
            <a:noFill/>
          </a:ln>
        </p:spPr>
      </p:pic>
      <p:pic>
        <p:nvPicPr>
          <p:cNvPr id="215" name="Picture 2" descr=""/>
          <p:cNvPicPr/>
          <p:nvPr/>
        </p:nvPicPr>
        <p:blipFill>
          <a:blip r:embed="rId3"/>
          <a:stretch/>
        </p:blipFill>
        <p:spPr>
          <a:xfrm>
            <a:off x="0" y="990720"/>
            <a:ext cx="9144000" cy="60120"/>
          </a:xfrm>
          <a:prstGeom prst="rect">
            <a:avLst/>
          </a:prstGeom>
          <a:ln w="0">
            <a:noFill/>
          </a:ln>
        </p:spPr>
      </p:pic>
      <p:sp>
        <p:nvSpPr>
          <p:cNvPr id="216"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17"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18"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2742F-59FB-4CB4-A05D-ADBE14BBD6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257" name="Picture 2" descr=""/>
          <p:cNvPicPr/>
          <p:nvPr/>
        </p:nvPicPr>
        <p:blipFill>
          <a:blip r:embed="rId2"/>
          <a:stretch/>
        </p:blipFill>
        <p:spPr>
          <a:xfrm>
            <a:off x="8001000" y="152280"/>
            <a:ext cx="895320" cy="685800"/>
          </a:xfrm>
          <a:prstGeom prst="rect">
            <a:avLst/>
          </a:prstGeom>
          <a:ln w="0">
            <a:noFill/>
          </a:ln>
        </p:spPr>
      </p:pic>
      <p:pic>
        <p:nvPicPr>
          <p:cNvPr id="258" name="Picture 2" descr=""/>
          <p:cNvPicPr/>
          <p:nvPr/>
        </p:nvPicPr>
        <p:blipFill>
          <a:blip r:embed="rId3"/>
          <a:stretch/>
        </p:blipFill>
        <p:spPr>
          <a:xfrm>
            <a:off x="0" y="990720"/>
            <a:ext cx="9144000" cy="60120"/>
          </a:xfrm>
          <a:prstGeom prst="rect">
            <a:avLst/>
          </a:prstGeom>
          <a:ln w="0">
            <a:noFill/>
          </a:ln>
        </p:spPr>
      </p:pic>
      <p:sp>
        <p:nvSpPr>
          <p:cNvPr id="259"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260"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1"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3EBD-42D8-468E-9EF9-4AD109291A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300" name="Picture 2" descr=""/>
          <p:cNvPicPr/>
          <p:nvPr/>
        </p:nvPicPr>
        <p:blipFill>
          <a:blip r:embed="rId2"/>
          <a:stretch/>
        </p:blipFill>
        <p:spPr>
          <a:xfrm>
            <a:off x="8001000" y="152280"/>
            <a:ext cx="895320" cy="685800"/>
          </a:xfrm>
          <a:prstGeom prst="rect">
            <a:avLst/>
          </a:prstGeom>
          <a:ln w="0">
            <a:noFill/>
          </a:ln>
        </p:spPr>
      </p:pic>
      <p:pic>
        <p:nvPicPr>
          <p:cNvPr id="301" name="Picture 2" descr=""/>
          <p:cNvPicPr/>
          <p:nvPr/>
        </p:nvPicPr>
        <p:blipFill>
          <a:blip r:embed="rId3"/>
          <a:stretch/>
        </p:blipFill>
        <p:spPr>
          <a:xfrm>
            <a:off x="0" y="990720"/>
            <a:ext cx="9144000" cy="60120"/>
          </a:xfrm>
          <a:prstGeom prst="rect">
            <a:avLst/>
          </a:prstGeom>
          <a:ln w="0">
            <a:noFill/>
          </a:ln>
        </p:spPr>
      </p:pic>
      <p:sp>
        <p:nvSpPr>
          <p:cNvPr id="302"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03"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80263-72EE-4969-B8B0-EFDC93C256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itle 1"/>
          <p:cNvSpPr/>
          <p:nvPr/>
        </p:nvSpPr>
        <p:spPr>
          <a:xfrm>
            <a:off x="304920" y="274680"/>
            <a:ext cx="7086600" cy="63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vergent Discovery</a:t>
            </a:r>
            <a:r>
              <a:rPr b="0" lang="en-US" sz="3200" spc="-1" strike="noStrike">
                <a:solidFill>
                  <a:srgbClr val="000000"/>
                </a:solidFill>
                <a:latin typeface="Arial"/>
                <a:ea typeface="Arial"/>
              </a:rPr>
              <a:t>-Style H</a:t>
            </a:r>
            <a:endParaRPr b="0" lang="en-US" sz="3200" spc="-1" strike="noStrike">
              <a:solidFill>
                <a:srgbClr val="000000"/>
              </a:solidFill>
              <a:latin typeface="Calibri"/>
            </a:endParaRPr>
          </a:p>
        </p:txBody>
      </p:sp>
      <p:pic>
        <p:nvPicPr>
          <p:cNvPr id="343" name="Picture 2" descr=""/>
          <p:cNvPicPr/>
          <p:nvPr/>
        </p:nvPicPr>
        <p:blipFill>
          <a:blip r:embed="rId2"/>
          <a:stretch/>
        </p:blipFill>
        <p:spPr>
          <a:xfrm>
            <a:off x="8001000" y="152280"/>
            <a:ext cx="895320" cy="685800"/>
          </a:xfrm>
          <a:prstGeom prst="rect">
            <a:avLst/>
          </a:prstGeom>
          <a:ln w="0">
            <a:noFill/>
          </a:ln>
        </p:spPr>
      </p:pic>
      <p:pic>
        <p:nvPicPr>
          <p:cNvPr id="344" name="Picture 2" descr=""/>
          <p:cNvPicPr/>
          <p:nvPr/>
        </p:nvPicPr>
        <p:blipFill>
          <a:blip r:embed="rId3"/>
          <a:stretch/>
        </p:blipFill>
        <p:spPr>
          <a:xfrm>
            <a:off x="0" y="990720"/>
            <a:ext cx="9144000" cy="60120"/>
          </a:xfrm>
          <a:prstGeom prst="rect">
            <a:avLst/>
          </a:prstGeom>
          <a:ln w="0">
            <a:noFill/>
          </a:ln>
        </p:spPr>
      </p:pic>
      <p:sp>
        <p:nvSpPr>
          <p:cNvPr id="345" name="TextBox 9"/>
          <p:cNvSpPr/>
          <p:nvPr/>
        </p:nvSpPr>
        <p:spPr>
          <a:xfrm>
            <a:off x="6868800" y="6477120"/>
            <a:ext cx="213588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ww.spectrumofteachingstyles.org</a:t>
            </a:r>
            <a:endParaRPr b="0" lang="en-US" sz="1000" spc="-1" strike="noStrike">
              <a:solidFill>
                <a:srgbClr val="000000"/>
              </a:solidFill>
              <a:latin typeface="Calibri"/>
            </a:endParaRPr>
          </a:p>
        </p:txBody>
      </p:sp>
      <p:sp>
        <p:nvSpPr>
          <p:cNvPr id="346"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47"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E9D9-71E0-4307-812C-6BF78B0E93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2" descr=""/>
          <p:cNvPicPr/>
          <p:nvPr/>
        </p:nvPicPr>
        <p:blipFill>
          <a:blip r:embed="rId1"/>
          <a:stretch/>
        </p:blipFill>
        <p:spPr>
          <a:xfrm>
            <a:off x="0" y="990720"/>
            <a:ext cx="9144000" cy="60120"/>
          </a:xfrm>
          <a:prstGeom prst="rect">
            <a:avLst/>
          </a:prstGeom>
          <a:ln w="0">
            <a:noFill/>
          </a:ln>
        </p:spPr>
      </p:pic>
      <p:sp>
        <p:nvSpPr>
          <p:cNvPr id="522" name="TextBox 6"/>
          <p:cNvSpPr/>
          <p:nvPr/>
        </p:nvSpPr>
        <p:spPr>
          <a:xfrm>
            <a:off x="762120" y="1676520"/>
            <a:ext cx="7619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Learning Focu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defining characteristic of the Divergent discovery style is that each learner produces-discovers divergent (multiple) responses to a single question, situation or problem within a specific cognitive operation.</a:t>
            </a:r>
            <a:endParaRPr b="0" lang="en-US" sz="1800" spc="-1" strike="noStrike">
              <a:solidFill>
                <a:srgbClr val="000000"/>
              </a:solidFill>
              <a:latin typeface="Calibri"/>
            </a:endParaRPr>
          </a:p>
        </p:txBody>
      </p:sp>
      <p:pic>
        <p:nvPicPr>
          <p:cNvPr id="523" name="Picture 3" descr=""/>
          <p:cNvPicPr/>
          <p:nvPr/>
        </p:nvPicPr>
        <p:blipFill>
          <a:blip r:embed="rId2"/>
          <a:stretch/>
        </p:blipFill>
        <p:spPr>
          <a:xfrm>
            <a:off x="776160" y="3657600"/>
            <a:ext cx="7591680" cy="14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4" name="Picture 2" descr=""/>
          <p:cNvPicPr/>
          <p:nvPr/>
        </p:nvPicPr>
        <p:blipFill>
          <a:blip r:embed="rId1"/>
          <a:stretch/>
        </p:blipFill>
        <p:spPr>
          <a:xfrm>
            <a:off x="0" y="990720"/>
            <a:ext cx="9144000" cy="60120"/>
          </a:xfrm>
          <a:prstGeom prst="rect">
            <a:avLst/>
          </a:prstGeom>
          <a:ln w="0">
            <a:noFill/>
          </a:ln>
        </p:spPr>
      </p:pic>
      <p:sp>
        <p:nvSpPr>
          <p:cNvPr id="525" name="TextBox 6"/>
          <p:cNvSpPr/>
          <p:nvPr/>
        </p:nvSpPr>
        <p:spPr>
          <a:xfrm>
            <a:off x="762120" y="1676520"/>
            <a:ext cx="7543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The Anatomy</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Anatomy of the Divergent Discovery Style, the role of the teacher is to make decisions about the subject matter topic and the specific questions and logistics to be delivered to the learner. The role of the learner is to discover multiple designs/solu - tions/responses to a specific question.</a:t>
            </a:r>
            <a:endParaRPr b="0" lang="en-US" sz="1800" spc="-1" strike="noStrike">
              <a:solidFill>
                <a:srgbClr val="000000"/>
              </a:solidFill>
              <a:latin typeface="Calibri"/>
            </a:endParaRPr>
          </a:p>
        </p:txBody>
      </p:sp>
      <p:sp>
        <p:nvSpPr>
          <p:cNvPr id="526" name="TextBox 2"/>
          <p:cNvSpPr/>
          <p:nvPr/>
        </p:nvSpPr>
        <p:spPr>
          <a:xfrm>
            <a:off x="2514600" y="3657600"/>
            <a:ext cx="4114800" cy="34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re-Impact...........................(Teach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Impact...................................(Learner)</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yriad Pro"/>
                <a:ea typeface="Arial"/>
              </a:rPr>
              <a:t>Post-Impact........................(Learner</a:t>
            </a:r>
            <a:r>
              <a:rPr b="0" lang="en-US" sz="2200" spc="-1" strike="noStrike" baseline="-25000">
                <a:solidFill>
                  <a:srgbClr val="000000"/>
                </a:solidFill>
                <a:latin typeface="Myriad Pro"/>
                <a:ea typeface="Arial"/>
              </a:rPr>
              <a:t>T</a:t>
            </a:r>
            <a:r>
              <a:rPr b="0" lang="en-US" sz="2200" spc="-1" strike="noStrike">
                <a:solidFill>
                  <a:srgbClr val="000000"/>
                </a:solidFill>
                <a:latin typeface="Myriad Pro"/>
                <a:ea typeface="Arial"/>
              </a:rPr>
              <a:t>)</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Myriad Pro"/>
              </a:rPr>
              <a:t>(planning)</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Box 2"/>
          <p:cNvSpPr/>
          <p:nvPr/>
        </p:nvSpPr>
        <p:spPr>
          <a:xfrm>
            <a:off x="762120" y="1676520"/>
            <a:ext cx="7543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Description</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e Divergent Discovery style, the role of the teacher is to make decisions about the subject matter topic and the specific question(s) and logistics to be delivered to the learner. The role of the learner is to discover multiple designs/solutions/ responses to a specific ques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Box 2"/>
          <p:cNvSpPr/>
          <p:nvPr/>
        </p:nvSpPr>
        <p:spPr>
          <a:xfrm>
            <a:off x="762120" y="1676520"/>
            <a:ext cx="75438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Subject Matte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Divergent Discovery style is achieved, the following subject matter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iscover and produce multiple responses or solutions to a question or problem</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xperience divergent production in specific cognitive operation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view some aspects within content as developing and evolving, rather than static</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develop the ability to verify solutions and organize them for specific purposes</a:t>
            </a: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th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TextBox 2"/>
          <p:cNvSpPr/>
          <p:nvPr/>
        </p:nvSpPr>
        <p:spPr>
          <a:xfrm>
            <a:off x="762120" y="1219320"/>
            <a:ext cx="7543800" cy="509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Arial"/>
                <a:ea typeface="Arial"/>
              </a:rPr>
              <a:t>Behavior Objectives</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Divergent Discovery style is achieved, the following behavioral objectives are reached:</a:t>
            </a:r>
            <a:br>
              <a:rPr sz="1800"/>
            </a:br>
            <a:endParaRPr b="0" lang="en-US" sz="18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engage in divergent discovery-the production of multiple responses that can satisfy a stimulu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activate divergent thinking in the cognitive operations designated by the stimulu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become sufficiently emotionally, cognitively, and socially secure to move beyond memory to risk producing alternative idea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accept that an individual can approach problems or issues in different way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tolerate others' idea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o feel the emotional and cognitive energy that the production of ideas can generate</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When appropriate, to engage in the Reduction Process (the Possible-Feasible-Desirable process to examine solutions)</a:t>
            </a:r>
            <a:endParaRPr b="0" lang="en-US" sz="1700" spc="-1" strike="noStrike">
              <a:solidFill>
                <a:srgbClr val="000000"/>
              </a:solidFill>
              <a:latin typeface="Calibri"/>
            </a:endParaRPr>
          </a:p>
          <a:p>
            <a:pPr algn="just">
              <a:lnSpc>
                <a:spcPct val="100000"/>
              </a:lnSpc>
              <a:buClr>
                <a:srgbClr val="7f7f7f"/>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Other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4T19:27:49Z</dcterms:created>
  <dc:creator>Spectrum of Teaching Styles</dc:creator>
  <dc:description/>
  <dc:language>en-US</dc:language>
  <cp:lastModifiedBy>Drew</cp:lastModifiedBy>
  <dcterms:modified xsi:type="dcterms:W3CDTF">2013-07-30T20:28:36Z</dcterms:modified>
  <cp:revision>6</cp:revision>
  <dc:subject/>
  <dc:title>Command-Style A</dc:title>
</cp:coreProperties>
</file>