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6D41-0BFE-4072-8E86-B5653068D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B231E-3323-4DCE-9159-3F2A61BCD8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6AEF1-B114-4D0D-B6A5-6BE8A5952D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FFA3C4-0711-49FB-9592-313980DB19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D5ADFD-3066-40F3-942B-3A3E0109DA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9A52FE-4343-4B37-AE9D-3932F17789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51C8EB-B91F-4ED9-A661-66391A7FA0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939493-A821-4FC0-B644-46C0008D14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985054-87F6-4450-8826-1E82EE9A06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3A99D0-CA4C-4211-BBA5-BAF6EF8C43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AE1F61-4375-4D43-BEF3-A25BA5B80B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BCB04D-8B3D-49CD-AC96-7242ED34BC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88AC09-16E4-45AD-84A2-9695B3C732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22C037-2F8D-4F9F-A04C-3DCE61FBF8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206E6A-C83D-42DC-AFE4-86ED1240EF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A1B0B7-35E9-46D0-BCE9-CDD2B2AC2E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9D8442-8B85-4665-BC2E-76651CE100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76970F-49B4-42D0-8721-F5B8084566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4408E9-7B54-4157-AA29-95FDE9AC35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0EDCB8-0E7E-464D-A1C9-7D0650CFD1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7AB776-2C0A-49CF-83D4-6E2FE99B0A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219E9B-78C8-41C3-A388-D54FE6D5AA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CEEAC5-CD01-4CC7-A560-EB71B09FB1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E93281-E3E4-4918-A237-E388C6CEA0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DACA9B-F832-4BF5-859A-31646A7A01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722581-C78A-4169-B8E9-346E1498F0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7188FB-AA31-4D86-BEB6-52D7C0EEDD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0B2C36-9341-4EF8-A8CA-52452FA8F0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30CAB5-FA79-499B-9DEC-3D6BB317CB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7ED4B9-2813-4E89-BBA7-CB97323963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E4997A-B781-4468-84AB-50DDC6FA31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8A1B74-8FBE-4471-892A-6A3DC1F8BD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12EBB2-A617-45DD-97B5-93CA1C8D4A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A1BCB-C6F6-442D-B837-947925306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47C737-B202-4333-8924-32839712C9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3F7F60-0949-43CD-90E5-DCAB1E2CCA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610896-939A-408A-88C7-09BC7905F7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27DC979-6625-4A9E-9CA9-3281DF53FDE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FB1BB3-A9B6-4784-B6D7-72D06F3106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AB2820-46B7-4616-B300-A08E5A8CBD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29FFD02-73D6-4CF0-804F-EFF78AA37F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F6596C-1FE2-464E-A696-23F927ED7A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A1041C0-657B-4F4E-A456-73ED20391B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70DB73-09CE-4AC2-93B5-D2F2D1E487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6EA4D-F1A1-4070-B983-5832A7D8E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DE81EE-C832-44B2-B1F8-81A2FEE80B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6EEEF5-BD18-4EB9-9003-4AE1FBAC92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135D3F-0AF9-42A3-9214-48287493E6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A7B93E6-DBE9-49C6-B937-71E4185D4A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295751A-9212-417C-8F95-3C1E248448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E2D79-44A0-4E89-884C-05C6FBD30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C48A2-61D2-4271-A619-6C332E52D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66A60-4AF0-4312-9CD9-67A45FB6B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3E1E8-7F84-44AF-9F35-4F2762A56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A0AA9-49DA-4AE4-84D3-AD0DA8A48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D6F21-45D1-46A0-A358-F3517E9DA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6DDEB-C19B-4907-9747-E40358C6E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110C2-F4D1-4DF2-B050-57955E33B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B68A4-A084-454E-B0B8-AADAA2A78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356BE-6A58-4E6E-9D63-E69ED50B79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8A7FA2-8DAB-4008-97AB-6FE940C65A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E8DE8-871B-4051-B656-8669AB68B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0B748-668B-4C2C-B0F9-A638592A3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9B876-A583-4E03-9558-A345798194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8A6192-578A-4A51-9086-032902690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4D555-297C-4F72-81D7-CBAFBCF6D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5A54E-2BAE-45D9-9B5A-30E65CC0E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FD1D0-D4A0-4087-B16B-5CFE367A6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3F2F9-E3F9-426B-9D8A-FB84EAD3A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B8816-89CF-47C6-915C-CBFE05438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873091-7FCA-47B5-97EA-83C54AAF8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57F569-FEEC-469D-BCE6-5D076BA6E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46710F-5B4F-4455-8621-8306B20A20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C7337F-D21E-4C95-88C9-F559448DB1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4DA4CC-DAC0-40DA-8A51-9579F90BA0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2CB618-6670-4EAD-BD13-C668327DCB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05A2B7-1A76-4CB5-9BB5-252B18893E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F6B5B0-7B2F-4288-8905-D24F8F4CE1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56C970-0D8B-44A5-A22C-0CBBD13401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CC0E6B-EE20-4B8F-BCE9-EF51C52BCB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8FF2A5-9C1A-4F7B-9B12-A6CFA83302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5E8FA8-082B-49E2-BCD0-687FF3F6AD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481628-147E-4433-A8D9-3FF6ED69A1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C90528-6523-44B6-BB4C-C249E45A33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CC55DB-57A7-42BC-A2A4-2D2A8FC283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93082C-93CB-4EC6-B589-477599620C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DBD89E-85D4-419E-968D-D5E3325094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9264F6-0498-4BB0-9D31-4B125F8033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AD6B11-C7D5-4004-B365-550722323B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8BC477-A5A2-45F3-9AFA-39308417CC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C4B382-FD2F-4F00-AA89-FE96CFFD74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14AB74-5E94-4A1E-95A0-0D6D6D2258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045A80-1390-498A-8683-56B6455903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F21D06-23A2-4FDD-B7F0-57DA320E1B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256DE6-1496-4325-858B-7B80B4D851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D727FA-CC0F-4067-AD23-1C26C20085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59063C-FE16-44D3-97AC-308A5548FA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EB8672-DF60-49E4-BF4F-8FA3012213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BFE25D-FF60-4921-8104-9D63103E95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D3F855-C534-4298-99CD-2733BEBD87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9C2BF6-C0B6-466A-A8F7-AAA2DF9284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58FB5A-C781-423D-8FC1-A349C40E5E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0353DF-38F4-4AC4-8809-FDEE39276B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6B88A3-D320-454A-8BCA-6CF15935CD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A9B775-76F2-446C-A626-3CDE13D695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526D21-8019-44CD-A1DB-564A2CA1CA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B95626-7C24-4D13-89DC-44BCF80425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2935F3-D92B-4692-B5CE-FF458ECD80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6E3492-B963-4365-83AE-63F27FFAD9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47C03B-E5B5-477E-88DF-6BB04B1F5F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5B8F62-ADCF-4C93-B5C9-1E864D0836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707AD7-CFF9-45F9-A936-CC1C9358A2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984845-4A67-47A1-A9AA-9F03DB1EDA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7F7BC9-8509-4D2A-9DF6-48D8888A09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70AFD9-4022-4B3E-AF7C-75744091A6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18AABF-3178-4924-9785-D8A41678A1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ED9E97-8D07-454C-B3EB-8B78D317D3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4B7D52-32DB-4656-86BD-D950E320FB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0EC01A-C0AD-4094-9D6D-18B494C201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44B67C-2CC9-4AB6-BE71-9ABE0B3384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42E7D1-A256-49D0-A25E-C2C925B28A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F21906-D57B-4DA0-92AF-44372E186B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64428A-96C4-4EEE-AFE6-1B7E655F3A79}"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earner-Initiated</a:t>
            </a:r>
            <a:r>
              <a:rPr b="0" lang="en-US" sz="3200" spc="-1" strike="noStrike">
                <a:solidFill>
                  <a:srgbClr val="000000"/>
                </a:solidFill>
                <a:latin typeface="Arial"/>
                <a:ea typeface="Arial"/>
              </a:rPr>
              <a:t>-Style J</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earner-Initiated</a:t>
            </a:r>
            <a:r>
              <a:rPr b="0" lang="en-US" sz="3200" spc="-1" strike="noStrike">
                <a:solidFill>
                  <a:srgbClr val="000000"/>
                </a:solidFill>
                <a:latin typeface="Arial"/>
                <a:ea typeface="Arial"/>
              </a:rPr>
              <a:t>-Style J</a:t>
            </a:r>
            <a:endParaRPr b="0" lang="en-US" sz="3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2274-DB19-47D7-9A05-53BAC05E423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earner-Initiated</a:t>
            </a:r>
            <a:r>
              <a:rPr b="0" lang="en-US" sz="3200" spc="-1" strike="noStrike">
                <a:solidFill>
                  <a:srgbClr val="000000"/>
                </a:solidFill>
                <a:latin typeface="Arial"/>
                <a:ea typeface="Arial"/>
              </a:rPr>
              <a:t>-Style J</a:t>
            </a:r>
            <a:endParaRPr b="0" lang="en-US" sz="3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2ABD-367C-4B2A-9124-49415F7CB2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earner-Initiated</a:t>
            </a:r>
            <a:r>
              <a:rPr b="0" lang="en-US" sz="3200" spc="-1" strike="noStrike">
                <a:solidFill>
                  <a:srgbClr val="000000"/>
                </a:solidFill>
                <a:latin typeface="Arial"/>
                <a:ea typeface="Arial"/>
              </a:rPr>
              <a:t>-Style J</a:t>
            </a:r>
            <a:endParaRPr b="0" lang="en-US" sz="3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57BE6-E969-4718-BBAF-9AC09C460D6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earner-Initiated</a:t>
            </a:r>
            <a:r>
              <a:rPr b="0" lang="en-US" sz="3200" spc="-1" strike="noStrike">
                <a:solidFill>
                  <a:srgbClr val="000000"/>
                </a:solidFill>
                <a:latin typeface="Arial"/>
                <a:ea typeface="Arial"/>
              </a:rPr>
              <a:t>-Style J</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18D2-2563-4EF7-90BB-149495586FA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earner-Initiated</a:t>
            </a:r>
            <a:r>
              <a:rPr b="0" lang="en-US" sz="3200" spc="-1" strike="noStrike">
                <a:solidFill>
                  <a:srgbClr val="000000"/>
                </a:solidFill>
                <a:latin typeface="Arial"/>
                <a:ea typeface="Arial"/>
              </a:rPr>
              <a:t>-Style J</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2"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earner-Initiated</a:t>
            </a:r>
            <a:r>
              <a:rPr b="0" lang="en-US" sz="3200" spc="-1" strike="noStrike">
                <a:solidFill>
                  <a:srgbClr val="000000"/>
                </a:solidFill>
                <a:latin typeface="Arial"/>
                <a:ea typeface="Arial"/>
              </a:rPr>
              <a:t>-Style J</a:t>
            </a:r>
            <a:endParaRPr b="0" lang="en-US" sz="3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DC50B-1D93-4E72-A583-0AC8F879D9E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earner-Initiated</a:t>
            </a:r>
            <a:r>
              <a:rPr b="0" lang="en-US" sz="3200" spc="-1" strike="noStrike">
                <a:solidFill>
                  <a:srgbClr val="000000"/>
                </a:solidFill>
                <a:latin typeface="Arial"/>
                <a:ea typeface="Arial"/>
              </a:rPr>
              <a:t>-Style J</a:t>
            </a:r>
            <a:endParaRPr b="0" lang="en-US" sz="3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A8FC-875F-4628-ADEA-A8B739CF294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earner-Initiated</a:t>
            </a:r>
            <a:r>
              <a:rPr b="0" lang="en-US" sz="3200" spc="-1" strike="noStrike">
                <a:solidFill>
                  <a:srgbClr val="000000"/>
                </a:solidFill>
                <a:latin typeface="Arial"/>
                <a:ea typeface="Arial"/>
              </a:rPr>
              <a:t>-Style J</a:t>
            </a:r>
            <a:endParaRPr b="0" lang="en-US" sz="3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7D5C-FD07-453C-874F-9F1E4646BCE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earner-Initiated</a:t>
            </a:r>
            <a:r>
              <a:rPr b="0" lang="en-US" sz="3200" spc="-1" strike="noStrike">
                <a:solidFill>
                  <a:srgbClr val="000000"/>
                </a:solidFill>
                <a:latin typeface="Arial"/>
                <a:ea typeface="Arial"/>
              </a:rPr>
              <a:t>-Style J</a:t>
            </a:r>
            <a:endParaRPr b="0" lang="en-US" sz="3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5F2CD-C687-4687-AC52-C3A6724904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earner-Initiated</a:t>
            </a:r>
            <a:r>
              <a:rPr b="0" lang="en-US" sz="3200" spc="-1" strike="noStrike">
                <a:solidFill>
                  <a:srgbClr val="000000"/>
                </a:solidFill>
                <a:latin typeface="Arial"/>
                <a:ea typeface="Arial"/>
              </a:rPr>
              <a:t>-Style J</a:t>
            </a:r>
            <a:endParaRPr b="0" lang="en-US" sz="3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00E2F-3DDA-42BF-A1A2-307C9AC74C2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Learner-Initiated</a:t>
            </a:r>
            <a:r>
              <a:rPr b="0" lang="en-US" sz="3200" spc="-1" strike="noStrike">
                <a:solidFill>
                  <a:srgbClr val="000000"/>
                </a:solidFill>
                <a:latin typeface="Arial"/>
                <a:ea typeface="Arial"/>
              </a:rPr>
              <a:t>-Style J</a:t>
            </a:r>
            <a:endParaRPr b="0" lang="en-US" sz="3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6E95-574F-4741-9916-6BD762A73C4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
          <p:cNvPicPr/>
          <p:nvPr/>
        </p:nvPicPr>
        <p:blipFill>
          <a:blip r:embed="rId1"/>
          <a:stretch/>
        </p:blipFill>
        <p:spPr>
          <a:xfrm>
            <a:off x="0" y="990720"/>
            <a:ext cx="9144000" cy="60120"/>
          </a:xfrm>
          <a:prstGeom prst="rect">
            <a:avLst/>
          </a:prstGeom>
          <a:ln w="0">
            <a:noFill/>
          </a:ln>
        </p:spPr>
      </p:pic>
      <p:sp>
        <p:nvSpPr>
          <p:cNvPr id="522" name="TextBox 6"/>
          <p:cNvSpPr/>
          <p:nvPr/>
        </p:nvSpPr>
        <p:spPr>
          <a:xfrm>
            <a:off x="762120" y="1371600"/>
            <a:ext cx="7619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learning focus of the Learner-Initiated style is the learner's initiation, not the teacher's initiation, of the learning experience. An individual learner initiates a request to engage in this style and to design a full learning experience making all decisions, including the specific topic to investigate, planning and implementation decisions, and evaluation criteria. The student's role is to keep the teacher informed about the decisions made in the learning experience.</a:t>
            </a:r>
            <a:endParaRPr b="0" lang="en-US" sz="1800" spc="-1" strike="noStrike">
              <a:solidFill>
                <a:srgbClr val="000000"/>
              </a:solidFill>
              <a:latin typeface="Calibri"/>
            </a:endParaRPr>
          </a:p>
        </p:txBody>
      </p:sp>
      <p:pic>
        <p:nvPicPr>
          <p:cNvPr id="523" name="Picture 3" descr=""/>
          <p:cNvPicPr/>
          <p:nvPr/>
        </p:nvPicPr>
        <p:blipFill>
          <a:blip r:embed="rId2"/>
          <a:stretch/>
        </p:blipFill>
        <p:spPr>
          <a:xfrm>
            <a:off x="760320" y="4362480"/>
            <a:ext cx="7624800" cy="142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2" descr=""/>
          <p:cNvPicPr/>
          <p:nvPr/>
        </p:nvPicPr>
        <p:blipFill>
          <a:blip r:embed="rId1"/>
          <a:stretch/>
        </p:blipFill>
        <p:spPr>
          <a:xfrm>
            <a:off x="0" y="990720"/>
            <a:ext cx="9144000" cy="60120"/>
          </a:xfrm>
          <a:prstGeom prst="rect">
            <a:avLst/>
          </a:prstGeom>
          <a:ln w="0">
            <a:noFill/>
          </a:ln>
        </p:spPr>
      </p:pic>
      <p:sp>
        <p:nvSpPr>
          <p:cNvPr id="525" name="TextBox 6"/>
          <p:cNvSpPr/>
          <p:nvPr/>
        </p:nvSpPr>
        <p:spPr>
          <a:xfrm>
            <a:off x="762120" y="1405080"/>
            <a:ext cx="7543800" cy="23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the anatomy of the Learner-Initiated style, the role of the learner is to independently initiate this behavior and make all the decisions in the pre-impact, including which teaching–learning behaviors will be used in the impact, and create the criteria decisions for the post-impact. Provided the teacher is qualified in the subject matter, the teacher’s role is now to accept the learner’s readiness to make maximum decisions in the learning experience, to be supportive, and to participate according to the learner’s requests.</a:t>
            </a:r>
            <a:endParaRPr b="0" lang="en-US" sz="1600" spc="-1" strike="noStrike">
              <a:solidFill>
                <a:srgbClr val="000000"/>
              </a:solidFill>
              <a:latin typeface="Calibri"/>
            </a:endParaRPr>
          </a:p>
        </p:txBody>
      </p:sp>
      <p:sp>
        <p:nvSpPr>
          <p:cNvPr id="526" name="TextBox 2"/>
          <p:cNvSpPr/>
          <p:nvPr/>
        </p:nvSpPr>
        <p:spPr>
          <a:xfrm>
            <a:off x="2514600" y="3962520"/>
            <a:ext cx="4114800" cy="34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re-Impact...........................(Teach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Impact......................................... </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ost-Impact....................... (Learner</a:t>
            </a:r>
            <a:r>
              <a:rPr b="0" lang="en-US" sz="2200" spc="-1" strike="noStrike" baseline="-25000">
                <a:solidFill>
                  <a:srgbClr val="000000"/>
                </a:solidFill>
                <a:latin typeface="Myriad Pro"/>
                <a:ea typeface="Arial"/>
              </a:rPr>
              <a:t>T</a:t>
            </a:r>
            <a:r>
              <a:rPr b="0" lang="en-US" sz="2200" spc="-1" strike="noStrike">
                <a:solidFill>
                  <a:srgbClr val="000000"/>
                </a:solidFill>
                <a:latin typeface="Myriad Pro"/>
                <a:ea typeface="Arial"/>
              </a:rPr>
              <a:t>)</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527" name="TextBox 1"/>
          <p:cNvSpPr/>
          <p:nvPr/>
        </p:nvSpPr>
        <p:spPr>
          <a:xfrm>
            <a:off x="5773320" y="4572000"/>
            <a:ext cx="3942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2"/>
          <p:cNvSpPr/>
          <p:nvPr/>
        </p:nvSpPr>
        <p:spPr>
          <a:xfrm>
            <a:off x="762120" y="1676520"/>
            <a:ext cx="75438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Description</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Learner-Initiated style, the role of the learner is to independently initiate this behavior and make all decisions in the pre-impact, including which teaching-learning behaviors will be used in the impact, and create the criteria decisions for the post-impact. Provided the teacher is qualified in the subject matter, the teacher's role is now to accept the learner's readiness to make maximum decisions in the learning experience, to be supportive, and to participate according to the learner's reques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Box 2"/>
          <p:cNvSpPr/>
          <p:nvPr/>
        </p:nvSpPr>
        <p:spPr>
          <a:xfrm>
            <a:off x="762120" y="1676520"/>
            <a:ext cx="75438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Learner-Initiated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honor the individual who:</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ooses to initiate a learning experience to discover, create, and develop ideas in an area of his/her choi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ooses to initiate a multifaceted learning experie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set standards of performance and evaluation on one's own</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Box 2"/>
          <p:cNvSpPr/>
          <p:nvPr/>
        </p:nvSpPr>
        <p:spPr>
          <a:xfrm>
            <a:off x="762120" y="1447920"/>
            <a:ext cx="75438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Learner-Initiated style is achieved, the following behavioral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ooses to be independent</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ooses to challenge him/herself by assuming the responsibilities for creating his/her learning experie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as a need to go beyond the boundaries of the activities presented to the rest of the clas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provide opportunities for individuals to be self-directed</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of Teaching Styles</dc:creator>
  <dc:description/>
  <dc:language>en-US</dc:language>
  <cp:lastModifiedBy>Drew</cp:lastModifiedBy>
  <dcterms:modified xsi:type="dcterms:W3CDTF">2013-07-30T20:28:53Z</dcterms:modified>
  <cp:revision>6</cp:revision>
  <dc:subject/>
  <dc:title>Command-Style A</dc:title>
</cp:coreProperties>
</file>