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B7034-0220-4DAC-A273-194C6A139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3877B-4AFF-49A5-88C6-B8415D8330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BA8C-2CFA-4960-BE90-03827DBC81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47E9B7-CF8D-4CBF-9BA3-B711D15346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7B7F49-F847-44DD-A993-73CB74B5AF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C76F0-07C2-411F-A588-261070653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898988-B4D8-4D9B-9E46-9278BECFB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FC445-0E09-4B41-B37F-CA6BE45EEF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D68AC-8EEA-4D2F-B01E-D6381E443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959615-5F90-469C-A7DE-140BBC46D5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4F4D42-E89C-464C-81FF-EF4BF63E96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5E8639-13E0-459B-B713-A17C89BA01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7D8AC5-D054-44F1-B92C-42D5FBFA34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D65BBE-8ADB-4841-B815-A228C27863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6CEA61-A929-4C7F-9BF6-A1C082A55B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8BFD1-48D9-4D99-8CD3-EFC3495560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745DF4-AF48-490A-9B4D-CFCD0760C5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FBA6B-6625-4889-BBB7-DEA3CB8075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25EBD-011E-42FE-BBF9-6197DAAEB6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44453E-3B88-4FCF-9E59-F6696CB435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B583E-9957-4ED5-818B-9672E35D6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E8242-77DA-4C07-898C-00827B988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0A9A64-DF73-46A7-95FF-D73B4ABC41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28F57A-AE7A-4B7D-906A-EEFFEFDECC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6BE576-EC49-4556-AC6F-A7011DE3C6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32DE43-D3EF-4253-BD52-6854CAEC42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721D1-3317-40B8-9371-418B705E38F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F23A67-6F5A-496F-9135-CD94398CCA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1D2ECA-8143-4CC3-8E79-B2E60BF9B9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6DD2E-49EA-45A9-A043-48438A5342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0417DB-3EAA-4234-8578-86C00EAF7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A250E8-F58D-4C15-8DE9-B2093F797F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AB0BD8-F322-40DD-B922-8DECBAC8A2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DEF71-8B22-4D37-831F-B127F1E3B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32BA16-AD28-42A9-B9A6-E35986C16DE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AED7B6-BFA8-4F18-A7F1-9D5BC7453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8CE4EC-AB3C-425B-ABFE-269F4BFA2A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13D258-412D-42DB-B759-3B438BB763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00518C-8DE8-4403-A19D-6A732E284A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69A698-868F-4819-8A43-9702F1BD03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F536AC-16C6-46A4-AE72-AAADEFDAC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2C81C2-BFF0-46AA-8309-DA1675E9E0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DBEB29-3FD5-413C-8EB2-1C9B66DB99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83469FC-D49C-4AD5-AB6E-BAFDD35A99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A22CE-BDA6-4D96-BB60-9A1F51F77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0BA172-4860-419D-8C76-81F0B33272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92F0F8-6915-479C-8E8E-F6E3DAD5FD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F986B2-C384-4B56-B505-C2455B340F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4FE3001-34D2-4216-81F5-F77E7C8724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62013EA-2259-456B-B4E5-219FC6B3B5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4F85-19D7-4712-8D95-07FCF7039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F5F9-DD89-4798-9B96-759FADA05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3F64F-B93E-441C-BC47-E92A38900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AC9D-5393-4049-AD53-C4EAA2B32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AC7D7-447A-4C61-A67F-BE5230ECE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29F9-0586-43B4-8296-7B5B9737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6B513-1122-478E-8053-CD425D3B8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11310-C1BE-4312-BCBA-C4E611778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6B3FA-F2FE-47D8-A6DA-6AEED1920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76121-F0B3-4E86-922F-87BFB119F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3A961E-DB06-436B-B53D-E03ADA074C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18F2D-FC9E-4FB4-BF3D-7484672B5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FE469-0884-43B1-B869-5BC845EC1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5B78E9-783C-4825-9052-2A19AD113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52687-27D9-41D2-9DF5-780CC11A1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B5165-5104-4BCE-8E6A-39F6B4561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9DF3B-9A42-4604-AAC8-B469ABAEA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CCD7E-BB59-4A12-B23C-89B0B4472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AA1EE-9559-4830-9803-E77E2DA65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A567D-2765-40C3-A604-F6F919D83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3D7A8-2DB6-4666-8BB9-6668025596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1E5E2-EFEF-42C2-9ACE-E5A92CDFC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5D5469-344F-434A-86FC-B02981D3BA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CF886C-B9E8-42F5-9ACB-7D1704AFF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73544D-EECE-4E20-8AF7-35D36AC2CA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3963C-E881-450A-A124-FA6843782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0B1827-CF06-4143-B525-ED9D857AA1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89B94-D0A0-40B1-BD69-753AF9E602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F3779-8F9B-4701-87CA-5E9F76A79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2E5CD-46FD-4B1F-B3B3-3F63E20431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81887-FE7D-4081-9306-DA55F22B1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969F93-150D-4405-BD28-8D80F66E97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9B97B-DA51-45A5-B6EA-1E84FAE88F9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52F577-249F-4B60-B895-788996674D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75A38C-CE31-48ED-A2E2-CBB2879CC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3CAB9-0CA2-4BCF-96C6-1C8DAAB07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811396-8F24-400C-8367-B49F2D9EF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871BE-764A-4524-9767-3D42C73508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0D770C-203C-4409-8394-04ED89FA6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DADD3-93D1-4C86-BB0A-FB644F3B9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68370-4EC4-4719-8F88-16A150A1A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4190D-D650-492D-939F-4CC9DE6D3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8D514F-9999-4B3A-A488-C94C5CCA8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18DCD-1E81-4F70-AFFC-2FB6570A94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6CF642-53DE-4349-858E-5EEEB5B78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71D18-54C9-4870-A1B5-C796EF46FC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664A8B-896A-4121-9E3A-8301B30A85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88403-B10E-4F88-8F82-6518AF8C37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AC4F45-2B1D-4272-B08C-4A75969F0F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CE05C3-8299-4CF3-B474-0F829CD544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833684-957B-4243-B635-C33956804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19004-0CD7-45F6-9D48-03FF98AE3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17124-8467-455E-9118-59DBD517F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390A8B-0FD3-4E2C-A19C-8FA441D2A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FC13B-CC92-439E-8DD3-B172F47029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E23E95-C105-458F-B725-535CF8748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9CC590-3B32-48FA-B73F-E748967B97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982D1-B126-4860-90CB-36F9142299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CE8796-A704-4852-B42E-836D7B7A0D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2BAAB-344A-45AE-885F-A8BB0CE59E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BFA80B-E1F8-4D15-A185-0D51538B19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487BDA-A845-44E1-8307-F436A8DB0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3DFA80-C24F-4EFD-ABC6-AAB95F5AE3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EF41C0-BCFC-480D-854B-BEBF1121BE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FB68D-A1B2-46D6-A52C-C7348E248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6B177-C197-4158-8C35-6AF353863E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4E4F6F-029C-4456-88B9-059D54C6B1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DE903-8A83-46D7-822F-6BEBD17F1C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F52F4E-C96E-47B2-8EE0-1BEAB96C35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6535BC-D173-40F5-8193-72B3CB859A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8643A6-690E-4716-AC24-1EC29EF5BF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2F5B0-EF57-4C46-9D58-922EBB180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5C0E85-F802-4FCB-99B3-76063473564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E6B6D-57B6-4ADC-B7A1-72380CFFF6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9782-33A2-40E2-9C04-86A6029ABE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2A1E-1C11-435E-97B5-F71BBF7681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12B9-FC11-4D05-AD3B-003E4C6216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7"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9537-FAA4-402D-8868-21C4B81F275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3293-9974-4E17-8D7C-3AEA08FE0D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26957-79F8-43D6-9031-D0B60D79640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F938-F86F-4280-B669-264666E427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23E0-606D-41C3-8E8D-0ACAFC667B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arner-Designed Individual Program Style-I</a:t>
            </a:r>
            <a:endParaRPr b="0" lang="en-US" sz="2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F6A6-C961-4BFA-8F2C-8181AE16B1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Learner-Designed I.P.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style you will see that the teacher designates a broad subject matter/topic and within that topic each student is responsible for producing an individual learning program that includes setting goals and the process for accomplishing the goals. The learners design, implement, refine the program, and create performance criteria for their individual learning programs. The teacher acknowledges the production of ideas and asks questions for information or clarification about the learning program. Episodes in this style take time to produce.</a:t>
            </a:r>
            <a:endParaRPr b="0" lang="en-US" sz="16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Learner-Designed I.P.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52388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Learner-Initiated Style is to acknowledge a learner's motivation and cognitive intentions to design his/her own learning experience.  In this style a learner initiates a request to pursue the complexities inherent in making all decisions, defining learning objectives, and producing  ideas.  In this style the learner determines the  teacher's degree of involvement.</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76160" y="4114800"/>
            <a:ext cx="7591680" cy="1428840"/>
          </a:xfrm>
          <a:prstGeom prst="rect">
            <a:avLst/>
          </a:prstGeom>
          <a:ln w="0">
            <a:noFill/>
          </a:ln>
        </p:spPr>
      </p:pic>
      <p:pic>
        <p:nvPicPr>
          <p:cNvPr id="529" name="Picture 3" descr=""/>
          <p:cNvPicPr/>
          <p:nvPr/>
        </p:nvPicPr>
        <p:blipFill>
          <a:blip r:embed="rId3"/>
          <a:stretch/>
        </p:blipFill>
        <p:spPr>
          <a:xfrm>
            <a:off x="905040" y="5854680"/>
            <a:ext cx="237960" cy="228600"/>
          </a:xfrm>
          <a:prstGeom prst="rect">
            <a:avLst/>
          </a:prstGeom>
          <a:ln w="0">
            <a:noFill/>
          </a:ln>
        </p:spPr>
      </p:pic>
      <p:sp>
        <p:nvSpPr>
          <p:cNvPr id="530" name="TextBox 5"/>
          <p:cNvSpPr/>
          <p:nvPr/>
        </p:nvSpPr>
        <p:spPr>
          <a:xfrm>
            <a:off x="1219320" y="57243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52960" y="4838760"/>
            <a:ext cx="762120" cy="190440"/>
          </a:xfrm>
          <a:prstGeom prst="rect">
            <a:avLst/>
          </a:prstGeom>
          <a:ln w="0">
            <a:noFill/>
          </a:ln>
        </p:spPr>
      </p:pic>
      <p:pic>
        <p:nvPicPr>
          <p:cNvPr id="532" name="Picture 2" descr=""/>
          <p:cNvPicPr/>
          <p:nvPr/>
        </p:nvPicPr>
        <p:blipFill>
          <a:blip r:embed="rId2"/>
          <a:stretch/>
        </p:blipFill>
        <p:spPr>
          <a:xfrm>
            <a:off x="0" y="990720"/>
            <a:ext cx="9144000" cy="60120"/>
          </a:xfrm>
          <a:prstGeom prst="rect">
            <a:avLst/>
          </a:prstGeom>
          <a:ln w="0">
            <a:noFill/>
          </a:ln>
        </p:spPr>
      </p:pic>
      <p:sp>
        <p:nvSpPr>
          <p:cNvPr id="533" name="TextBox 6"/>
          <p:cNvSpPr/>
          <p:nvPr/>
        </p:nvSpPr>
        <p:spPr>
          <a:xfrm>
            <a:off x="762120" y="1447920"/>
            <a:ext cx="75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Learner-Designed I. P. style, the role of the teacher is to make general subject matter logistical decisions for the learners. The role of the learner is to make decisions about how to investigate the general subject matter topic: to produce questions that lead to a specific focus within the general topic, to produce the questions that result in identifying the process and procedures, to discover the solutions/movements, and to designate the performance criteria.</a:t>
            </a:r>
            <a:endParaRPr b="0" lang="en-US" sz="1800" spc="-1" strike="noStrike">
              <a:solidFill>
                <a:srgbClr val="000000"/>
              </a:solidFill>
              <a:latin typeface="Calibri"/>
            </a:endParaRPr>
          </a:p>
        </p:txBody>
      </p:sp>
      <p:pic>
        <p:nvPicPr>
          <p:cNvPr id="534" name="Picture 6" descr="C:\Users\Drew\Desktop\arrow.jpg"/>
          <p:cNvPicPr/>
          <p:nvPr/>
        </p:nvPicPr>
        <p:blipFill>
          <a:blip r:embed="rId3"/>
          <a:stretch/>
        </p:blipFill>
        <p:spPr>
          <a:xfrm>
            <a:off x="4160880" y="5372280"/>
            <a:ext cx="762120" cy="190440"/>
          </a:xfrm>
          <a:prstGeom prst="rect">
            <a:avLst/>
          </a:prstGeom>
          <a:ln w="0">
            <a:noFill/>
          </a:ln>
        </p:spPr>
      </p:pic>
      <p:sp>
        <p:nvSpPr>
          <p:cNvPr id="535" name="TextBox 1"/>
          <p:cNvSpPr/>
          <p:nvPr/>
        </p:nvSpPr>
        <p:spPr>
          <a:xfrm>
            <a:off x="2859120" y="41911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6" name="TextBox 2"/>
          <p:cNvSpPr/>
          <p:nvPr/>
        </p:nvSpPr>
        <p:spPr>
          <a:xfrm>
            <a:off x="3530520" y="44496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7" name="TextBox 8"/>
          <p:cNvSpPr/>
          <p:nvPr/>
        </p:nvSpPr>
        <p:spPr>
          <a:xfrm>
            <a:off x="3048120" y="50259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8" name="TextBox 9"/>
          <p:cNvSpPr/>
          <p:nvPr/>
        </p:nvSpPr>
        <p:spPr>
          <a:xfrm>
            <a:off x="2679840" y="55530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9" name="TextBox 1"/>
          <p:cNvSpPr/>
          <p:nvPr/>
        </p:nvSpPr>
        <p:spPr>
          <a:xfrm>
            <a:off x="4741560" y="4191120"/>
            <a:ext cx="1956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Teacher</a:t>
            </a:r>
            <a:endParaRPr b="0" lang="en-US" sz="1800" spc="-1" strike="noStrike">
              <a:solidFill>
                <a:srgbClr val="000000"/>
              </a:solidFill>
              <a:latin typeface="Calibri"/>
            </a:endParaRPr>
          </a:p>
        </p:txBody>
      </p:sp>
      <p:pic>
        <p:nvPicPr>
          <p:cNvPr id="540" name="Picture 3" descr=""/>
          <p:cNvPicPr/>
          <p:nvPr/>
        </p:nvPicPr>
        <p:blipFill>
          <a:blip r:embed="rId4"/>
          <a:stretch/>
        </p:blipFill>
        <p:spPr>
          <a:xfrm>
            <a:off x="905040" y="5954760"/>
            <a:ext cx="237960" cy="228600"/>
          </a:xfrm>
          <a:prstGeom prst="rect">
            <a:avLst/>
          </a:prstGeom>
          <a:ln w="0">
            <a:noFill/>
          </a:ln>
        </p:spPr>
      </p:pic>
      <p:sp>
        <p:nvSpPr>
          <p:cNvPr id="541" name="TextBox 12"/>
          <p:cNvSpPr/>
          <p:nvPr/>
        </p:nvSpPr>
        <p:spPr>
          <a:xfrm>
            <a:off x="1143000" y="5943600"/>
            <a:ext cx="7238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57575"/>
                </a:solidFill>
                <a:latin typeface="Arial"/>
              </a:rPr>
              <a:t>The arrows represent the decision shifts from the Divergent Discovery Style-H to the Learner Designed Individual Program Style-I.</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2"/>
          <p:cNvSpPr/>
          <p:nvPr/>
        </p:nvSpPr>
        <p:spPr>
          <a:xfrm>
            <a:off x="762120" y="1676520"/>
            <a:ext cx="7543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Learner-Designed Individual Program Style, the role of the teacher is to make general subject matter and logistical decisions for the learners. The role of the learner is to make decisions about how to investigate the general subject matter topic: to produce questions that lead to a specific focus within the general topic, to produce questions that result in identifying the process and procedures, to discover the solutions/movements, and to designate the performance criter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Learner-Designed Individual Program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create, and organize ideas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subject matter that deals with a complex issue over an extended period of tim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gage in a systematic process to explore and examine an issu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et standards of performance and evaluation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2"/>
          <p:cNvSpPr/>
          <p:nvPr/>
        </p:nvSpPr>
        <p:spPr>
          <a:xfrm>
            <a:off x="762120" y="14479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Learner-Designed Individual Program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commodate individual differences in thinking and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n opportunity for the learner to experience increased independence over a relatively long period of tim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ercise perseverance and tenacit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opportunities for individuals to be self-direct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Bernardo Gomez</cp:lastModifiedBy>
  <dcterms:modified xsi:type="dcterms:W3CDTF">2014-04-15T15:19:12Z</dcterms:modified>
  <cp:revision>10</cp:revision>
  <dc:subject>Spectrum of Teaching Styles</dc:subject>
  <dc:title>Learner-Designed I.P. Style-I</dc:title>
</cp:coreProperties>
</file>