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96F6-F85F-4CC7-95A3-814B1DB77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D5131-743B-4478-A23C-064B74C5F4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278A9-6E39-49EA-8612-4AAB4DA3EF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ABBE53-C7FA-490E-A841-A3C2E5A05B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A41DE2-DC71-4316-A2D7-B155B0B3B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DBDA7-AF23-43BC-B184-CFD6A7A2E7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E2AC09-F572-44E6-9CF1-159D43066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F03A4-FEFB-4F24-9682-85110ADBD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29F6A5-4247-4841-8F77-B2CCE26CE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95F90A-AC26-4331-A5CF-3E1B39D69D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2B3BE7-87D8-4EC3-AD7C-927D148416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0E902B-F360-4644-8645-ADA474856A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D00A58-C909-4DE5-89A0-44225F6D76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84F652-AC9E-4566-B4BB-48F1310381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CB4CA3-B3AE-4DD7-A3F1-630BD8962D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20363B-548D-43F6-B49B-B27B3421D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36BFDC-1DCE-4912-B47C-A3A631EAC7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473A0A-5903-4632-8F18-3695489A68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28782-4B38-4CAD-8A09-B5D447629A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39FF77-9BDA-4E51-B9AA-107B14230A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C77684-82A0-40BE-B314-0A802D1EC6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63618D-B42E-4147-B8B2-D8B7B13B88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0D4F8-CA66-4AF4-A0EC-14E70DF0A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2257CA-9D45-47E1-A69C-5A2E362643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47DC3F-5E07-430D-89FF-20AD15D3FB8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6F221D-E377-47E1-A2D0-20FB830A01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B4771E-0894-4180-B7E3-278D53FEA3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41499F-618F-455B-A1A9-B76BA26043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C034C2-6EC8-4F9F-AE31-15D06D7A09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4CFB68-1970-4978-9B19-6A7F1BB7CD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DAD36-FD28-475B-AAC9-F6A962FBE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181E8-7F2E-4989-AE08-68839C4E2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95F5E4-2780-4D52-97EA-3837FC51FC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0247A-5501-4790-B083-7ADAA7267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530C9-8419-4269-B25B-96CE0D4140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1671DE-2BE4-4220-88ED-738D1C50D6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D30C18-07C3-47A7-A6DB-89921F49A8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36061F-DE71-47E0-9956-4609C12D3F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73A5C3-34CA-43E6-A713-3F5F43EA41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05B60B-98E2-4E24-86C3-847B85F9632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0D0013-46EE-4349-BA82-57BB175E797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7A7FDE4-9B9A-470F-B3CE-FCB3F8F2DB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34D58C-BD64-4066-ADA9-DC57CE4C65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5F2756-2FC2-49A2-9D64-69106ED758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2F0D6-E394-4921-B20F-57AAEDC7E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D3BA5F-E438-4248-99C6-878A4BA72D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6B1B27-E86B-464F-9D8E-967BF6DD94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5F3446-2D56-4166-8A7D-263CB29BDB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D89E3D4-28F1-47D5-BBFB-D5483F09A9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F819461-4C18-464D-85CA-1E8A558AD1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85071-84A4-4E26-8FB4-E2EB011BF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88AC2-061D-42F8-AEC4-65776A4A3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C3AB0-76FB-4244-B549-F0BDC5EE9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A122D-B6BC-4706-AAD3-FC311DFF5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FD346-4D63-412F-AEE8-D9D188F39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18AA6-7071-4FF5-9079-272B58912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F091-7B98-46E6-9766-26C1E9367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22649-8A3D-4C1A-A016-BCD1CC153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89CDC-4969-4458-8B53-F8BB96255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1A314-E986-4C75-A235-D5A18975D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CD855B-12C0-4F52-8147-F2713E11E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932C1-F88E-41D8-9076-A66247A87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D744C-9A31-487A-BF4B-1F89C0BC89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C17D57-691D-4267-9736-57802607F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BED1E-6233-4913-B8EA-880DE41C9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A3251-5C91-46D4-A879-506DA1497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31891-A747-4C83-A873-1F417E57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9DCF7-2370-45DE-B041-F9EBE6A5C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FD564-E874-4A39-A744-68BA03613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70AE7-BD41-43F4-B0A0-8C33F2D36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5C0AC-64E3-4797-B8CA-638304B91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4D11C7-5AEB-4B59-A3ED-73F04BADC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72D315-52BD-4425-81D3-4731927898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101365-831F-42A1-AF3A-4F88768378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2565C-0AEA-4F5F-AE2C-066950732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A4D914-3A9F-466E-9350-FE0587620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9FE5D-45A7-4EE6-8725-5073A380E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E6D065-780D-43A3-AE92-CB454E8AC5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88AF2-1DBB-48E7-AE18-9457B673B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EF6D0-71BA-45E1-8524-3D9EF7920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E5360-812C-4306-AB0B-CB7B103BF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100F2B-1240-4A63-848C-67C1DC5D4A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EB0AD6-FF42-4D6F-8AD7-4266F46D43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E58574-8734-4B87-AE6E-E81787ECC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F12657-E111-4D65-9B10-E9C0CA433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842BA5-D95F-44C8-A9B6-A7BF19B4C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D9C27-CA0D-484F-96D3-48F34E1F7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ED87F-0453-4155-88DF-9C2934FC9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C3D67B-4FE9-41F3-8948-F8A74A7F4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21BCDF-3934-438F-98BA-D81386464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3831D-5925-4782-9331-ADC76D48B4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B4D0F-2BAE-4938-87CC-0524138468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37D40-5AAB-4F35-AEAE-146F1C43D4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CA3BC5-749A-4E03-B0CD-28A6F20317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BCB4CA-603B-4A16-836B-44A22375C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A3CE1A-788F-4444-A138-9A1324B3AC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01B070-F29B-480B-AE5C-A79287E97C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4A20CC-A08B-4E76-AB86-D4356574EF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71B4ED-7EB4-45E3-B18C-CF4F7D03DD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DAD493-3E5A-4D1E-810E-1D94E60FA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96D5CA-9A10-4F8E-970B-3A7A4E950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E87E03-6A5F-488A-A69B-79CBC3207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323FC-B17A-4158-B728-D93638685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01871-97E5-4316-BA45-6367893D1A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94D91-FB44-4A9C-ACED-A2F145478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CB73AC-745D-4E10-9822-2BB12ACC1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672BD-9FAA-47B8-9BFB-A0BF3251B9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59791B-9024-4971-B554-EE2B5DE68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407F0D-14E2-4E3A-8565-5F73A1EA3B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B48624-A944-4AE2-B4CE-D7DDF5274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93F50F-A670-4B30-9AEA-1B80012CFB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D3FC0-5571-42B4-83B1-483C18A924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645D48-A495-44FF-A656-91A42B355B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593DD-85CB-47A7-8A9C-A21C5A44A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B5D16-D3B5-4440-9294-A10DC15034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BDF48D-8DF6-41C6-9DF3-9AEC5554BF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E7E31-9559-4340-8DCF-F155D9B92A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D2B433-AE5F-4C46-AD3A-DDC3AD1107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32E82E-B04B-4AA7-B7FC-94C0304AB4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0AA7F0-B63C-4945-BEB2-374554353E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2C832D-8505-4EAC-B2A4-4ED176CEC1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030AF5-E50B-466B-8DC2-739A43C4E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354E7B-1332-440A-ADA8-8CAC38B9E74D}"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A0B12-04B0-4FD1-9DDC-35E4BFFB023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F36DE-63BB-4871-8CDA-219B875A82C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08256-DE65-4D4B-8826-D62C8D7D25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250A-5C44-40E6-A649-A85AC362C2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09AC-554B-4705-ABA7-1907314B18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D23D-D762-4E09-BA79-A309287CE1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CE0A-3938-4DED-B2BB-37F0EC3DA3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8BB29-83A1-4049-81A6-F891CAA8CE5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E72F-0642-4B7D-BB94-11DEA971C5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er-Initiated Style-J</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B5DF3-170B-4388-9743-9505CA1596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466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Learner-Initiated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s style is not recognizable in the classroom because it is initiated by one student privately to the teacher. This style is not a whole class experience, an assignment, or a teacher planned project. One student initiates and requests this style of the teacher. The student plans his/her own learning experience by making all decisions: selects the subject matter intent, designs, executes, and identifies the assessment criteria for the learning experience. The teacher participates when and how the learner requests. The teacher acknowledges the learner's successful implementation of the plans and initiates questions where discrepancies emerge between the learner's intent and actions. It is not the teacher's job to evaluate, rather act as a reference source between the indicated intent and action.</a:t>
            </a:r>
            <a:endParaRPr b="0" lang="en-US" sz="15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is style is only for the individual who approaches the teacher to request this experience; it is not a whole class experience.</a:t>
            </a:r>
            <a:endParaRPr b="0" lang="en-US" sz="1400" spc="-1" strike="noStrike">
              <a:solidFill>
                <a:srgbClr val="000000"/>
              </a:solidFill>
              <a:latin typeface="Calibri"/>
            </a:endParaRPr>
          </a:p>
        </p:txBody>
      </p:sp>
      <p:pic>
        <p:nvPicPr>
          <p:cNvPr id="522" name="Picture 2" descr=""/>
          <p:cNvPicPr/>
          <p:nvPr/>
        </p:nvPicPr>
        <p:blipFill>
          <a:blip r:embed="rId1"/>
          <a:stretch/>
        </p:blipFill>
        <p:spPr>
          <a:xfrm>
            <a:off x="762120" y="1676520"/>
            <a:ext cx="7584840" cy="1066680"/>
          </a:xfrm>
          <a:prstGeom prst="rect">
            <a:avLst/>
          </a:prstGeom>
          <a:ln w="0">
            <a:noFill/>
          </a:ln>
        </p:spPr>
      </p:pic>
      <p:sp>
        <p:nvSpPr>
          <p:cNvPr id="523" name="TextBox 2"/>
          <p:cNvSpPr/>
          <p:nvPr/>
        </p:nvSpPr>
        <p:spPr>
          <a:xfrm>
            <a:off x="1981080" y="174780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Learner-Initiated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6033960"/>
            <a:ext cx="237960" cy="228600"/>
          </a:xfrm>
          <a:prstGeom prst="rect">
            <a:avLst/>
          </a:prstGeom>
          <a:ln w="0">
            <a:noFill/>
          </a:ln>
        </p:spPr>
      </p:pic>
      <p:sp>
        <p:nvSpPr>
          <p:cNvPr id="525" name="TextBox 3"/>
          <p:cNvSpPr/>
          <p:nvPr/>
        </p:nvSpPr>
        <p:spPr>
          <a:xfrm>
            <a:off x="1219320" y="59529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371600"/>
            <a:ext cx="7619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Learner-Initiated Style is to acknowledge a learner's motivation and cognitive initiation to design his/her own learning experience. In this style an individual learner initiates a request, not the teacher, to engage in this T-L relationship that shifts the complete learning experience and making of all decisions, including the specific topic to investigate, planning, and implementation decisions, and evaluation criteria to the student. The student's role is to keep the teacher informed about the decisions made in the learning experience.</a:t>
            </a:r>
            <a:endParaRPr b="0" lang="en-US" sz="1800" spc="-1" strike="noStrike">
              <a:solidFill>
                <a:srgbClr val="000000"/>
              </a:solidFill>
              <a:latin typeface="Calibri"/>
            </a:endParaRPr>
          </a:p>
        </p:txBody>
      </p:sp>
      <p:pic>
        <p:nvPicPr>
          <p:cNvPr id="528" name="Picture 5" descr=""/>
          <p:cNvPicPr/>
          <p:nvPr/>
        </p:nvPicPr>
        <p:blipFill>
          <a:blip r:embed="rId2"/>
          <a:stretch/>
        </p:blipFill>
        <p:spPr>
          <a:xfrm>
            <a:off x="762120" y="4343400"/>
            <a:ext cx="7623000" cy="1428840"/>
          </a:xfrm>
          <a:prstGeom prst="rect">
            <a:avLst/>
          </a:prstGeom>
          <a:ln w="0">
            <a:noFill/>
          </a:ln>
        </p:spPr>
      </p:pic>
      <p:pic>
        <p:nvPicPr>
          <p:cNvPr id="529" name="Picture 3" descr=""/>
          <p:cNvPicPr/>
          <p:nvPr/>
        </p:nvPicPr>
        <p:blipFill>
          <a:blip r:embed="rId3"/>
          <a:stretch/>
        </p:blipFill>
        <p:spPr>
          <a:xfrm>
            <a:off x="905040" y="6083280"/>
            <a:ext cx="237960" cy="228600"/>
          </a:xfrm>
          <a:prstGeom prst="rect">
            <a:avLst/>
          </a:prstGeom>
          <a:ln w="0">
            <a:noFill/>
          </a:ln>
        </p:spPr>
      </p:pic>
      <p:sp>
        <p:nvSpPr>
          <p:cNvPr id="530" name="TextBox 7"/>
          <p:cNvSpPr/>
          <p:nvPr/>
        </p:nvSpPr>
        <p:spPr>
          <a:xfrm>
            <a:off x="1219320" y="59529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52960" y="4305240"/>
            <a:ext cx="762120" cy="190440"/>
          </a:xfrm>
          <a:prstGeom prst="rect">
            <a:avLst/>
          </a:prstGeom>
          <a:ln w="0">
            <a:noFill/>
          </a:ln>
        </p:spPr>
      </p:pic>
      <p:pic>
        <p:nvPicPr>
          <p:cNvPr id="532" name="Picture 2" descr=""/>
          <p:cNvPicPr/>
          <p:nvPr/>
        </p:nvPicPr>
        <p:blipFill>
          <a:blip r:embed="rId2"/>
          <a:stretch/>
        </p:blipFill>
        <p:spPr>
          <a:xfrm>
            <a:off x="0" y="990720"/>
            <a:ext cx="9144000" cy="60120"/>
          </a:xfrm>
          <a:prstGeom prst="rect">
            <a:avLst/>
          </a:prstGeom>
          <a:ln w="0">
            <a:noFill/>
          </a:ln>
        </p:spPr>
      </p:pic>
      <p:sp>
        <p:nvSpPr>
          <p:cNvPr id="533" name="TextBox 6"/>
          <p:cNvSpPr/>
          <p:nvPr/>
        </p:nvSpPr>
        <p:spPr>
          <a:xfrm>
            <a:off x="762120" y="1328760"/>
            <a:ext cx="754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Learner-Initiated style, the role of the learner is to independently initiate this behavior and make all the decisions in the pre-impact, including which teaching–learning behaviors will be used in the impact, and create the criteria decisions for the post-impact. Provided the teacher is qualified in the subject matter, the teacher’s role is now to accept the learner’s readiness to make maximum decisions in the learning experience, to be supportive, and to participate according to the learner’s requests.</a:t>
            </a:r>
            <a:endParaRPr b="0" lang="en-US" sz="1800" spc="-1" strike="noStrike">
              <a:solidFill>
                <a:srgbClr val="000000"/>
              </a:solidFill>
              <a:latin typeface="Calibri"/>
            </a:endParaRPr>
          </a:p>
        </p:txBody>
      </p:sp>
      <p:pic>
        <p:nvPicPr>
          <p:cNvPr id="534" name="Picture 6" descr="C:\Users\Drew\Desktop\arrow.jpg"/>
          <p:cNvPicPr/>
          <p:nvPr/>
        </p:nvPicPr>
        <p:blipFill>
          <a:blip r:embed="rId3"/>
          <a:stretch/>
        </p:blipFill>
        <p:spPr>
          <a:xfrm>
            <a:off x="4160880" y="4838760"/>
            <a:ext cx="762120" cy="190440"/>
          </a:xfrm>
          <a:prstGeom prst="rect">
            <a:avLst/>
          </a:prstGeom>
          <a:ln w="0">
            <a:noFill/>
          </a:ln>
        </p:spPr>
      </p:pic>
      <p:sp>
        <p:nvSpPr>
          <p:cNvPr id="535" name="TextBox 1"/>
          <p:cNvSpPr/>
          <p:nvPr/>
        </p:nvSpPr>
        <p:spPr>
          <a:xfrm>
            <a:off x="2859120" y="41911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6" name="TextBox 2"/>
          <p:cNvSpPr/>
          <p:nvPr/>
        </p:nvSpPr>
        <p:spPr>
          <a:xfrm>
            <a:off x="3530520" y="44496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7" name="TextBox 8"/>
          <p:cNvSpPr/>
          <p:nvPr/>
        </p:nvSpPr>
        <p:spPr>
          <a:xfrm>
            <a:off x="3048120" y="50259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8" name="TextBox 9"/>
          <p:cNvSpPr/>
          <p:nvPr/>
        </p:nvSpPr>
        <p:spPr>
          <a:xfrm>
            <a:off x="2679840" y="55530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9" name="TextBox 1"/>
          <p:cNvSpPr/>
          <p:nvPr/>
        </p:nvSpPr>
        <p:spPr>
          <a:xfrm>
            <a:off x="4781160" y="4191120"/>
            <a:ext cx="1523160" cy="150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r>
              <a:rPr b="1" lang="en-US" sz="1800" spc="-1" strike="noStrike" baseline="-25000">
                <a:solidFill>
                  <a:srgbClr val="6f4141"/>
                </a:solidFill>
                <a:latin typeface="Arial"/>
              </a:rPr>
              <a:t>Teacher</a:t>
            </a:r>
            <a:endParaRPr b="0" lang="en-US" sz="1800" spc="-1" strike="noStrike">
              <a:solidFill>
                <a:srgbClr val="000000"/>
              </a:solidFill>
              <a:latin typeface="Calibri"/>
            </a:endParaRPr>
          </a:p>
        </p:txBody>
      </p:sp>
      <p:pic>
        <p:nvPicPr>
          <p:cNvPr id="540" name="Picture 3" descr=""/>
          <p:cNvPicPr/>
          <p:nvPr/>
        </p:nvPicPr>
        <p:blipFill>
          <a:blip r:embed="rId4"/>
          <a:stretch/>
        </p:blipFill>
        <p:spPr>
          <a:xfrm>
            <a:off x="905040" y="5954760"/>
            <a:ext cx="237960" cy="228600"/>
          </a:xfrm>
          <a:prstGeom prst="rect">
            <a:avLst/>
          </a:prstGeom>
          <a:ln w="0">
            <a:noFill/>
          </a:ln>
        </p:spPr>
      </p:pic>
      <p:sp>
        <p:nvSpPr>
          <p:cNvPr id="541" name="TextBox 12"/>
          <p:cNvSpPr/>
          <p:nvPr/>
        </p:nvSpPr>
        <p:spPr>
          <a:xfrm>
            <a:off x="1143000" y="5943600"/>
            <a:ext cx="7238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57575"/>
                </a:solidFill>
                <a:latin typeface="Arial"/>
              </a:rPr>
              <a:t>The arrows represent the decision shifts from the Learner Designed Individual Program Style-I to the Learner Initiated Style-J.</a:t>
            </a:r>
            <a:endParaRPr b="0" lang="en-US" sz="1200" spc="-1" strike="noStrike">
              <a:solidFill>
                <a:srgbClr val="000000"/>
              </a:solidFill>
              <a:latin typeface="Calibri"/>
            </a:endParaRPr>
          </a:p>
        </p:txBody>
      </p:sp>
      <p:sp>
        <p:nvSpPr>
          <p:cNvPr id="542" name="Rectangle 1"/>
          <p:cNvSpPr/>
          <p:nvPr/>
        </p:nvSpPr>
        <p:spPr>
          <a:xfrm>
            <a:off x="4811760" y="4606920"/>
            <a:ext cx="36648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f4141"/>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f4141"/>
                </a:solidFill>
                <a:latin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f4141"/>
                </a:solidFill>
                <a:latin typeface="Arial"/>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earner-Initiated style, the role of the learner is to independently initiate this behavior and make all decisions in the pre-impact, including which teaching-learning behaviors will be used in the impact, and create the criteria decisions for the post-impact. Provided the teacher is qualified in the subject matter, the teacher's role is to accept the learner's readiness to make maximum decisions in the learning experience, to be supportive, and to participate according to the learner's reque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earner-Initiated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honor the individual who:</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s to initiate a learning experience to discover, create, and develop ideas in an area of his/her choi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s to initiate a multifaceted learning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t standards of performance and evaluation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Box 2"/>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Learner-Initiated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s to be independen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s to challenge him/herself by assuming the responsibilities for creating his/her learning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a need to go beyond the boundaries of the activities presented to the rest of the clas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opportunities for individuals to be self-direct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Drew</cp:lastModifiedBy>
  <dcterms:modified xsi:type="dcterms:W3CDTF">2013-11-22T21:28:24Z</dcterms:modified>
  <cp:revision>9</cp:revision>
  <dc:subject>Spectrum of Teaching Styles</dc:subject>
  <dc:title>Learner Initiated Style-J</dc:title>
</cp:coreProperties>
</file>