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2FC2-3353-4D80-8954-04AA3DAA9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0080-0255-42C0-A059-B2B0730866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D540-B70F-40EC-B0FC-DF3F6C43D1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37E7DA-537D-4B07-B78B-1220250B68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CD0D6D-3052-46FC-B6B2-7C23F99806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6D4B44-3F52-49B6-833A-5A571DD8EC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75FDE-F480-47A0-ABBF-B209CCEBE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090BEA-4A29-4F0F-A8ED-53CA529632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CA8FB-118D-4E6C-9A25-D078F90330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BD0D1D-9F06-4996-ADFF-4CAEE10749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3C1FA0C-02E8-4ED9-8493-48F6E13CE9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4EB3F4-61E8-40D0-86F6-56D2C66EE9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E67E89E-ED47-4D7F-A084-5598D12C98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77BDC-4749-47E1-926A-8FD5D20A0C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52BFEE-2A66-40E2-971F-D24786E9D9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2C7CBA-AAAD-4151-9E8F-5C78CCCEF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B0877F-5049-4A9A-B712-137D78E30D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906513-BE67-4DD2-9BF0-030EE26EBD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23C3D2-6132-4FFF-A1DC-3C16173CE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E84357-F4DE-4A78-A437-A459EB46AA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3F6244-3AC9-414C-9270-365DD59DC0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3A04F2-F40A-47C8-9E2F-287DA3531E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0505C5-E562-43B0-9A47-2B99917B90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DC9663-345D-4354-8B8F-F974CAE32B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F1F093-6288-44A6-9137-FCA5417F6D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517BC5-C4BA-4C03-91B3-B029BA1734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CAD69C-3CE8-4470-9701-B5E6CE9712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174D92-98AE-4EB1-A2DB-B87655A6D7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F73440-A100-49EF-B518-EBCB8C3BEE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6F0A69-37CB-4229-937A-AF21B471F3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41A11F-424C-4A0B-A05B-7BEF20B264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220D4D-3683-4558-A4B6-82ECED043B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7E7B63-E031-47AD-92EA-4B9A4D1867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F3DC1-EC3F-4717-8BDF-7A2F11DC3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D03BE9-3768-4FB9-B06C-BB57002EDC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D880B45-725E-4ECF-A8F0-A22EAF887A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1A64D9-5BFA-47C6-A486-445AC6F72D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700F72-1BB7-4067-B83A-5B044FFDCD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B01B5F7-5020-48F6-A2E1-9B9F49AFA8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98BDDF-3CBB-4F0D-A6F1-4B1702986B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286287-0AA6-41E1-959D-DED6D5FED3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3FC22D-7ADD-4499-9691-53DF329E66B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EA6CB3-9391-4D24-AB62-47123DC3AF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B3B9FC-DC17-47FB-B69E-D73216F3A3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80237-4612-453A-84AA-987D5D137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B67F8D-FFCB-426F-8FA9-6B4D61E97C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743778-63BC-461C-B869-7FCA100510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809A05-0073-4816-B723-BEDCE9939C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0B7609-6E4C-4C25-9E04-A2B369E09B4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E7CD0C-1925-453E-9151-AAD7D0A0B9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BD3B7-B67D-4796-8D35-F38DA610B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61D97-38C7-4881-BFDB-57D72A3F7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80F65-3937-4D11-9D87-C37155E55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33583-AFD7-4EB0-995E-1205AFC50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7FFD7-02C7-422A-9707-D7720F6E6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F5321-DBB4-4069-BF06-204E9615E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5732D-A6AE-4327-96F6-91A8605B2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944DD-62E1-42B2-9E5C-D8CCC0C47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BD48C-C756-40F4-8F50-DF983555F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86029-FC3C-4FAB-A760-630813F99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82489-EDB6-4EDE-9554-9CBAB455C1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6F215-DF35-4AF6-8AC0-53456E2D2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8BA73-E669-4DC3-B4C5-CEDA75232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352A2-8938-4E4D-B979-4594AAEFE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468DE-937D-4687-B095-8BCFA03B0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3274F-A2CA-41B5-8E71-7E957CA27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74F11-87F7-43C8-AB24-DA5EF1981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6AED8-6D89-48A7-B9D5-9E2E65C41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34E6B-87E5-49B3-8ADD-249A34515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C4F71-5A1D-4CCF-A79F-2A7B4F218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22474-5172-4388-8B69-4D4A91E4A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6E69F-79DD-4D01-84AE-467B0ACDCE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B36E5E-74F9-4D80-89A4-7851763AEC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4710D2-778A-4424-8714-A16EC1E06A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D93543-C620-4FC2-8104-28E06289F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4DE3C3-A822-4660-BCA0-FE57B40A2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80D153-FC28-495E-91D5-E7C353E0A8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72CA0-146B-4FF0-8473-DEFBC0FE4C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5F3BD4-D33D-4A90-987B-64A4E09AC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48B5CF-D180-4AAD-96C7-C06B0F5A14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787FA5-1AA3-4873-9D2D-A00C3E735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DF35A3-C57F-496D-879E-B02BDE3B5C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8BF77F-E14B-4DB0-A79B-226361F497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BF51C5-7E2A-4F76-892A-FA52C4D3A1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006BB3-79F4-44EA-9943-93D72D4B6C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47CE63-F9B8-4347-988C-483840EDE0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A18408-E0EA-4169-B9FA-BA839A6770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D47173-672C-4087-97ED-9B42475A65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D83A13-E256-44E1-935F-029790AE5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E605D1-DF2C-47CB-960F-6E76CFB931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05AA9-5550-4E6A-B1A8-4805FDABB9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DBD539-A9D0-4603-9FFE-095ED896D7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58AD98-3EB5-44B7-839B-D805AC5EB4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5B083E-9D72-4FC1-840B-A20EE67397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4BDA77-129F-4927-BBF0-59233C75BF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5B4052-BD92-4062-B0AD-CDD1A9FBDB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801A7D-AF76-441C-97A0-575394FEC4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D5FBF2-E325-475F-90B2-54BC11C2E8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81F6A6-15E4-4E3E-8087-E563EDBC65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CAED03-CF42-4371-921A-06679EEB54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B3557-8D4C-428F-BBC4-F7382B2706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69EFA1-0C74-4A55-8DA8-704EC1FCDA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9A701A-D67F-44B0-8A10-7D61241AA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BBAEA5-E086-43C3-89E8-797E5A9610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4F4B02-BA11-4557-BDEC-160777F4B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FBCE28-1F10-4F8D-9006-5580829E9F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4DB04E-278F-4DF2-BD5A-0923A0483A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6ECE5A-3875-4AB7-98A9-043754C247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4C49D4-83B8-4AA8-BF53-41952116F1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4EB15A-88E6-4B7C-A537-01335E205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C8FBCA-31CD-40F9-AE8A-90765F929B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E3692E-2591-4B1A-BB30-60F16C853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17A87A-09F4-41D5-B6E4-9753E5408E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1A15F7-6AAE-427D-AF4C-9ABD107B17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7911C-683A-4131-8241-6D46B381C9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36E8CA-76A5-4B4D-BD40-D5F333CB46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583EEC-595D-4CF8-8416-C12E26874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50AAC7-55AF-4796-A6FC-BAA7546BDB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87D1A9-47DC-46C9-A10D-9879C5E46E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0965A9-9926-4E93-9CB5-6344B6A04A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F193CD-A6A8-4BC0-925C-2DA5B06C34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A13A7A-979A-4FE7-AD48-79D5BC6069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13CE2A-2D66-40EB-BC4E-DC8659AFE150}"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0C4D-899C-42D0-8BB2-D0BA89267B3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175B-A0A9-463B-9B54-7CD5516DA0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23FA-D93E-4C28-A97F-DC1F601FE1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61E2-F308-4CF9-935E-3A50869EE9C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6"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3463-67E2-4903-93D9-3D333B89AD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A675-57BC-47A9-A651-1698C33B7B3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B36C1-FBEF-4A76-A6B7-170851A585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E3BD-8961-4835-BB3A-C54766FEDAC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524CB-7086-4B3C-AB90-5F4892DF0A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e Style-B</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1E35-E7DF-46CA-AAB3-4C7402774A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Box 1"/>
          <p:cNvSpPr/>
          <p:nvPr/>
        </p:nvSpPr>
        <p:spPr>
          <a:xfrm>
            <a:off x="762120" y="1295280"/>
            <a:ext cx="7619760" cy="459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Practice Sty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the Practice Style you would see the teacher selecting the memory/reproduction subject matter tasks and all logistical parameters (such as quantity, time limits, equipment, materials, etc.) and the students individually and privately practicing the specific tasks. While the students practice, the teacher would circulate among the students and offer private feedback.  </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students experience the beginning of independence with private practice.   They learn  to initiate the nine decisions and practice tasks within an allocated time frame, and they learn to accept and be tolerant of the nine decisions others make.</a:t>
            </a:r>
            <a:endParaRPr b="0" lang="en-US" sz="1700" spc="-1" strike="noStrike">
              <a:solidFill>
                <a:srgbClr val="000000"/>
              </a:solidFill>
              <a:latin typeface="Calibri"/>
            </a:endParaRPr>
          </a:p>
        </p:txBody>
      </p:sp>
      <p:pic>
        <p:nvPicPr>
          <p:cNvPr id="522" name="Picture 2" descr=""/>
          <p:cNvPicPr/>
          <p:nvPr/>
        </p:nvPicPr>
        <p:blipFill>
          <a:blip r:embed="rId1"/>
          <a:stretch/>
        </p:blipFill>
        <p:spPr>
          <a:xfrm>
            <a:off x="762120" y="1828800"/>
            <a:ext cx="7584840" cy="1066680"/>
          </a:xfrm>
          <a:prstGeom prst="rect">
            <a:avLst/>
          </a:prstGeom>
          <a:ln w="0">
            <a:noFill/>
          </a:ln>
        </p:spPr>
      </p:pic>
      <p:sp>
        <p:nvSpPr>
          <p:cNvPr id="523" name="TextBox 2"/>
          <p:cNvSpPr/>
          <p:nvPr/>
        </p:nvSpPr>
        <p:spPr>
          <a:xfrm>
            <a:off x="1981080" y="190008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Practice Style?</a:t>
            </a:r>
            <a:endParaRPr b="0" lang="en-US" sz="1800" spc="-1" strike="noStrike">
              <a:solidFill>
                <a:srgbClr val="000000"/>
              </a:solidFill>
              <a:latin typeface="Calibri"/>
            </a:endParaRPr>
          </a:p>
        </p:txBody>
      </p:sp>
      <p:pic>
        <p:nvPicPr>
          <p:cNvPr id="524" name="Picture 3" descr=""/>
          <p:cNvPicPr/>
          <p:nvPr/>
        </p:nvPicPr>
        <p:blipFill>
          <a:blip r:embed="rId2"/>
          <a:stretch/>
        </p:blipFill>
        <p:spPr>
          <a:xfrm>
            <a:off x="914400" y="6064200"/>
            <a:ext cx="237960" cy="228600"/>
          </a:xfrm>
          <a:prstGeom prst="rect">
            <a:avLst/>
          </a:prstGeom>
          <a:ln w="0">
            <a:noFill/>
          </a:ln>
        </p:spPr>
      </p:pic>
      <p:sp>
        <p:nvSpPr>
          <p:cNvPr id="525" name="TextBox 3"/>
          <p:cNvSpPr/>
          <p:nvPr/>
        </p:nvSpPr>
        <p:spPr>
          <a:xfrm>
            <a:off x="1219320" y="5983200"/>
            <a:ext cx="70866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Arial"/>
              </a:rPr>
              <a:t>Teaching Styles A-E engage the learners in practicing tasks that rely on reproduction cognitive operations. The content in these styles may be new to the learner, a review, a practice or a test of previously experienced conten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0" y="990720"/>
            <a:ext cx="9144000" cy="60120"/>
          </a:xfrm>
          <a:prstGeom prst="rect">
            <a:avLst/>
          </a:prstGeom>
          <a:ln w="0">
            <a:noFill/>
          </a:ln>
        </p:spPr>
      </p:pic>
      <p:sp>
        <p:nvSpPr>
          <p:cNvPr id="527" name="TextBox 6"/>
          <p:cNvSpPr/>
          <p:nvPr/>
        </p:nvSpPr>
        <p:spPr>
          <a:xfrm>
            <a:off x="762120" y="1676520"/>
            <a:ext cx="7619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rning focus of the Practice Style is to initiate individual and private practice of a memory/reproduction task while receiving private feedback from the teacher.</a:t>
            </a:r>
            <a:endParaRPr b="0" lang="en-US" sz="1800" spc="-1" strike="noStrike">
              <a:solidFill>
                <a:srgbClr val="000000"/>
              </a:solidFill>
              <a:latin typeface="Calibri"/>
            </a:endParaRPr>
          </a:p>
        </p:txBody>
      </p:sp>
      <p:pic>
        <p:nvPicPr>
          <p:cNvPr id="528" name="Picture 3" descr=""/>
          <p:cNvPicPr/>
          <p:nvPr/>
        </p:nvPicPr>
        <p:blipFill>
          <a:blip r:embed="rId2"/>
          <a:stretch/>
        </p:blipFill>
        <p:spPr>
          <a:xfrm>
            <a:off x="776160" y="3657600"/>
            <a:ext cx="7591680" cy="1428840"/>
          </a:xfrm>
          <a:prstGeom prst="rect">
            <a:avLst/>
          </a:prstGeom>
          <a:ln w="0">
            <a:noFill/>
          </a:ln>
        </p:spPr>
      </p:pic>
      <p:pic>
        <p:nvPicPr>
          <p:cNvPr id="529" name="Picture 3" descr=""/>
          <p:cNvPicPr/>
          <p:nvPr/>
        </p:nvPicPr>
        <p:blipFill>
          <a:blip r:embed="rId3"/>
          <a:stretch/>
        </p:blipFill>
        <p:spPr>
          <a:xfrm>
            <a:off x="905040" y="5791320"/>
            <a:ext cx="237960" cy="228600"/>
          </a:xfrm>
          <a:prstGeom prst="rect">
            <a:avLst/>
          </a:prstGeom>
          <a:ln w="0">
            <a:noFill/>
          </a:ln>
        </p:spPr>
      </p:pic>
      <p:sp>
        <p:nvSpPr>
          <p:cNvPr id="530" name="TextBox 5"/>
          <p:cNvSpPr/>
          <p:nvPr/>
        </p:nvSpPr>
        <p:spPr>
          <a:xfrm>
            <a:off x="1219320" y="566244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ll subject matters are applicable to each and every T-L style. Physical examples are used to more clearly convey the concept of each sty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6" descr="C:\Users\Drew\Desktop\arrow.jpg"/>
          <p:cNvPicPr/>
          <p:nvPr/>
        </p:nvPicPr>
        <p:blipFill>
          <a:blip r:embed="rId1"/>
          <a:stretch/>
        </p:blipFill>
        <p:spPr>
          <a:xfrm>
            <a:off x="4160880" y="4529160"/>
            <a:ext cx="762120" cy="190440"/>
          </a:xfrm>
          <a:prstGeom prst="rect">
            <a:avLst/>
          </a:prstGeom>
          <a:ln w="0">
            <a:noFill/>
          </a:ln>
        </p:spPr>
      </p:pic>
      <p:pic>
        <p:nvPicPr>
          <p:cNvPr id="532" name="Picture 2" descr=""/>
          <p:cNvPicPr/>
          <p:nvPr/>
        </p:nvPicPr>
        <p:blipFill>
          <a:blip r:embed="rId2"/>
          <a:stretch/>
        </p:blipFill>
        <p:spPr>
          <a:xfrm>
            <a:off x="0" y="990720"/>
            <a:ext cx="9144000" cy="60120"/>
          </a:xfrm>
          <a:prstGeom prst="rect">
            <a:avLst/>
          </a:prstGeom>
          <a:ln w="0">
            <a:noFill/>
          </a:ln>
        </p:spPr>
      </p:pic>
      <p:sp>
        <p:nvSpPr>
          <p:cNvPr id="533" name="TextBox 6"/>
          <p:cNvSpPr/>
          <p:nvPr/>
        </p:nvSpPr>
        <p:spPr>
          <a:xfrm>
            <a:off x="762120" y="1523880"/>
            <a:ext cx="754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natomy of the Practice style the role of the teacher is to make all subject matter and logistical decisions and to provide private feedback to the learners. The role of the learner is to individually and privately practice a memory/reproduction task while making nine specific decisions.</a:t>
            </a:r>
            <a:endParaRPr b="0" lang="en-US" sz="1800" spc="-1" strike="noStrike">
              <a:solidFill>
                <a:srgbClr val="000000"/>
              </a:solidFill>
              <a:latin typeface="Calibri"/>
            </a:endParaRPr>
          </a:p>
        </p:txBody>
      </p:sp>
      <p:sp>
        <p:nvSpPr>
          <p:cNvPr id="534" name="TextBox 1"/>
          <p:cNvSpPr/>
          <p:nvPr/>
        </p:nvSpPr>
        <p:spPr>
          <a:xfrm>
            <a:off x="2859120" y="3886200"/>
            <a:ext cx="1476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re-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ost Impact</a:t>
            </a:r>
            <a:endParaRPr b="0" lang="en-US" sz="1800" spc="-1" strike="noStrike">
              <a:solidFill>
                <a:srgbClr val="000000"/>
              </a:solidFill>
              <a:latin typeface="Calibri"/>
            </a:endParaRPr>
          </a:p>
        </p:txBody>
      </p:sp>
      <p:sp>
        <p:nvSpPr>
          <p:cNvPr id="535" name="TextBox 2"/>
          <p:cNvSpPr/>
          <p:nvPr/>
        </p:nvSpPr>
        <p:spPr>
          <a:xfrm>
            <a:off x="3530520" y="4145040"/>
            <a:ext cx="812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ning)</a:t>
            </a:r>
            <a:endParaRPr b="0" lang="en-US" sz="900" spc="-1" strike="noStrike">
              <a:solidFill>
                <a:srgbClr val="000000"/>
              </a:solidFill>
              <a:latin typeface="Calibri"/>
            </a:endParaRPr>
          </a:p>
        </p:txBody>
      </p:sp>
      <p:sp>
        <p:nvSpPr>
          <p:cNvPr id="536" name="TextBox 7"/>
          <p:cNvSpPr/>
          <p:nvPr/>
        </p:nvSpPr>
        <p:spPr>
          <a:xfrm>
            <a:off x="3048120" y="4721400"/>
            <a:ext cx="1295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Calibri"/>
            </a:endParaRPr>
          </a:p>
        </p:txBody>
      </p:sp>
      <p:sp>
        <p:nvSpPr>
          <p:cNvPr id="537" name="TextBox 8"/>
          <p:cNvSpPr/>
          <p:nvPr/>
        </p:nvSpPr>
        <p:spPr>
          <a:xfrm>
            <a:off x="2679840" y="5248440"/>
            <a:ext cx="16635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edback and assessment)</a:t>
            </a:r>
            <a:endParaRPr b="0" lang="en-US" sz="900" spc="-1" strike="noStrike">
              <a:solidFill>
                <a:srgbClr val="000000"/>
              </a:solidFill>
              <a:latin typeface="Calibri"/>
            </a:endParaRPr>
          </a:p>
        </p:txBody>
      </p:sp>
      <p:sp>
        <p:nvSpPr>
          <p:cNvPr id="538" name="TextBox 1"/>
          <p:cNvSpPr/>
          <p:nvPr/>
        </p:nvSpPr>
        <p:spPr>
          <a:xfrm>
            <a:off x="4737240" y="3886200"/>
            <a:ext cx="10555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p:txBody>
      </p:sp>
      <p:pic>
        <p:nvPicPr>
          <p:cNvPr id="539" name="Picture 3" descr=""/>
          <p:cNvPicPr/>
          <p:nvPr/>
        </p:nvPicPr>
        <p:blipFill>
          <a:blip r:embed="rId3"/>
          <a:stretch/>
        </p:blipFill>
        <p:spPr>
          <a:xfrm>
            <a:off x="905040" y="6051600"/>
            <a:ext cx="237960" cy="228600"/>
          </a:xfrm>
          <a:prstGeom prst="rect">
            <a:avLst/>
          </a:prstGeom>
          <a:ln w="0">
            <a:noFill/>
          </a:ln>
        </p:spPr>
      </p:pic>
      <p:sp>
        <p:nvSpPr>
          <p:cNvPr id="540" name="TextBox 14"/>
          <p:cNvSpPr/>
          <p:nvPr/>
        </p:nvSpPr>
        <p:spPr>
          <a:xfrm>
            <a:off x="1143000" y="6019920"/>
            <a:ext cx="7010280" cy="29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57575"/>
                </a:solidFill>
                <a:latin typeface="Arial"/>
              </a:rPr>
              <a:t>The arrow represents the decision shift from the Command Style-A to the Practice Style-B.</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
          <p:cNvSpPr/>
          <p:nvPr/>
        </p:nvSpPr>
        <p:spPr>
          <a:xfrm>
            <a:off x="762120" y="1676520"/>
            <a:ext cx="754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tyle Summary</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ractice Style the role of the teacher is to make all subject matter and logistical decisions and to provide private feedback to the learners. The role of the learner is to individually and privately practice a memory/reproduction task while making nine specific decisions.  These decisions include location, order of tasks, starting time, pace and rhythm, stopping time, interval, initiating questions for clarification, attire and appearance, and posture. The developmental process of independence begins with the shifting of the nine decisions in Practice Sty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2"/>
          <p:cNvSpPr/>
          <p:nvPr/>
        </p:nvSpPr>
        <p:spPr>
          <a:xfrm>
            <a:off x="762120" y="1676520"/>
            <a:ext cx="75438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Practice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actice by oneself reproducing the model</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tivate memory cognitive operations necessary for the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quire and internalize content from private practi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alize that proficient performance is related to task repetitio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alize that proficient performance is related to knowledge of results-feedbac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2"/>
          <p:cNvSpPr/>
          <p:nvPr/>
        </p:nvSpPr>
        <p:spPr>
          <a:xfrm>
            <a:off x="762120" y="1447920"/>
            <a:ext cx="7543800" cy="426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Practice style is achieved, the following behavioral objectives are reached:</a:t>
            </a:r>
            <a:br>
              <a:rPr sz="1800"/>
            </a:br>
            <a:endParaRPr b="0" lang="en-US" sz="18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experience the beginning of independence by making the nine decisions</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velop initiating skills in the nine decisions</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alize that decision making accommodates learning the task</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learn to be accountable for the consequence of each decision, for example:</a:t>
            </a:r>
            <a:endParaRPr b="0" lang="en-US" sz="1600" spc="-1" strike="noStrike">
              <a:solidFill>
                <a:srgbClr val="000000"/>
              </a:solidFill>
              <a:latin typeface="Calibri"/>
            </a:endParaRPr>
          </a:p>
          <a:p>
            <a:pPr lvl="1" marL="919080" indent="-291960" algn="just">
              <a:lnSpc>
                <a:spcPct val="100000"/>
              </a:lnSpc>
              <a:spcAft>
                <a:spcPts val="99"/>
              </a:spcAft>
              <a:buClr>
                <a:srgbClr val="7f7f7f"/>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lationship between time and tasks</a:t>
            </a:r>
            <a:endParaRPr b="0" lang="en-US" sz="1600" spc="-1" strike="noStrike">
              <a:solidFill>
                <a:srgbClr val="000000"/>
              </a:solidFill>
              <a:latin typeface="Calibri"/>
            </a:endParaRPr>
          </a:p>
          <a:p>
            <a:pPr lvl="1" marL="919080" indent="-291960" algn="just">
              <a:lnSpc>
                <a:spcPct val="100000"/>
              </a:lnSpc>
              <a:spcAft>
                <a:spcPts val="99"/>
              </a:spcAft>
              <a:buClr>
                <a:srgbClr val="7f7f7f"/>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gulation of one's pace and rhythm</a:t>
            </a:r>
            <a:endParaRPr b="0" lang="en-US" sz="1600" spc="-1" strike="noStrike">
              <a:solidFill>
                <a:srgbClr val="000000"/>
              </a:solidFill>
              <a:latin typeface="Calibri"/>
            </a:endParaRPr>
          </a:p>
          <a:p>
            <a:pPr lvl="1" marL="919080" indent="-291960" algn="just">
              <a:lnSpc>
                <a:spcPct val="100000"/>
              </a:lnSpc>
              <a:spcAft>
                <a:spcPts val="99"/>
              </a:spcAft>
              <a:buClr>
                <a:srgbClr val="7f7f7f"/>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equences of use of time</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learn to respect others' rights to make decisions in the nine categories</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nitiate an individual and private relationship between the teacher and learner</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develop trust in shifting and making the nine decisions</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Institute for Teaching and Learning</dc:creator>
  <dc:description>©Spectrum Institute for Teaching and Learning</dc:description>
  <dc:language>en-US</dc:language>
  <cp:lastModifiedBy>Bernardo Gomez</cp:lastModifiedBy>
  <dcterms:modified xsi:type="dcterms:W3CDTF">2014-04-28T08:51:16Z</dcterms:modified>
  <cp:revision>17</cp:revision>
  <dc:subject/>
  <dc:title>Practice Style-B</dc:title>
</cp:coreProperties>
</file>