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BA2C-2DEC-4942-A6A5-C45FBBACEC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C8B6-5CCB-4600-ADDA-1561FE9A7B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D83A5-D4AF-4B4D-80F5-081EC466EC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F181DF-4698-4267-A893-A199002591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F5E5FC-2B30-4A70-A037-0FAD41BC94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2BA4AB-E75A-4C54-89A1-D40AA0541E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AE5264-9E67-4E18-B387-F7A05CE75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F3AB9-AAF7-480B-BA6E-DBC8B312D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2C313E-E4B6-40A5-A515-CA13E4EBB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9F3E86-780B-44C4-BC97-F5E1D9B8CC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814A960-ACFE-4849-A669-479D0BA0CC0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5238A4-5090-4058-9D45-8D5289F554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038546-6B0D-40FC-889B-677F34A86D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89E731-17D5-466E-9F2D-E09E62A76F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DF6A88-58DC-465F-9CB0-2E40AC0515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2AE418-AFF2-4816-B4F2-6C5FD10B0A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9BA5BB-109B-4B7D-8C57-9E9FF6EB24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A5322B-5AE6-42E4-ABA5-8F3153385A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16E636-2306-4C12-9CF2-D76360DA7E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B01BB6-AB2B-49E0-BEB2-7C39B7B007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801DCD-68C5-4855-82A3-DC52741A7C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8F9DF5-5723-41F8-856C-BD765C5F94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D50352-9B8A-4BC0-8E85-0847F58609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9CE6C5-AF31-4932-850E-59EFD23D23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662936-76B8-4672-BA68-51AEC0F576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FEBD92-474F-4624-AFCE-9663E67D67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04D20F-A86E-4F3F-B058-EB4A7B8736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73BBE2-576B-405E-B89A-461AD025D5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249910-AF2A-412A-9B9B-F114533B42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765D5F-5D9C-46F0-99C5-CA97200EEF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667FA8-CDCD-40A6-A29B-32BE908CF7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9ED5AA-8CEB-4536-86CA-1C14740600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806BF2-A535-4218-B51B-5B08B4059A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DF91F-ED73-4DD0-96B2-503222B06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B921EF-5C12-40DE-A48E-BE5D15D5FA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369505-2287-44F7-9D87-653DA4A07A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33B94C-ACBF-4DF0-A3AE-FE3F2B9D98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1F02F13-D4D4-4287-945C-D0E123C517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431CF8-FF04-4107-83D3-FDC1B0AA20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8241EE-173C-4B78-A885-B1FD53FEA4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4A3623-C275-4187-8748-6A1D013AB8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E72C0C-CA9F-4CA4-8168-4A1C5A32B0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69C387-A67A-4BD3-92F4-209740EEAD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48A2C9-F5B0-426B-857C-CBBCB587F5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B2B32-72FD-484C-988B-EECF70ADD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D584A7-E796-4BBB-A878-05E0862073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CF5F4A-6697-45E3-9CA6-7ADE4455E6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CC998E-F88C-471F-9991-B869DE5C6A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80B6015-1051-49E7-BDE5-E8CCA4423FC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5695420-DD60-44CF-9D14-BAA8E0F607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E03FD-8DF7-4C71-9A69-1670AA7A4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3AFFE-ED2A-4D61-9029-DC079D22E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A5684-5B5A-4678-B6BB-1809CD849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071E9-8363-46B1-A555-EC75F1F7C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1FEBF-D710-4A46-A8A6-E92617480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58D7C-63BA-47A4-B3E8-8A3989BEC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D94C7-A975-48A6-9357-2A0262907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5B117-FE72-4EFF-B1A3-4A3A1DAB2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704E2-03AA-4E0B-95CC-4864FD7F5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25D1D-AF7B-435E-A79E-A34856F34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F0231-1228-4365-B0D7-C4F31211A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52755-6B65-4E4C-AEA4-C7018E002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EBF7F-BC9A-49C8-A787-A049E9A83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05DCE-CAFA-49A6-BD99-9893AAD22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693A3-B890-4970-BE50-623B124DA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AEFC9-7D99-4438-90A6-9424AC65D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32E4B-8D4A-46F5-8CC4-D88639625B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F70D3-DA4E-4B09-AF61-8C6384BCD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0768B-F49C-4235-BD07-54E792DCE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816AE-804E-4D6D-8330-9C12EA517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83E6AE-43A7-401F-8DF7-776076500C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EDC01-96F1-46D9-A376-1A66014F74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464EAC-48BF-4E12-A0DA-424B5A834E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560CE-C817-4743-A46A-62B0C8BAE7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197508-7538-43EB-8D87-656D1CFFD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52DB14-7744-4043-9F3A-7C1EDB5747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67C9D4-2950-4D99-BE15-D88C2F5AC7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87C18-AA2A-4DFD-8BE0-6E5CB26045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8B6A8-AED8-4D93-A856-10D628AC8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27A3B7-CFD8-4B2A-824A-65560A278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3972E-9DDC-4500-96BD-A807252E0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C1A64-4926-4F2A-987F-7682BBA86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7AEE72-B900-48F4-8997-4881C37706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6D7B4B-9842-4961-800C-97546B5209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6A7B58-BAC7-4B66-ADD6-07889D8F66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1F2A37-D6A8-46CE-91E9-4A79725A4A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57FB26-CC90-4FDC-A034-A989C9722C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B3155-B7B1-44A9-BA46-11A3160080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5E3613-C1CD-4F99-943B-B0BFE39044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6C9F25-3F32-4164-9A60-643B121E6F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7A637-FFFA-40FC-A3A0-991F47D298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2D756-FC02-497D-9C8E-3DBEBC231C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832FA-C159-4FBA-BB25-8337EF380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097D30-E0CB-4BE0-975F-F818B1919F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15C420-2F35-4F14-BBCA-C4169142F6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BB0E61-A188-4CF9-B149-5C6D0D5AB3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EEFA80-DF7C-4523-A18C-C3E5AF6626D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DB35EE-B9DA-47B1-B8D1-A5D50D776E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22A34C-17AF-4B2A-AC42-9272AAA8E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BB238E-2EFA-4021-93CD-8BD274B75E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A8A991-AB92-4E42-8CF8-550AF3C033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7C9600-3304-481A-99E8-BD4827312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A73EC6-D7CE-4C10-A8D3-DB3087FC39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003484-8DCA-4D07-AB75-3B39C12C6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DEEA0-AF42-4C94-A96E-4DD10B0BE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5DE39A-4C19-467F-BFC9-0F129C4998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A49D05-3C43-41E8-839F-2FA0BAFABA0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14F189-3AE5-49F3-9C71-8BEFEB6293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D29A6B-1F2A-45D3-B010-80EFC65B58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FDA2E9-024A-4BC4-A7A8-4040CA0559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AFEBDA-9FAB-4B72-9EF9-2FA2CD7A2D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2D2429-DB8D-4444-9FE3-61CD3934F4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98F9D6-5C70-4FF7-B983-6FD12510A9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96A771-996B-4B56-99CA-BADF061987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20F71-2AE3-4488-8774-CFBB52E80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A86812-4601-44C5-B9B2-5BE5E06551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7ACDD8-4DF1-4468-8D42-3F950DDF80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8C5BE3-E8F4-434D-8319-5AD0205B88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5F8BE3-911E-44D0-ACC3-B0E1DDFF8C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81DFB3-991D-455B-9938-3349C33F8D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9DC233D-35FC-4A3A-977A-535D8CF77A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F65460-4EAF-4A76-9C3F-021BDD9924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1A7477-950B-4EC9-807E-7963E52C7FCA}"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iprocal</a:t>
            </a:r>
            <a:r>
              <a:rPr b="0" lang="en-US" sz="3200" spc="-1" strike="noStrike">
                <a:solidFill>
                  <a:srgbClr val="000000"/>
                </a:solidFill>
                <a:latin typeface="Arial"/>
                <a:ea typeface="Arial"/>
              </a:rPr>
              <a:t>-Style C</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iprocal</a:t>
            </a:r>
            <a:r>
              <a:rPr b="0" lang="en-US" sz="3200" spc="-1" strike="noStrike">
                <a:solidFill>
                  <a:srgbClr val="000000"/>
                </a:solidFill>
                <a:latin typeface="Arial"/>
                <a:ea typeface="Arial"/>
              </a:rPr>
              <a:t>-Style C</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256B-76F5-4060-8C48-D02E0EA2306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iprocal</a:t>
            </a:r>
            <a:r>
              <a:rPr b="0" lang="en-US" sz="3200" spc="-1" strike="noStrike">
                <a:solidFill>
                  <a:srgbClr val="000000"/>
                </a:solidFill>
                <a:latin typeface="Arial"/>
                <a:ea typeface="Arial"/>
              </a:rPr>
              <a:t>-Style C</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981EC-D394-4C1C-BA6F-C276295D65C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iprocal</a:t>
            </a:r>
            <a:r>
              <a:rPr b="0" lang="en-US" sz="3200" spc="-1" strike="noStrike">
                <a:solidFill>
                  <a:srgbClr val="000000"/>
                </a:solidFill>
                <a:latin typeface="Arial"/>
                <a:ea typeface="Arial"/>
              </a:rPr>
              <a:t>-Style C</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86F1-3380-4681-B45E-449E9A0468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iprocal</a:t>
            </a:r>
            <a:r>
              <a:rPr b="0" lang="en-US" sz="3200" spc="-1" strike="noStrike">
                <a:solidFill>
                  <a:srgbClr val="000000"/>
                </a:solidFill>
                <a:latin typeface="Arial"/>
                <a:ea typeface="Arial"/>
              </a:rPr>
              <a:t>-Style C</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7F01-97F1-4DE5-B343-EECBFDA563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iprocal</a:t>
            </a:r>
            <a:r>
              <a:rPr b="0" lang="en-US" sz="3200" spc="-1" strike="noStrike">
                <a:solidFill>
                  <a:srgbClr val="000000"/>
                </a:solidFill>
                <a:latin typeface="Arial"/>
                <a:ea typeface="Arial"/>
              </a:rPr>
              <a:t>-Style C</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2"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iprocal</a:t>
            </a:r>
            <a:r>
              <a:rPr b="0" lang="en-US" sz="3200" spc="-1" strike="noStrike">
                <a:solidFill>
                  <a:srgbClr val="000000"/>
                </a:solidFill>
                <a:latin typeface="Arial"/>
                <a:ea typeface="Arial"/>
              </a:rPr>
              <a:t>-Style C</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E8AE-C9F9-4F38-BC10-3784AD76A3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iprocal</a:t>
            </a:r>
            <a:r>
              <a:rPr b="0" lang="en-US" sz="3200" spc="-1" strike="noStrike">
                <a:solidFill>
                  <a:srgbClr val="000000"/>
                </a:solidFill>
                <a:latin typeface="Arial"/>
                <a:ea typeface="Arial"/>
              </a:rPr>
              <a:t>-Style C</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6BB9-066A-4DBF-B790-38DA55A217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iprocal</a:t>
            </a:r>
            <a:r>
              <a:rPr b="0" lang="en-US" sz="3200" spc="-1" strike="noStrike">
                <a:solidFill>
                  <a:srgbClr val="000000"/>
                </a:solidFill>
                <a:latin typeface="Arial"/>
                <a:ea typeface="Arial"/>
              </a:rPr>
              <a:t>-Style C</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47DE-2322-4844-B0D0-B28D6EBEFB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iprocal</a:t>
            </a:r>
            <a:r>
              <a:rPr b="0" lang="en-US" sz="3200" spc="-1" strike="noStrike">
                <a:solidFill>
                  <a:srgbClr val="000000"/>
                </a:solidFill>
                <a:latin typeface="Arial"/>
                <a:ea typeface="Arial"/>
              </a:rPr>
              <a:t>-Style C</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95F9-6D93-419D-8277-5440C16E813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iprocal</a:t>
            </a:r>
            <a:r>
              <a:rPr b="0" lang="en-US" sz="3200" spc="-1" strike="noStrike">
                <a:solidFill>
                  <a:srgbClr val="000000"/>
                </a:solidFill>
                <a:latin typeface="Arial"/>
                <a:ea typeface="Arial"/>
              </a:rPr>
              <a:t>-Style C</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9E65-3FDA-4D6B-82C2-3A06035FBA4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Reciprocal</a:t>
            </a:r>
            <a:r>
              <a:rPr b="0" lang="en-US" sz="3200" spc="-1" strike="noStrike">
                <a:solidFill>
                  <a:srgbClr val="000000"/>
                </a:solidFill>
                <a:latin typeface="Arial"/>
                <a:ea typeface="Arial"/>
              </a:rPr>
              <a:t>-Style C</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2DCD-B844-4E67-912C-3E5D331A59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
          <p:cNvPicPr/>
          <p:nvPr/>
        </p:nvPicPr>
        <p:blipFill>
          <a:blip r:embed="rId1"/>
          <a:stretch/>
        </p:blipFill>
        <p:spPr>
          <a:xfrm>
            <a:off x="0" y="990720"/>
            <a:ext cx="9144000" cy="60120"/>
          </a:xfrm>
          <a:prstGeom prst="rect">
            <a:avLst/>
          </a:prstGeom>
          <a:ln w="0">
            <a:noFill/>
          </a:ln>
        </p:spPr>
      </p:pic>
      <p:sp>
        <p:nvSpPr>
          <p:cNvPr id="522" name="TextBox 6"/>
          <p:cNvSpPr/>
          <p:nvPr/>
        </p:nvSpPr>
        <p:spPr>
          <a:xfrm>
            <a:off x="762120" y="1676520"/>
            <a:ext cx="76197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learning focus of the Reciprocal style include developing social interactions using reciprocation of roles that reinforce the giving and receiving of immediate feedback is guided by specific teacher prepared criteria.</a:t>
            </a:r>
            <a:endParaRPr b="0" lang="en-US" sz="1800" spc="-1" strike="noStrike">
              <a:solidFill>
                <a:srgbClr val="000000"/>
              </a:solidFill>
              <a:latin typeface="Calibri"/>
            </a:endParaRPr>
          </a:p>
        </p:txBody>
      </p:sp>
      <p:pic>
        <p:nvPicPr>
          <p:cNvPr id="523" name="Picture 3" descr=""/>
          <p:cNvPicPr/>
          <p:nvPr/>
        </p:nvPicPr>
        <p:blipFill>
          <a:blip r:embed="rId2"/>
          <a:stretch/>
        </p:blipFill>
        <p:spPr>
          <a:xfrm>
            <a:off x="776160" y="3886200"/>
            <a:ext cx="7591680" cy="14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tretch/>
        </p:blipFill>
        <p:spPr>
          <a:xfrm>
            <a:off x="0" y="990720"/>
            <a:ext cx="9144000" cy="60120"/>
          </a:xfrm>
          <a:prstGeom prst="rect">
            <a:avLst/>
          </a:prstGeom>
          <a:ln w="0">
            <a:noFill/>
          </a:ln>
        </p:spPr>
      </p:pic>
      <p:sp>
        <p:nvSpPr>
          <p:cNvPr id="525" name="TextBox 6"/>
          <p:cNvSpPr/>
          <p:nvPr/>
        </p:nvSpPr>
        <p:spPr>
          <a:xfrm>
            <a:off x="762120" y="1295280"/>
            <a:ext cx="7543800" cy="258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anatomy of the Reciprocal style, the role of the teacher is to make all subject matter, criteria, and logistical decisions and to provide feedback to the observer. The role of the learners is to work in partnership relationships. One learner is the doer who performs the task, making the nine decisions of the Practice style, while the other learner is the observer who offers immediate and on-going feedback to the doer, using a criteria sheet designed by the teacher. At the end of the first practice, the doer and the observer switch roles—hence the name for this landmark behavior—The Reciprocal style.</a:t>
            </a:r>
            <a:endParaRPr b="0" lang="en-US" sz="1600" spc="-1" strike="noStrike">
              <a:solidFill>
                <a:srgbClr val="000000"/>
              </a:solidFill>
              <a:latin typeface="Calibri"/>
            </a:endParaRPr>
          </a:p>
        </p:txBody>
      </p:sp>
      <p:sp>
        <p:nvSpPr>
          <p:cNvPr id="526" name="TextBox 2"/>
          <p:cNvSpPr/>
          <p:nvPr/>
        </p:nvSpPr>
        <p:spPr>
          <a:xfrm>
            <a:off x="2514600" y="4167360"/>
            <a:ext cx="4114800" cy="33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re-Impact...........................(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Impact....................... (Learner-Do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ost-Impact.... (Learner-Observ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Box 2"/>
          <p:cNvSpPr/>
          <p:nvPr/>
        </p:nvSpPr>
        <p:spPr>
          <a:xfrm>
            <a:off x="762120" y="1676520"/>
            <a:ext cx="754380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Descriptio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Reciprocal style, the role of the teacher is to make all subject matter, criteria, and logistical decisions and to provide feedback to the observer. The role of the learners is to work in a partner relationship. One learner is the doer who performs the task, making the nine decisions of the Practice style, while the other learner is the observer who offers immediate and on-going feedback to the doer, using a criteria sheet designed by the teacher. At the end of the first practice set, the doer and the observer switch roles, hence for this style. Doer 1 becomes observer 2 and observer 1 becomes doer 2.</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
          <p:cNvSpPr/>
          <p:nvPr/>
        </p:nvSpPr>
        <p:spPr>
          <a:xfrm>
            <a:off x="762120" y="1676520"/>
            <a:ext cx="75438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Reciprocal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internalize the specifics of the subject matter by having repeated chances to practice with a designated observer</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isualize the steps, sequence, or details involved in a given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learn to use subject matter criteria to compare, contrast, and assess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actice identifying and correcting errors immediatel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actice a task without the teacher</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2"/>
          <p:cNvSpPr/>
          <p:nvPr/>
        </p:nvSpPr>
        <p:spPr>
          <a:xfrm>
            <a:off x="762120" y="1447920"/>
            <a:ext cx="754380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Practice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practice communication skills (verbal behavior) that enhance a reciprocal relationship</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xpand socialization and interaction skill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learn to give and receive feedback from peer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velop social bonds that go beyond the task</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trust interacting/socializing with other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xperience the rewards (feelings) of seeing one's peer succeed</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velop patience, tolerance, and acceptance of others' differences in performance</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velop empathy</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learn social manner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
  <dc:language>en-US</dc:language>
  <cp:lastModifiedBy>Drew</cp:lastModifiedBy>
  <dcterms:modified xsi:type="dcterms:W3CDTF">2013-07-30T20:27:30Z</dcterms:modified>
  <cp:revision>7</cp:revision>
  <dc:subject/>
  <dc:title>Command-Style A</dc:title>
</cp:coreProperties>
</file>