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6AA9-650D-4B05-937E-17A9B40B8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031F9-6573-4FC9-A098-86B84BEB51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A7A9-0706-4E10-B7CD-285850F24F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EC0CED-A5A7-4BC6-8FE4-E36F91F154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58FF23-A908-4F08-AECC-450C064CEB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DF41BE-B71A-4051-BE5C-136DA397D6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D0D3FE-B3E1-4596-A9BE-DA0BD6BFFC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BC54D6-ED7A-4ED6-8313-3A0A39801F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F71FF4-FC9D-4209-AA7A-BB2F2D9F8B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5AB86D-627B-45AA-B1E8-7CDBF98B12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7D9283-45E9-4181-926D-BDE74527E0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610FFA-DC38-42D9-A11F-77CB8174D6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D8BA527-941D-4521-9BBA-C54047BD6F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1D6321-8ACE-4435-B407-8069D6C72D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5638EF-B3DE-4740-AD1C-C48A3D56B0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2F3094-55F5-4AD9-8A98-648F333E6E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3ADD89-A07B-4FA6-9CB3-B00E5B472D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4FF7E2-F2EC-4DCF-9A2D-CCF411FFCD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03B744-0B70-4C0A-9C4D-BED7FB2EDD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D3502D-2CF6-4334-9BC2-1D43C571D9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B09BA4-D6F3-4F59-A352-2C7B50D287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CB98D9-B3FC-4C17-B187-171915F9C1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9820F3-B0D3-40C7-AE14-4C745AE74B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356465-7539-4AA3-85C3-4C087F9790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6B887C-1F61-404E-A12A-2EB3B247DA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D30A1A-77C9-48DD-B956-2EBB722093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4E22F4-5B34-4B10-A26E-A859A3D70F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FCC3C1-5740-4E0E-8479-A48C77422B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6D1972-6CAD-47CE-B8CB-5C37EF8F31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062435-58B6-437F-A86A-3C44D7BFFC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E208B6-B806-4F30-99C3-CC3DAD97AA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0A35AE-E560-4A36-9B62-844C18CB61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CF7FAC-3F44-4E02-A55D-FF4FC25401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D14B3-9266-4CD8-B06D-7D2088B2A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77F553-AE8F-4A08-808F-63543A7BFEA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411002-C6F1-42FA-A98F-443D147AB0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C08848-70A0-4313-B472-29677816AD9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1AA4FF3-FD22-430E-A6BC-72204116667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2E8821-7519-4359-815F-02C51CEFBD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F9D3785-073D-4BC1-A97F-4E0EC76AC4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858D2F-1937-4CE1-8F57-9C42A89C5A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88AA7FB-F4E0-4D02-83B9-78CA0902E1C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FFA1F8-501B-4DFC-90E0-6229CFD4E3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FE4866-7FDF-4B96-9474-3B71790F81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AF4A2-4913-40E5-BBC7-78DA5578C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4646A4-2D13-40C9-B59B-4A76C45A0A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E28684-E889-4A31-99DA-FAD9A03AFF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BE6D3A-847B-4014-BA06-82EC9F3F34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AA11731-8F63-4464-BC7B-AC8C34E635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E885A3-199B-48EE-80B7-91F05120A9E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747C0-BCAC-4682-9D31-AC4B9E4CB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91655-1E37-4797-AF08-84AEA60F5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FBC09-4AC9-4A95-B3B5-329B17E36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A2FAC-6949-46B3-AB77-EACCFE4A4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76782-1139-4161-B28F-62F54AA63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1356F-AF66-4F33-9C5D-0D3FCD828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C2E45-5BD4-46AF-88F8-3BB3EE478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C6038-E96B-44B9-8C7D-5B139B134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60EF0-045A-4D21-9E4F-CBD152326A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F4505-1FE1-4215-A52E-50EE33DD7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5A28A-B883-41D0-B4C3-AD8B94CB1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32F77-5E3A-4FBF-BE09-03E5503FF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B6998C-CE6A-42E8-A494-86E9D99D4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2088C-983B-4EFD-B03E-84978AB86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ABB5C-F9E3-4D4C-8798-0184AA8CD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050BB-B7D0-4B59-B1D5-F545E0886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52E5C-334E-4D93-AD3F-DFD387574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A0F9E-27E3-41C2-B3A7-8301BE70C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CF43E-2955-47B7-B6E9-771A45945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78097-FA13-4717-8CDB-5A1C860FEA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38C6CD-679D-4659-B14D-E83E3D37C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C30D5B-1530-4832-8DBD-EA442CB5F0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EC1AA2-E3FC-443D-97E1-C138354BCC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06533D-CC0E-4B78-AD64-FEC08A5B3F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0928D8-1AFB-465E-A518-4BBC4088D7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F1506E-97C8-40CF-9F2D-36A4439E2C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01E66-F918-4B25-AA7A-911BC23C9A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6DC25F-6384-407B-9618-C067936082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31BEF8-43D4-4FE0-8EDF-010D5FE95F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753B5B-AED0-4373-8B70-42257406C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0A965-D2C6-4037-8E55-27E5C7C090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37D6FA-5D45-43A1-89CF-24A5C9F23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E3D6F5-DE1F-4C86-950C-7683ED7DD1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65069D-4EC3-4782-BAC3-7BD44608FF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0B3960-DEE8-47CB-A659-58B5085D3D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4E3296-8B77-4E27-91A9-1FD8C434DF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9FCAA1-A089-4D62-B92D-A49F10828B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5D4338-8FE9-42BC-B1C1-1A25346D07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7C17F4-8203-45B7-96AE-9177E6E227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0BC22C-C30E-47CC-8BF4-13EB04F5F4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0325C3-D953-446D-AEAB-2CFBAF946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CF99D-901C-4413-82EC-3A83E647D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E78C37-D04D-4573-B5CE-E54ACD7E5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FB598E-7FA7-44AF-B3F1-2AE91A787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88B196-7376-4A8C-8B6F-0B0151D226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4962F5-70D2-41B2-9EEC-AF4E8EEA8D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0D843E-4180-4678-B434-BCADA82551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61E3C4-4366-4147-9C97-426F659D3B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AE1653-7FDB-4BF9-B1BC-55F3DA71EA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F453A1-21E8-46A8-996D-BD0DC4A749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5747F0-E8B6-4C0D-8F00-A8A6BB4912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85374C-A6C5-4CA4-B584-4DBA03649E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F54147-977A-4423-A98C-9D3576703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0B5847-6AC7-4752-B835-31093DA4A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B6C5F-C838-41BA-A82B-9E58F4439B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402DE8-CDA2-46FB-A1D5-53A6ADA621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7249A3-065B-4E03-A7F5-C2FFE19407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FFD05C-86E7-42D7-AB34-854EE2387A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ED3CDB-AA28-4674-8279-129916E2A5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825FC0-A339-433B-AEFD-FF3808FB43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8A4C22-8E8F-4E42-B2E9-EEBB41A536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BF407A-F79C-4CA6-82AB-6CF33F85B9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AEE607-32C9-436D-BFDF-E1D0B62C96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F26007-6DF8-444F-8199-04E11723D5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3C937-8E22-47DB-A66A-02481A2D05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BCB96-179A-4870-95B0-353F19888C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92A14F-B780-42CD-80BA-6E5397D7FB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2531B1-5665-477C-A484-00C129821A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933BC7-A67C-437A-A450-B8C506C4AC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FF615B-73E0-43A9-82AA-90F66749E2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C3E7B7-7D86-43BD-99D8-3F1E97120D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6CDC71-EEC0-4284-994B-03552152CC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8CFF08-4B97-490F-BF1E-5BA9D517AB86}"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gent Discovery</a:t>
            </a:r>
            <a:r>
              <a:rPr b="0" lang="en-US" sz="3200" spc="-1" strike="noStrike">
                <a:solidFill>
                  <a:srgbClr val="000000"/>
                </a:solidFill>
                <a:latin typeface="Arial"/>
                <a:ea typeface="Arial"/>
              </a:rPr>
              <a:t>-Style G</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gent Discovery</a:t>
            </a:r>
            <a:r>
              <a:rPr b="0" lang="en-US" sz="3200" spc="-1" strike="noStrike">
                <a:solidFill>
                  <a:srgbClr val="000000"/>
                </a:solidFill>
                <a:latin typeface="Arial"/>
                <a:ea typeface="Arial"/>
              </a:rPr>
              <a:t>-Style G</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DB2E-A6CC-4D5A-A10F-2B03A33258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gent Discovery</a:t>
            </a:r>
            <a:r>
              <a:rPr b="0" lang="en-US" sz="3200" spc="-1" strike="noStrike">
                <a:solidFill>
                  <a:srgbClr val="000000"/>
                </a:solidFill>
                <a:latin typeface="Arial"/>
                <a:ea typeface="Arial"/>
              </a:rPr>
              <a:t>-Style G</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3468B-DD9D-46F9-8248-2F47362463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gent Discovery</a:t>
            </a:r>
            <a:r>
              <a:rPr b="0" lang="en-US" sz="3200" spc="-1" strike="noStrike">
                <a:solidFill>
                  <a:srgbClr val="000000"/>
                </a:solidFill>
                <a:latin typeface="Arial"/>
                <a:ea typeface="Arial"/>
              </a:rPr>
              <a:t>-Style G</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C2DE-B7D2-462A-A8F1-2F3A2C4E401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gent Discovery</a:t>
            </a:r>
            <a:r>
              <a:rPr b="0" lang="en-US" sz="3200" spc="-1" strike="noStrike">
                <a:solidFill>
                  <a:srgbClr val="000000"/>
                </a:solidFill>
                <a:latin typeface="Arial"/>
                <a:ea typeface="Arial"/>
              </a:rPr>
              <a:t>-Style G</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4016-C428-4E21-982D-A5ADD852C14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gent Discovery</a:t>
            </a:r>
            <a:r>
              <a:rPr b="0" lang="en-US" sz="3200" spc="-1" strike="noStrike">
                <a:solidFill>
                  <a:srgbClr val="000000"/>
                </a:solidFill>
                <a:latin typeface="Arial"/>
                <a:ea typeface="Arial"/>
              </a:rPr>
              <a:t>-Style G</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2"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gent Discovery</a:t>
            </a:r>
            <a:r>
              <a:rPr b="0" lang="en-US" sz="3200" spc="-1" strike="noStrike">
                <a:solidFill>
                  <a:srgbClr val="000000"/>
                </a:solidFill>
                <a:latin typeface="Arial"/>
                <a:ea typeface="Arial"/>
              </a:rPr>
              <a:t>-Style G</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41FA-F971-4609-90ED-BCD0A5F59C8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gent Discovery</a:t>
            </a:r>
            <a:r>
              <a:rPr b="0" lang="en-US" sz="3200" spc="-1" strike="noStrike">
                <a:solidFill>
                  <a:srgbClr val="000000"/>
                </a:solidFill>
                <a:latin typeface="Arial"/>
                <a:ea typeface="Arial"/>
              </a:rPr>
              <a:t>-Style G</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5DE6-AF89-4458-A5C9-A4BA6CBCA7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gent Discovery</a:t>
            </a:r>
            <a:r>
              <a:rPr b="0" lang="en-US" sz="3200" spc="-1" strike="noStrike">
                <a:solidFill>
                  <a:srgbClr val="000000"/>
                </a:solidFill>
                <a:latin typeface="Arial"/>
                <a:ea typeface="Arial"/>
              </a:rPr>
              <a:t>-Style G</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5AAC-31D3-4B82-957C-8AAC9B4925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gent Discovery</a:t>
            </a:r>
            <a:r>
              <a:rPr b="0" lang="en-US" sz="3200" spc="-1" strike="noStrike">
                <a:solidFill>
                  <a:srgbClr val="000000"/>
                </a:solidFill>
                <a:latin typeface="Arial"/>
                <a:ea typeface="Arial"/>
              </a:rPr>
              <a:t>-Style G</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93A78-4840-4B86-849E-D6579A030A2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gent Discovery</a:t>
            </a:r>
            <a:r>
              <a:rPr b="0" lang="en-US" sz="3200" spc="-1" strike="noStrike">
                <a:solidFill>
                  <a:srgbClr val="000000"/>
                </a:solidFill>
                <a:latin typeface="Arial"/>
                <a:ea typeface="Arial"/>
              </a:rPr>
              <a:t>-Style G</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6851-7F64-4EB4-8A51-21C2876FCB4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gent Discovery</a:t>
            </a:r>
            <a:r>
              <a:rPr b="0" lang="en-US" sz="3200" spc="-1" strike="noStrike">
                <a:solidFill>
                  <a:srgbClr val="000000"/>
                </a:solidFill>
                <a:latin typeface="Arial"/>
                <a:ea typeface="Arial"/>
              </a:rPr>
              <a:t>-Style G</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2403-D6FA-4AB5-918C-6269FE2603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
          <p:cNvPicPr/>
          <p:nvPr/>
        </p:nvPicPr>
        <p:blipFill>
          <a:blip r:embed="rId1"/>
          <a:stretch/>
        </p:blipFill>
        <p:spPr>
          <a:xfrm>
            <a:off x="0" y="990720"/>
            <a:ext cx="9144000" cy="60120"/>
          </a:xfrm>
          <a:prstGeom prst="rect">
            <a:avLst/>
          </a:prstGeom>
          <a:ln w="0">
            <a:noFill/>
          </a:ln>
        </p:spPr>
      </p:pic>
      <p:sp>
        <p:nvSpPr>
          <p:cNvPr id="522" name="TextBox 6"/>
          <p:cNvSpPr/>
          <p:nvPr/>
        </p:nvSpPr>
        <p:spPr>
          <a:xfrm>
            <a:off x="762120" y="1432080"/>
            <a:ext cx="7619760" cy="27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defining characteristic of the Convergent Discovery Style is to produce the anticipated/target answer to a question not experienced before. A stimulus (in the form of a question, situation, problem to solve, toy) is provided that invites reshuffling of known information to produce new or novel cognitive links and patterns that rely on logic, and perhaps trial and error, to produce the anticipated/target answer. If the learner has been exposed to the question-answer previously, then the teaching style and its objectives are no longer Convergent Discovery but Practice Style-B</a:t>
            </a:r>
            <a:endParaRPr b="0" lang="en-US" sz="1700" spc="-1" strike="noStrike">
              <a:solidFill>
                <a:srgbClr val="000000"/>
              </a:solidFill>
              <a:latin typeface="Calibri"/>
            </a:endParaRPr>
          </a:p>
        </p:txBody>
      </p:sp>
      <p:pic>
        <p:nvPicPr>
          <p:cNvPr id="523" name="Picture 3" descr=""/>
          <p:cNvPicPr/>
          <p:nvPr/>
        </p:nvPicPr>
        <p:blipFill>
          <a:blip r:embed="rId2"/>
          <a:stretch/>
        </p:blipFill>
        <p:spPr>
          <a:xfrm>
            <a:off x="776160" y="4495680"/>
            <a:ext cx="7591680" cy="14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tretch/>
        </p:blipFill>
        <p:spPr>
          <a:xfrm>
            <a:off x="0" y="990720"/>
            <a:ext cx="9144000" cy="60120"/>
          </a:xfrm>
          <a:prstGeom prst="rect">
            <a:avLst/>
          </a:prstGeom>
          <a:ln w="0">
            <a:noFill/>
          </a:ln>
        </p:spPr>
      </p:pic>
      <p:sp>
        <p:nvSpPr>
          <p:cNvPr id="525" name="TextBox 6"/>
          <p:cNvSpPr/>
          <p:nvPr/>
        </p:nvSpPr>
        <p:spPr>
          <a:xfrm>
            <a:off x="762120" y="1447920"/>
            <a:ext cx="7543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anatomy of the Convergent Discovery style, the role of the teacher is to make subject matter decisions, including the target concept to be discovered, and to design the single question delivered to the learner. The role of the learner is to engage in reasoning, questioning, and logic to sequentially make connections about the content to discover the answers.</a:t>
            </a:r>
            <a:endParaRPr b="0" lang="en-US" sz="1800" spc="-1" strike="noStrike">
              <a:solidFill>
                <a:srgbClr val="000000"/>
              </a:solidFill>
              <a:latin typeface="Calibri"/>
            </a:endParaRPr>
          </a:p>
        </p:txBody>
      </p:sp>
      <p:sp>
        <p:nvSpPr>
          <p:cNvPr id="526" name="TextBox 2"/>
          <p:cNvSpPr/>
          <p:nvPr/>
        </p:nvSpPr>
        <p:spPr>
          <a:xfrm>
            <a:off x="2514600" y="3809880"/>
            <a:ext cx="4114800" cy="33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re-Impact...........................(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Impact.................................. (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ost-Impact........................ (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Box 2"/>
          <p:cNvSpPr/>
          <p:nvPr/>
        </p:nvSpPr>
        <p:spPr>
          <a:xfrm>
            <a:off x="762120" y="1676520"/>
            <a:ext cx="75438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Descriptio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Convergent Discovery style, the role of the teacher is to make all subject matter decisions, including the target concept to be discovered, and to design the single question delivered to the learner. The role of the learner is to engage in reasoning, questioning, and logic to sequentially make connections about the content to discover the answ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
          <p:cNvSpPr/>
          <p:nvPr/>
        </p:nvSpPr>
        <p:spPr>
          <a:xfrm>
            <a:off x="762120" y="1676520"/>
            <a:ext cx="75438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Convergent Discovery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iscover the single correct answer to a question or the single correct solution to a problem</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iscover the content sequence that, when logically linked, leads to the final respons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iscover a pattern for thinking about the content</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2"/>
          <p:cNvSpPr/>
          <p:nvPr/>
        </p:nvSpPr>
        <p:spPr>
          <a:xfrm>
            <a:off x="762120" y="1447920"/>
            <a:ext cx="75438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Convergent Discovery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ngage in convergent discovery - the production of the one correct respons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activate logic, reasoning, and sequenced problem solving skil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construct a specific sequence and search for the cognitive operations that produce the temporary heirarchy that will solve the problem</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xperience the cognitive and emotional exhilaration that accompanies the eureka experie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
  <dc:language>en-US</dc:language>
  <cp:lastModifiedBy>Drew</cp:lastModifiedBy>
  <dcterms:modified xsi:type="dcterms:W3CDTF">2013-07-30T20:28:26Z</dcterms:modified>
  <cp:revision>6</cp:revision>
  <dc:subject/>
  <dc:title>Command-Style A</dc:title>
</cp:coreProperties>
</file>