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F65B-EA23-46F8-B1C4-5D5269071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1C7A-4F2D-48F1-9B39-A0FCAF557F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D213-5020-47D9-A4A9-911CBEAC1C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8D26C3-0966-45C0-87DC-D84EE4A930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366C1F-347D-492E-B663-40462AB94C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6A1899-F472-4FED-A314-69489F9BAC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C4D17-58BD-44E7-BF6C-2071ECE554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EEB8A-0624-423E-9BF5-EAFC9839F6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8DF598-FE94-4B99-8DF0-8BC5B7C8BF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6A9683-77F7-495D-907B-6BE84257B1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151A67-3F22-4C42-ADB6-B0FAADA181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D94C75-F410-4AF9-8638-0E5A2AF263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E8E4F5-DF9C-4915-B92D-CD6E67E710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699350-945A-4A53-BC46-23A96CD06D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126C4C-0A7C-4BC3-ADCA-385F667C49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B3316F-4C8F-4A9B-9185-9415498DD0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45195C-A1A0-438B-8F69-F92F2126D3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68099A-8998-45DD-8FCF-7BD7662686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19107A-04F6-4012-9A16-A25784483A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6B7B93-AB7A-4B5E-9741-72C354334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D51F61-A094-4CF6-8306-573D36D83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B1D754-8363-427C-ADC6-D80E326273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5C49E0-F65B-4291-BD4F-04B42D60A1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FBB7D69-112D-4BC8-BC74-916D925B4E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E89E7A-CA84-4004-BAFB-E33D6F0FC7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364533-9621-44AB-8BC6-14A87FB9CF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7C8D50-083E-44BB-8712-863E5FA87A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C35601-6A1F-40FF-B710-F1FFD1AC8A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FA8F2C-EFA9-4705-A0D4-F2B699B842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38071E-80BD-43B6-B9CD-7428851C2A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868580-F4EE-4A93-B785-0AF745D066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7519B2-B710-412A-893E-26A8119F56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8F3431-D431-4C4F-8347-CB3E6F2A8B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9FC5A-6145-4DB9-9A52-8379722F9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71AD88-7C34-4025-8DF6-D313591528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9A168E-4369-4FB4-844D-ADB6FBD1E6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6AD3DB-16DF-450E-91AE-2FC81182D1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120510F-4316-4FB2-A8C1-2122D0EA21B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28BB92-2274-49B6-A831-9449A70B2D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969022-F103-4F75-97DF-5DE3EB4F6B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334B020-1F8D-4C27-8130-F2D0FA464E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22C544-65A4-4738-A367-64F48D8B06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226EE5-4772-44BC-9C2D-5F1B4F4315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328EF4A-DB7C-4DD7-84B4-00DB0F8C9E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A0702-C895-4ED0-B752-CEFF721EC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B1CBFA-3C17-46A9-8AB0-84CDC6B4BE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F2939B-C973-4355-BBDB-1E5C38B579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7206ED-6588-4188-A38F-B784836AD2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976533F-2CD2-4AE6-A22D-597A47E71C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A82ECF-D56E-43E5-9B1A-CCF3088046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07D6F-18E4-463F-A17B-727D5BF93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1EA2D-1A41-4846-846F-75CEC2600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EB9BF-71F3-4577-9E95-681623160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05FA6-5922-48E2-9D04-D14447480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FC73B-51C4-4461-B7DD-433787DC2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0FAD1-AE71-45E7-8527-036A4A0AB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2055F-ACE2-4819-AD13-EB52CD14C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3AC70-99F2-4513-8669-732B9CEA7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E3ADB-0741-438E-B7FF-46CD248E2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5B798-58F7-4F31-B779-B9F48BA76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C8E91B-36C7-4460-9606-6E5EA8CCFA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A237F-D4C9-4C31-8DD7-ADC598E8E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86C0E-A93C-41DF-8686-0F9DF0675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6DD59-A84E-4FCD-9AC3-2E2046748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3CD28-3451-4C9A-BF36-98CA8F671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1339C-2F9C-43A1-A90D-4A5788C8E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A79C5-ABC0-4FE9-A8F9-5B3128DD5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EF82B-F2E7-4D67-911B-DE84B6451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F61AB-40B9-47C4-AB1A-E381E63BE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89593-5B6D-4ACA-9A1A-283B0ED6E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7E8A1-5116-4ED9-B620-DD8186CEBB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EDBC46-16A4-410E-9AB4-792AB791E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076525-7B60-4D4B-B508-BD2BB0A8FF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671734-607E-4E96-BBD2-8E01DDAA00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6BA02-1E20-4412-A79C-C37FAF3D5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7FC75E-1026-4202-9505-900D52296E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2145B5-49E1-49E1-ACA8-8A7302613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1D33F1-F37D-4886-891D-A9DB6998F5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33E919-0FA8-4DCA-8ABC-8004455B17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93A1F-88D3-4F96-8364-0D29B008C4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C982E1-61D0-4D66-9447-9DB8F3834B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751274-9B76-45D8-A35C-B585C0563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9C0102-DB6B-47C1-A140-9DB0223172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34DF7D-EF5E-4B62-897A-746E5EB845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58992D-6088-465C-BF95-381AE97139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7C629-6B36-4557-A9B5-21475FF8D5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796740-E4BB-49C4-BBF0-870AD1A4FD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BB015-7911-4361-B431-DDD5C73242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BD7CA6-EAF7-4D0E-816E-8B0BA68263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3F4A82-464F-49B7-A9F8-A98EA71CD1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38EF4D-18FB-45A8-9AAD-1252526ADF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CD9EB-8DB6-4019-87FE-FB695FC9D6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7633F5-033B-4AC6-8C08-3B9D0121BF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8171C7-D4AC-4CCD-B60D-49AEE103FB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14B71C-02E4-4C8D-9E5B-E16CB59638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090DF0-D2EF-422F-BB67-66233B74D6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3F7F89-0056-4C05-BCF3-C3747EA88B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4605E5-06F0-41EA-9D97-22CBC31EFC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DD6AA3-8EB6-41EB-8834-EB7120A2F4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499850-F4A2-49EF-92F7-B045F356CE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94D438-B7AC-4DF4-A941-50CBAB430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1FB178-CED4-4B55-AD1B-9BD2363E1E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C3E755-E52D-4DF9-BB5E-08CEBC398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AD3178-FC6A-40B4-B81E-7AAB83D00C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28D8F2-E5D3-4F45-9959-F54B567E5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76F9CD-BEA2-44BB-9C3B-ED0A12A74F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E74E14-9680-49AF-BDF0-739960FA35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5BCCB5-23E8-4A8B-B306-710D18B96C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4AB591-617D-4832-99C8-70FF9DDB096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7ED883-664C-4C1C-B9D2-DBAA5983D8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1EE95D-73CB-4428-9AAF-EA17CA8758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5C5652-CF51-43E7-9DA3-0346DB9F95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7AC2FB-1834-4DCE-BFE8-989D9622F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1886BA-F623-439E-A12C-6086C1C1D9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CCF675-711A-4D3F-99D7-782BFBB718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AFB5BD-32A3-46CD-96F5-9147214AD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F72B8C-9716-41C8-906F-067FD4004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906278-5A71-4EA7-A124-4C1236C220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A00513-392C-454D-99C0-FE4671664D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1C6920-5064-4FC6-9FEB-3F3A721856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D67BA0-8F64-49B1-87C7-975A48CE16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9483DB-E3D9-4310-97E5-CE5C44D339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F572A3-73D2-4980-9A78-4FB5F5E619AB}"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Check</a:t>
            </a:r>
            <a:r>
              <a:rPr b="0" lang="en-US" sz="3200" spc="-1" strike="noStrike">
                <a:solidFill>
                  <a:srgbClr val="000000"/>
                </a:solidFill>
                <a:latin typeface="Arial"/>
                <a:ea typeface="Arial"/>
              </a:rPr>
              <a:t>-Style D</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Check</a:t>
            </a:r>
            <a:r>
              <a:rPr b="0" lang="en-US" sz="3200" spc="-1" strike="noStrike">
                <a:solidFill>
                  <a:srgbClr val="000000"/>
                </a:solidFill>
                <a:latin typeface="Arial"/>
                <a:ea typeface="Arial"/>
              </a:rPr>
              <a:t>-Style D</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6DC3-FD83-4088-BF29-9C194D525B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Check</a:t>
            </a:r>
            <a:r>
              <a:rPr b="0" lang="en-US" sz="3200" spc="-1" strike="noStrike">
                <a:solidFill>
                  <a:srgbClr val="000000"/>
                </a:solidFill>
                <a:latin typeface="Arial"/>
                <a:ea typeface="Arial"/>
              </a:rPr>
              <a:t>-Style D</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3F74-D287-45CA-A059-69A2EDB6A0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Check</a:t>
            </a:r>
            <a:r>
              <a:rPr b="0" lang="en-US" sz="3200" spc="-1" strike="noStrike">
                <a:solidFill>
                  <a:srgbClr val="000000"/>
                </a:solidFill>
                <a:latin typeface="Arial"/>
                <a:ea typeface="Arial"/>
              </a:rPr>
              <a:t>-Style D</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A56C-BACA-4E8B-84C9-A07555551F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Check</a:t>
            </a:r>
            <a:r>
              <a:rPr b="0" lang="en-US" sz="3200" spc="-1" strike="noStrike">
                <a:solidFill>
                  <a:srgbClr val="000000"/>
                </a:solidFill>
                <a:latin typeface="Arial"/>
                <a:ea typeface="Arial"/>
              </a:rPr>
              <a:t>-Style D</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8F6D-FAAA-4CCA-B160-E6A448507E0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Check</a:t>
            </a:r>
            <a:r>
              <a:rPr b="0" lang="en-US" sz="3200" spc="-1" strike="noStrike">
                <a:solidFill>
                  <a:srgbClr val="000000"/>
                </a:solidFill>
                <a:latin typeface="Arial"/>
                <a:ea typeface="Arial"/>
              </a:rPr>
              <a:t>-Style D</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2"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Check</a:t>
            </a:r>
            <a:r>
              <a:rPr b="0" lang="en-US" sz="3200" spc="-1" strike="noStrike">
                <a:solidFill>
                  <a:srgbClr val="000000"/>
                </a:solidFill>
                <a:latin typeface="Arial"/>
                <a:ea typeface="Arial"/>
              </a:rPr>
              <a:t>-Style D</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1B98D-8577-406A-9DCE-52C41822B7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Check</a:t>
            </a:r>
            <a:r>
              <a:rPr b="0" lang="en-US" sz="3200" spc="-1" strike="noStrike">
                <a:solidFill>
                  <a:srgbClr val="000000"/>
                </a:solidFill>
                <a:latin typeface="Arial"/>
                <a:ea typeface="Arial"/>
              </a:rPr>
              <a:t>-Style D</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3E36-2516-41B5-B1A9-6F44B3ABBA8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Check</a:t>
            </a:r>
            <a:r>
              <a:rPr b="0" lang="en-US" sz="3200" spc="-1" strike="noStrike">
                <a:solidFill>
                  <a:srgbClr val="000000"/>
                </a:solidFill>
                <a:latin typeface="Arial"/>
                <a:ea typeface="Arial"/>
              </a:rPr>
              <a:t>-Style D</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9992-240B-48AE-B396-1D3418B3B03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Check</a:t>
            </a:r>
            <a:r>
              <a:rPr b="0" lang="en-US" sz="3200" spc="-1" strike="noStrike">
                <a:solidFill>
                  <a:srgbClr val="000000"/>
                </a:solidFill>
                <a:latin typeface="Arial"/>
                <a:ea typeface="Arial"/>
              </a:rPr>
              <a:t>-Style D</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53E7-86EE-402F-A5A7-229E96226B7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Check</a:t>
            </a:r>
            <a:r>
              <a:rPr b="0" lang="en-US" sz="3200" spc="-1" strike="noStrike">
                <a:solidFill>
                  <a:srgbClr val="000000"/>
                </a:solidFill>
                <a:latin typeface="Arial"/>
                <a:ea typeface="Arial"/>
              </a:rPr>
              <a:t>-Style D</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BD2E5-D7D9-4EBB-B6EB-A2975AEF8E6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Check</a:t>
            </a:r>
            <a:r>
              <a:rPr b="0" lang="en-US" sz="3200" spc="-1" strike="noStrike">
                <a:solidFill>
                  <a:srgbClr val="000000"/>
                </a:solidFill>
                <a:latin typeface="Arial"/>
                <a:ea typeface="Arial"/>
              </a:rPr>
              <a:t>-Style D</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A295-F19D-42C7-B0FF-ABBA2B2B3A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
          <p:cNvPicPr/>
          <p:nvPr/>
        </p:nvPicPr>
        <p:blipFill>
          <a:blip r:embed="rId1"/>
          <a:stretch/>
        </p:blipFill>
        <p:spPr>
          <a:xfrm>
            <a:off x="0" y="990720"/>
            <a:ext cx="9144000" cy="60120"/>
          </a:xfrm>
          <a:prstGeom prst="rect">
            <a:avLst/>
          </a:prstGeom>
          <a:ln w="0">
            <a:noFill/>
          </a:ln>
        </p:spPr>
      </p:pic>
      <p:sp>
        <p:nvSpPr>
          <p:cNvPr id="522" name="TextBox 6"/>
          <p:cNvSpPr/>
          <p:nvPr/>
        </p:nvSpPr>
        <p:spPr>
          <a:xfrm>
            <a:off x="762120" y="1676520"/>
            <a:ext cx="7619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learning focus of the Self-Check style is individual practice of a memory/reproduction task and engagement in self-assessment that is guided by specific teacher prepared criteria.</a:t>
            </a:r>
            <a:endParaRPr b="0" lang="en-US" sz="1800" spc="-1" strike="noStrike">
              <a:solidFill>
                <a:srgbClr val="000000"/>
              </a:solidFill>
              <a:latin typeface="Calibri"/>
            </a:endParaRPr>
          </a:p>
        </p:txBody>
      </p:sp>
      <p:pic>
        <p:nvPicPr>
          <p:cNvPr id="523" name="Picture 3" descr=""/>
          <p:cNvPicPr/>
          <p:nvPr/>
        </p:nvPicPr>
        <p:blipFill>
          <a:blip r:embed="rId2"/>
          <a:stretch/>
        </p:blipFill>
        <p:spPr>
          <a:xfrm>
            <a:off x="776160" y="3657600"/>
            <a:ext cx="7591680" cy="14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tretch/>
        </p:blipFill>
        <p:spPr>
          <a:xfrm>
            <a:off x="0" y="990720"/>
            <a:ext cx="9144000" cy="60120"/>
          </a:xfrm>
          <a:prstGeom prst="rect">
            <a:avLst/>
          </a:prstGeom>
          <a:ln w="0">
            <a:noFill/>
          </a:ln>
        </p:spPr>
      </p:pic>
      <p:sp>
        <p:nvSpPr>
          <p:cNvPr id="525" name="TextBox 6"/>
          <p:cNvSpPr/>
          <p:nvPr/>
        </p:nvSpPr>
        <p:spPr>
          <a:xfrm>
            <a:off x="762120" y="167652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anatomy of the Self-Check style, the role of the teacher is to make all subject matter, criteria, and logistical decisions. The role of the learners is to work independently and to check their own performances against the criteria prepared by the teacher.</a:t>
            </a:r>
            <a:endParaRPr b="0" lang="en-US" sz="1800" spc="-1" strike="noStrike">
              <a:solidFill>
                <a:srgbClr val="000000"/>
              </a:solidFill>
              <a:latin typeface="Calibri"/>
            </a:endParaRPr>
          </a:p>
        </p:txBody>
      </p:sp>
      <p:sp>
        <p:nvSpPr>
          <p:cNvPr id="526" name="TextBox 2"/>
          <p:cNvSpPr/>
          <p:nvPr/>
        </p:nvSpPr>
        <p:spPr>
          <a:xfrm>
            <a:off x="2514600" y="3657600"/>
            <a:ext cx="4114800" cy="33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re-Impact...........................(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Impact.................................. (Learn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ost-Impact........................ (Learn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Box 2"/>
          <p:cNvSpPr/>
          <p:nvPr/>
        </p:nvSpPr>
        <p:spPr>
          <a:xfrm>
            <a:off x="762120" y="1676520"/>
            <a:ext cx="7543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Descriptio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Self-Check style, the role of the teacher is to make all subject matter, criteria, and logistical decisions. The role of the learners is to work independently and to check their own performances against the criteria prepared by the teach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
          <p:cNvSpPr/>
          <p:nvPr/>
        </p:nvSpPr>
        <p:spPr>
          <a:xfrm>
            <a:off x="762120" y="1676520"/>
            <a:ext cx="75438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Self-Check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velop kinesthetic awareness in physical performance by individually practicing and assessing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gain independence in performing the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actice the sequence intrinsic to assessment and feedback skil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be able to correct errors in one's task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increase active time-on-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master the content leading to automatic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2"/>
          <p:cNvSpPr/>
          <p:nvPr/>
        </p:nvSpPr>
        <p:spPr>
          <a:xfrm>
            <a:off x="762120" y="1447920"/>
            <a:ext cx="7543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Practice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actice communication skills (verbal behavior) that enhance a reciprocal relationship</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xpand socialization and interaction skil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learn to give and receive feedback from peer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velop social bonds that go beyond the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trust interacting/socializing with other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xperience the rewards (feelings) of seeing one's peer succeed</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velop patience, tolerance, and acceptance of others' differences in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velop empath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learn social manner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
  <dc:language>en-US</dc:language>
  <cp:lastModifiedBy>Drew</cp:lastModifiedBy>
  <dcterms:modified xsi:type="dcterms:W3CDTF">2013-07-30T20:27:43Z</dcterms:modified>
  <cp:revision>6</cp:revision>
  <dc:subject/>
  <dc:title>Command-Style A</dc:title>
</cp:coreProperties>
</file>